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0AE-34D7-4010-97D9-ADFDD9D2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95A-C76B-4C71-82AB-4C9DEF36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A9A-67D9-4897-B3BD-82761A2F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B7E-3E59-4BAF-B5E2-2419786D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2AA-8A36-4F7A-AFF8-25D10EBF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941-3BB3-4991-B762-62A52FF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DD4-4908-4CF1-A204-516FD0E4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CAD-8FC9-4E69-9B41-D52DB93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FE8-7FD5-48F9-AD53-ACD017E2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8F2-B89A-46F9-AFBE-23BAD4F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BC3-B4A7-4579-9D71-6B8D84B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C54-6491-40CC-BC3B-FE6D1B4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E9D5-E1E0-43A1-97BC-D588D183E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3411360" y="1302840"/>
            <a:ext cx="180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411360" y="495360"/>
            <a:ext cx="808200" cy="80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9560" y="495360"/>
            <a:ext cx="1297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16640" y="495360"/>
            <a:ext cx="811080" cy="80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7720" y="1303200"/>
            <a:ext cx="180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11360" y="3570120"/>
            <a:ext cx="2916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73360" y="1303200"/>
            <a:ext cx="1800" cy="21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573360" y="655200"/>
            <a:ext cx="6494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22800" y="65556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18080" y="655560"/>
            <a:ext cx="6494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67520" y="1303200"/>
            <a:ext cx="1440" cy="21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73360" y="3409920"/>
            <a:ext cx="259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73360" y="1303200"/>
            <a:ext cx="259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3360" y="1303200"/>
            <a:ext cx="2594160" cy="21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73360" y="1303200"/>
            <a:ext cx="2594160" cy="21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1000" y="5189400"/>
            <a:ext cx="7451640" cy="97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1320" y="5189400"/>
            <a:ext cx="14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3480" y="5189400"/>
            <a:ext cx="180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0800" y="5189400"/>
            <a:ext cx="14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7880" y="5189400"/>
            <a:ext cx="14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41680" y="6300720"/>
            <a:ext cx="6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rb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07280" y="6454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63160" y="31104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ugbrüc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7040" y="3570120"/>
            <a:ext cx="6316560" cy="9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60680" y="1300320"/>
            <a:ext cx="5868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21"/>
                </a:moveTo>
                <a:lnTo>
                  <a:pt x="36" y="27"/>
                </a:lnTo>
                <a:lnTo>
                  <a:pt x="32" y="32"/>
                </a:lnTo>
                <a:lnTo>
                  <a:pt x="28" y="38"/>
                </a:lnTo>
                <a:lnTo>
                  <a:pt x="23" y="40"/>
                </a:lnTo>
                <a:lnTo>
                  <a:pt x="16" y="41"/>
                </a:lnTo>
                <a:lnTo>
                  <a:pt x="11" y="39"/>
                </a:lnTo>
                <a:lnTo>
                  <a:pt x="5" y="36"/>
                </a:lnTo>
                <a:lnTo>
                  <a:pt x="2" y="30"/>
                </a:lnTo>
                <a:lnTo>
                  <a:pt x="0" y="24"/>
                </a:lnTo>
                <a:lnTo>
                  <a:pt x="0" y="17"/>
                </a:lnTo>
                <a:lnTo>
                  <a:pt x="2" y="11"/>
                </a:lnTo>
                <a:lnTo>
                  <a:pt x="5" y="6"/>
                </a:lnTo>
                <a:lnTo>
                  <a:pt x="11" y="1"/>
                </a:lnTo>
                <a:lnTo>
                  <a:pt x="16" y="0"/>
                </a:lnTo>
                <a:lnTo>
                  <a:pt x="23" y="0"/>
                </a:lnTo>
                <a:lnTo>
                  <a:pt x="28" y="3"/>
                </a:lnTo>
                <a:lnTo>
                  <a:pt x="32" y="8"/>
                </a:lnTo>
                <a:lnTo>
                  <a:pt x="36" y="14"/>
                </a:lnTo>
                <a:lnTo>
                  <a:pt x="37" y="21"/>
                </a:lnTo>
                <a:lnTo>
                  <a:pt x="37" y="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18280" y="1292400"/>
            <a:ext cx="57240" cy="64800"/>
          </a:xfrm>
          <a:custGeom>
            <a:avLst/>
            <a:gdLst/>
            <a:ahLst/>
            <a:rect l="l" t="t" r="r" b="b"/>
            <a:pathLst>
              <a:path w="36" h="41">
                <a:moveTo>
                  <a:pt x="36" y="20"/>
                </a:moveTo>
                <a:lnTo>
                  <a:pt x="35" y="27"/>
                </a:lnTo>
                <a:lnTo>
                  <a:pt x="32" y="32"/>
                </a:lnTo>
                <a:lnTo>
                  <a:pt x="28" y="37"/>
                </a:lnTo>
                <a:lnTo>
                  <a:pt x="23" y="40"/>
                </a:lnTo>
                <a:lnTo>
                  <a:pt x="16" y="41"/>
                </a:lnTo>
                <a:lnTo>
                  <a:pt x="11" y="39"/>
                </a:lnTo>
                <a:lnTo>
                  <a:pt x="5" y="35"/>
                </a:lnTo>
                <a:lnTo>
                  <a:pt x="1" y="30"/>
                </a:lnTo>
                <a:lnTo>
                  <a:pt x="0" y="23"/>
                </a:lnTo>
                <a:lnTo>
                  <a:pt x="0" y="17"/>
                </a:lnTo>
                <a:lnTo>
                  <a:pt x="1" y="11"/>
                </a:lnTo>
                <a:lnTo>
                  <a:pt x="5" y="5"/>
                </a:lnTo>
                <a:lnTo>
                  <a:pt x="11" y="1"/>
                </a:lnTo>
                <a:lnTo>
                  <a:pt x="16" y="0"/>
                </a:lnTo>
                <a:lnTo>
                  <a:pt x="23" y="0"/>
                </a:lnTo>
                <a:lnTo>
                  <a:pt x="28" y="3"/>
                </a:lnTo>
                <a:lnTo>
                  <a:pt x="32" y="7"/>
                </a:lnTo>
                <a:lnTo>
                  <a:pt x="35" y="14"/>
                </a:lnTo>
                <a:lnTo>
                  <a:pt x="36" y="20"/>
                </a:lnTo>
                <a:lnTo>
                  <a:pt x="36" y="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5240" y="1155600"/>
            <a:ext cx="103320" cy="322200"/>
          </a:xfrm>
          <a:custGeom>
            <a:avLst/>
            <a:gdLst/>
            <a:ahLst/>
            <a:rect l="l" t="t" r="r" b="b"/>
            <a:pathLst>
              <a:path w="65" h="203">
                <a:moveTo>
                  <a:pt x="0" y="102"/>
                </a:moveTo>
                <a:lnTo>
                  <a:pt x="51" y="0"/>
                </a:lnTo>
                <a:lnTo>
                  <a:pt x="51" y="51"/>
                </a:lnTo>
                <a:lnTo>
                  <a:pt x="65" y="51"/>
                </a:lnTo>
                <a:lnTo>
                  <a:pt x="65" y="153"/>
                </a:lnTo>
                <a:lnTo>
                  <a:pt x="51" y="153"/>
                </a:lnTo>
                <a:lnTo>
                  <a:pt x="51" y="203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1880" y="1204920"/>
            <a:ext cx="759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Times New Roman"/>
              </a:rPr>
              <a:t>Löcher fur das Zugsei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33800" y="128412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einstech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2960" y="1165320"/>
            <a:ext cx="104760" cy="322200"/>
          </a:xfrm>
          <a:custGeom>
            <a:avLst/>
            <a:gdLst/>
            <a:ahLst/>
            <a:rect l="l" t="t" r="r" b="b"/>
            <a:pathLst>
              <a:path w="66" h="203">
                <a:moveTo>
                  <a:pt x="66" y="101"/>
                </a:moveTo>
                <a:lnTo>
                  <a:pt x="16" y="203"/>
                </a:lnTo>
                <a:lnTo>
                  <a:pt x="16" y="152"/>
                </a:lnTo>
                <a:lnTo>
                  <a:pt x="2" y="152"/>
                </a:lnTo>
                <a:lnTo>
                  <a:pt x="0" y="51"/>
                </a:lnTo>
                <a:lnTo>
                  <a:pt x="14" y="51"/>
                </a:lnTo>
                <a:lnTo>
                  <a:pt x="14" y="0"/>
                </a:lnTo>
                <a:lnTo>
                  <a:pt x="66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398520" y="2025720"/>
            <a:ext cx="7937280" cy="333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27040" y="5513400"/>
            <a:ext cx="7713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318320" y="5956200"/>
            <a:ext cx="451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us 4, 2 mal ausdrucken (Dac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0200" y="5351400"/>
            <a:ext cx="968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8206920" y="5351400"/>
            <a:ext cx="12852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268200" y="2016000"/>
            <a:ext cx="13032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68200" y="2081160"/>
            <a:ext cx="1800" cy="314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68200" y="5189400"/>
            <a:ext cx="13032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8335800" y="5221080"/>
            <a:ext cx="9864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8434440" y="2987280"/>
            <a:ext cx="1440" cy="223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8434440" y="2114280"/>
            <a:ext cx="144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 flipV="1">
            <a:off x="8335800" y="2049120"/>
            <a:ext cx="986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041480" y="1311120"/>
            <a:ext cx="6242040" cy="448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79480" y="1476360"/>
            <a:ext cx="1440" cy="416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79480" y="5637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42920" y="5802480"/>
            <a:ext cx="1652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08160" y="5969160"/>
            <a:ext cx="591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958080" y="14763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121520" y="16430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958080" y="18097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121520" y="19764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958080" y="21416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121520" y="23097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958080" y="24750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121520" y="2641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958080" y="28065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21520" y="297504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958080" y="3139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21520" y="330660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958080" y="347328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121520" y="3639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958080" y="380520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21520" y="3973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958080" y="41385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121520" y="43052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958080" y="4471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121520" y="46386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958080" y="48038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121520" y="4971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958080" y="51372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121520" y="53038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58080" y="54687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42920" y="563724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42920" y="54687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042920" y="53038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042920" y="51372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42920" y="4971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042920" y="48038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42920" y="46386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042920" y="4471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43052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042920" y="41385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042920" y="3973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042920" y="380520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042920" y="3639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042920" y="347328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42920" y="330660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042920" y="3139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042920" y="297504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042920" y="28065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042920" y="2641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042920" y="24750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42920" y="23097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042920" y="21416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042920" y="19764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042920" y="18097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042920" y="16430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042920" y="1476360"/>
            <a:ext cx="32868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22960" y="2811600"/>
            <a:ext cx="76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Kapel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80240" y="3009960"/>
            <a:ext cx="145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 mal ausdruc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742880" y="3394080"/>
            <a:ext cx="132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n gestrichelt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11000" y="3586320"/>
            <a:ext cx="98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chteck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138160" y="377208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fei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033040" y="396252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nkleb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7286760" y="5637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1464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3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90520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5" y="53"/>
                </a:lnTo>
                <a:lnTo>
                  <a:pt x="11" y="64"/>
                </a:lnTo>
                <a:lnTo>
                  <a:pt x="8" y="77"/>
                </a:lnTo>
                <a:lnTo>
                  <a:pt x="5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90520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903400" y="3024360"/>
            <a:ext cx="222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85120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5120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1608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5" y="134"/>
                </a:lnTo>
                <a:lnTo>
                  <a:pt x="91" y="114"/>
                </a:lnTo>
                <a:lnTo>
                  <a:pt x="85" y="96"/>
                </a:lnTo>
                <a:lnTo>
                  <a:pt x="80" y="80"/>
                </a:lnTo>
                <a:lnTo>
                  <a:pt x="73" y="64"/>
                </a:lnTo>
                <a:lnTo>
                  <a:pt x="66" y="50"/>
                </a:lnTo>
                <a:lnTo>
                  <a:pt x="57" y="37"/>
                </a:lnTo>
                <a:lnTo>
                  <a:pt x="49" y="25"/>
                </a:lnTo>
                <a:lnTo>
                  <a:pt x="39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5120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3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7" y="96"/>
                </a:lnTo>
                <a:lnTo>
                  <a:pt x="12" y="114"/>
                </a:lnTo>
                <a:lnTo>
                  <a:pt x="8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12588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18132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12588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8596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3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7652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5" y="53"/>
                </a:lnTo>
                <a:lnTo>
                  <a:pt x="11" y="64"/>
                </a:lnTo>
                <a:lnTo>
                  <a:pt x="8" y="77"/>
                </a:lnTo>
                <a:lnTo>
                  <a:pt x="5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57652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257472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52252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52252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68776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5" y="134"/>
                </a:lnTo>
                <a:lnTo>
                  <a:pt x="91" y="114"/>
                </a:lnTo>
                <a:lnTo>
                  <a:pt x="85" y="96"/>
                </a:lnTo>
                <a:lnTo>
                  <a:pt x="80" y="80"/>
                </a:lnTo>
                <a:lnTo>
                  <a:pt x="73" y="64"/>
                </a:lnTo>
                <a:lnTo>
                  <a:pt x="66" y="50"/>
                </a:lnTo>
                <a:lnTo>
                  <a:pt x="57" y="37"/>
                </a:lnTo>
                <a:lnTo>
                  <a:pt x="49" y="25"/>
                </a:lnTo>
                <a:lnTo>
                  <a:pt x="39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52252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79720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2852640" y="2325600"/>
            <a:ext cx="180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79720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928960" y="4303800"/>
            <a:ext cx="274680" cy="333360"/>
          </a:xfrm>
          <a:custGeom>
            <a:avLst/>
            <a:gdLst/>
            <a:ahLst/>
            <a:rect l="l" t="t" r="r" b="b"/>
            <a:pathLst>
              <a:path w="173" h="210">
                <a:moveTo>
                  <a:pt x="173" y="210"/>
                </a:moveTo>
                <a:lnTo>
                  <a:pt x="172" y="188"/>
                </a:lnTo>
                <a:lnTo>
                  <a:pt x="169" y="168"/>
                </a:lnTo>
                <a:lnTo>
                  <a:pt x="164" y="148"/>
                </a:lnTo>
                <a:lnTo>
                  <a:pt x="159" y="129"/>
                </a:lnTo>
                <a:lnTo>
                  <a:pt x="151" y="110"/>
                </a:lnTo>
                <a:lnTo>
                  <a:pt x="143" y="92"/>
                </a:lnTo>
                <a:lnTo>
                  <a:pt x="133" y="77"/>
                </a:lnTo>
                <a:lnTo>
                  <a:pt x="122" y="61"/>
                </a:lnTo>
                <a:lnTo>
                  <a:pt x="109" y="48"/>
                </a:lnTo>
                <a:lnTo>
                  <a:pt x="95" y="36"/>
                </a:lnTo>
                <a:lnTo>
                  <a:pt x="81" y="26"/>
                </a:lnTo>
                <a:lnTo>
                  <a:pt x="66" y="17"/>
                </a:lnTo>
                <a:lnTo>
                  <a:pt x="51" y="9"/>
                </a:lnTo>
                <a:lnTo>
                  <a:pt x="34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655720" y="4303800"/>
            <a:ext cx="273240" cy="333360"/>
          </a:xfrm>
          <a:custGeom>
            <a:avLst/>
            <a:gdLst/>
            <a:ahLst/>
            <a:rect l="l" t="t" r="r" b="b"/>
            <a:pathLst>
              <a:path w="172" h="210">
                <a:moveTo>
                  <a:pt x="172" y="0"/>
                </a:moveTo>
                <a:lnTo>
                  <a:pt x="155" y="0"/>
                </a:lnTo>
                <a:lnTo>
                  <a:pt x="137" y="4"/>
                </a:lnTo>
                <a:lnTo>
                  <a:pt x="121" y="9"/>
                </a:lnTo>
                <a:lnTo>
                  <a:pt x="105" y="17"/>
                </a:lnTo>
                <a:lnTo>
                  <a:pt x="90" y="26"/>
                </a:lnTo>
                <a:lnTo>
                  <a:pt x="76" y="36"/>
                </a:lnTo>
                <a:lnTo>
                  <a:pt x="63" y="48"/>
                </a:lnTo>
                <a:lnTo>
                  <a:pt x="51" y="61"/>
                </a:lnTo>
                <a:lnTo>
                  <a:pt x="40" y="77"/>
                </a:lnTo>
                <a:lnTo>
                  <a:pt x="30" y="92"/>
                </a:lnTo>
                <a:lnTo>
                  <a:pt x="21" y="110"/>
                </a:lnTo>
                <a:lnTo>
                  <a:pt x="13" y="129"/>
                </a:lnTo>
                <a:lnTo>
                  <a:pt x="8" y="148"/>
                </a:lnTo>
                <a:lnTo>
                  <a:pt x="4" y="168"/>
                </a:lnTo>
                <a:lnTo>
                  <a:pt x="0" y="188"/>
                </a:lnTo>
                <a:lnTo>
                  <a:pt x="0" y="2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655720" y="4638600"/>
            <a:ext cx="1800" cy="99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2654280" y="5635800"/>
            <a:ext cx="549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522520" y="4638600"/>
            <a:ext cx="1440" cy="116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522520" y="5802480"/>
            <a:ext cx="820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930400" y="4138560"/>
            <a:ext cx="412920" cy="498600"/>
          </a:xfrm>
          <a:custGeom>
            <a:avLst/>
            <a:gdLst/>
            <a:ahLst/>
            <a:rect l="l" t="t" r="r" b="b"/>
            <a:pathLst>
              <a:path w="260" h="314">
                <a:moveTo>
                  <a:pt x="260" y="314"/>
                </a:moveTo>
                <a:lnTo>
                  <a:pt x="258" y="282"/>
                </a:lnTo>
                <a:lnTo>
                  <a:pt x="254" y="251"/>
                </a:lnTo>
                <a:lnTo>
                  <a:pt x="248" y="221"/>
                </a:lnTo>
                <a:lnTo>
                  <a:pt x="239" y="192"/>
                </a:lnTo>
                <a:lnTo>
                  <a:pt x="228" y="164"/>
                </a:lnTo>
                <a:lnTo>
                  <a:pt x="215" y="139"/>
                </a:lnTo>
                <a:lnTo>
                  <a:pt x="200" y="114"/>
                </a:lnTo>
                <a:lnTo>
                  <a:pt x="183" y="92"/>
                </a:lnTo>
                <a:lnTo>
                  <a:pt x="165" y="72"/>
                </a:lnTo>
                <a:lnTo>
                  <a:pt x="145" y="53"/>
                </a:lnTo>
                <a:lnTo>
                  <a:pt x="123" y="38"/>
                </a:lnTo>
                <a:lnTo>
                  <a:pt x="100" y="24"/>
                </a:lnTo>
                <a:lnTo>
                  <a:pt x="77" y="13"/>
                </a:lnTo>
                <a:lnTo>
                  <a:pt x="52" y="5"/>
                </a:lnTo>
                <a:lnTo>
                  <a:pt x="27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522520" y="4138560"/>
            <a:ext cx="407880" cy="498600"/>
          </a:xfrm>
          <a:custGeom>
            <a:avLst/>
            <a:gdLst/>
            <a:ahLst/>
            <a:rect l="l" t="t" r="r" b="b"/>
            <a:pathLst>
              <a:path w="257" h="314">
                <a:moveTo>
                  <a:pt x="257" y="0"/>
                </a:moveTo>
                <a:lnTo>
                  <a:pt x="231" y="1"/>
                </a:lnTo>
                <a:lnTo>
                  <a:pt x="205" y="5"/>
                </a:lnTo>
                <a:lnTo>
                  <a:pt x="181" y="13"/>
                </a:lnTo>
                <a:lnTo>
                  <a:pt x="157" y="24"/>
                </a:lnTo>
                <a:lnTo>
                  <a:pt x="135" y="38"/>
                </a:lnTo>
                <a:lnTo>
                  <a:pt x="113" y="53"/>
                </a:lnTo>
                <a:lnTo>
                  <a:pt x="93" y="72"/>
                </a:lnTo>
                <a:lnTo>
                  <a:pt x="76" y="92"/>
                </a:lnTo>
                <a:lnTo>
                  <a:pt x="58" y="114"/>
                </a:lnTo>
                <a:lnTo>
                  <a:pt x="44" y="139"/>
                </a:lnTo>
                <a:lnTo>
                  <a:pt x="31" y="164"/>
                </a:lnTo>
                <a:lnTo>
                  <a:pt x="20" y="192"/>
                </a:lnTo>
                <a:lnTo>
                  <a:pt x="11" y="221"/>
                </a:lnTo>
                <a:lnTo>
                  <a:pt x="4" y="251"/>
                </a:lnTo>
                <a:lnTo>
                  <a:pt x="1" y="282"/>
                </a:lnTo>
                <a:lnTo>
                  <a:pt x="0" y="3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3640" y="4805280"/>
            <a:ext cx="1440" cy="83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343320" y="4636800"/>
            <a:ext cx="1440" cy="116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3203640" y="4638240"/>
            <a:ext cx="1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042920" y="131112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121520" y="131112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640480" y="2092320"/>
            <a:ext cx="11088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530680" y="2092320"/>
            <a:ext cx="10980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30680" y="2327400"/>
            <a:ext cx="180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52888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47704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7704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64192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6" y="134"/>
                </a:lnTo>
                <a:lnTo>
                  <a:pt x="91" y="114"/>
                </a:lnTo>
                <a:lnTo>
                  <a:pt x="86" y="96"/>
                </a:lnTo>
                <a:lnTo>
                  <a:pt x="80" y="80"/>
                </a:lnTo>
                <a:lnTo>
                  <a:pt x="74" y="64"/>
                </a:lnTo>
                <a:lnTo>
                  <a:pt x="66" y="50"/>
                </a:lnTo>
                <a:lnTo>
                  <a:pt x="57" y="37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47704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5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51360" y="2443320"/>
            <a:ext cx="180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80716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751360" y="2325240"/>
            <a:ext cx="180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31180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2" y="77"/>
                </a:lnTo>
                <a:lnTo>
                  <a:pt x="57" y="64"/>
                </a:lnTo>
                <a:lnTo>
                  <a:pt x="54" y="53"/>
                </a:lnTo>
                <a:lnTo>
                  <a:pt x="50" y="43"/>
                </a:lnTo>
                <a:lnTo>
                  <a:pt x="44" y="33"/>
                </a:lnTo>
                <a:lnTo>
                  <a:pt x="39" y="25"/>
                </a:lnTo>
                <a:lnTo>
                  <a:pt x="33" y="18"/>
                </a:lnTo>
                <a:lnTo>
                  <a:pt x="27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20236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20236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5200560" y="3024360"/>
            <a:ext cx="222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14836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14836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31324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6" y="134"/>
                </a:lnTo>
                <a:lnTo>
                  <a:pt x="91" y="114"/>
                </a:lnTo>
                <a:lnTo>
                  <a:pt x="86" y="96"/>
                </a:lnTo>
                <a:lnTo>
                  <a:pt x="80" y="80"/>
                </a:lnTo>
                <a:lnTo>
                  <a:pt x="74" y="64"/>
                </a:lnTo>
                <a:lnTo>
                  <a:pt x="66" y="50"/>
                </a:lnTo>
                <a:lnTo>
                  <a:pt x="57" y="37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14836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8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5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2304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47848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42304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84920" y="2092320"/>
            <a:ext cx="11088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2" y="77"/>
                </a:lnTo>
                <a:lnTo>
                  <a:pt x="57" y="64"/>
                </a:lnTo>
                <a:lnTo>
                  <a:pt x="54" y="53"/>
                </a:lnTo>
                <a:lnTo>
                  <a:pt x="50" y="43"/>
                </a:lnTo>
                <a:lnTo>
                  <a:pt x="44" y="33"/>
                </a:lnTo>
                <a:lnTo>
                  <a:pt x="39" y="25"/>
                </a:lnTo>
                <a:lnTo>
                  <a:pt x="33" y="18"/>
                </a:lnTo>
                <a:lnTo>
                  <a:pt x="27" y="11"/>
                </a:lnTo>
                <a:lnTo>
                  <a:pt x="20" y="7"/>
                </a:lnTo>
                <a:lnTo>
                  <a:pt x="14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75120" y="2092320"/>
            <a:ext cx="10980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9" y="7"/>
                </a:lnTo>
                <a:lnTo>
                  <a:pt x="42" y="11"/>
                </a:lnTo>
                <a:lnTo>
                  <a:pt x="37" y="18"/>
                </a:lnTo>
                <a:lnTo>
                  <a:pt x="31" y="25"/>
                </a:lnTo>
                <a:lnTo>
                  <a:pt x="26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3" y="103"/>
                </a:lnTo>
                <a:lnTo>
                  <a:pt x="2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75120" y="2327400"/>
            <a:ext cx="180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87332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2292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82292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8780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2" y="196"/>
                </a:lnTo>
                <a:lnTo>
                  <a:pt x="101" y="175"/>
                </a:lnTo>
                <a:lnTo>
                  <a:pt x="98" y="154"/>
                </a:lnTo>
                <a:lnTo>
                  <a:pt x="95" y="134"/>
                </a:lnTo>
                <a:lnTo>
                  <a:pt x="90" y="114"/>
                </a:lnTo>
                <a:lnTo>
                  <a:pt x="85" y="96"/>
                </a:lnTo>
                <a:lnTo>
                  <a:pt x="79" y="80"/>
                </a:lnTo>
                <a:lnTo>
                  <a:pt x="73" y="64"/>
                </a:lnTo>
                <a:lnTo>
                  <a:pt x="65" y="50"/>
                </a:lnTo>
                <a:lnTo>
                  <a:pt x="56" y="37"/>
                </a:lnTo>
                <a:lnTo>
                  <a:pt x="49" y="25"/>
                </a:lnTo>
                <a:lnTo>
                  <a:pt x="39" y="17"/>
                </a:lnTo>
                <a:lnTo>
                  <a:pt x="30" y="9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82292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3" y="17"/>
                </a:lnTo>
                <a:lnTo>
                  <a:pt x="53" y="25"/>
                </a:lnTo>
                <a:lnTo>
                  <a:pt x="45" y="37"/>
                </a:lnTo>
                <a:lnTo>
                  <a:pt x="37" y="50"/>
                </a:lnTo>
                <a:lnTo>
                  <a:pt x="30" y="64"/>
                </a:lnTo>
                <a:lnTo>
                  <a:pt x="22" y="80"/>
                </a:lnTo>
                <a:lnTo>
                  <a:pt x="17" y="96"/>
                </a:lnTo>
                <a:lnTo>
                  <a:pt x="12" y="114"/>
                </a:lnTo>
                <a:lnTo>
                  <a:pt x="7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095800" y="2443320"/>
            <a:ext cx="180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15304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5095800" y="2325240"/>
            <a:ext cx="180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7121520" y="5802120"/>
            <a:ext cx="163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7450200" y="1476360"/>
            <a:ext cx="1440" cy="416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flipV="1">
            <a:off x="7284600" y="1310760"/>
            <a:ext cx="1652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79480" y="131076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042920" y="1142640"/>
            <a:ext cx="1652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71600" y="1143000"/>
            <a:ext cx="5749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21520" y="1143000"/>
            <a:ext cx="163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1208160" y="1143000"/>
            <a:ext cx="16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700280" y="3139920"/>
            <a:ext cx="32868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00680" y="3139920"/>
            <a:ext cx="32832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299280" y="3139920"/>
            <a:ext cx="32868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121520" y="5637240"/>
            <a:ext cx="1634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1041480" y="1311120"/>
            <a:ext cx="6242040" cy="448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79480" y="1476360"/>
            <a:ext cx="1440" cy="416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79480" y="5637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042920" y="5802480"/>
            <a:ext cx="1652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8160" y="5969160"/>
            <a:ext cx="591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58080" y="14763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121520" y="16430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958080" y="18097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121520" y="19764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58080" y="21416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121520" y="23097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958080" y="24750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21520" y="2641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958080" y="28065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121520" y="297504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958080" y="3139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121520" y="330660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58080" y="347328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21520" y="3639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958080" y="380520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121520" y="3973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958080" y="41385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121520" y="43052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958080" y="4471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21520" y="46386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958080" y="48038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121520" y="4971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958080" y="51372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21520" y="53038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958080" y="54687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42920" y="563724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42920" y="54687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042920" y="53038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042920" y="51372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42920" y="4971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42920" y="48038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42920" y="46386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42920" y="4471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042920" y="43052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042920" y="413856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042920" y="3973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42920" y="380520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6399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42920" y="347328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042920" y="330660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042920" y="31399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042920" y="297504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42920" y="2806560"/>
            <a:ext cx="328680" cy="168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042920" y="2641680"/>
            <a:ext cx="165240" cy="16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042920" y="247500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042920" y="230976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042920" y="2141640"/>
            <a:ext cx="328680" cy="168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042920" y="197640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2920" y="1809720"/>
            <a:ext cx="32868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042920" y="1643040"/>
            <a:ext cx="165240" cy="1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042920" y="1476360"/>
            <a:ext cx="32868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022960" y="2811600"/>
            <a:ext cx="76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Kapel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80240" y="3009960"/>
            <a:ext cx="145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 mal ausdruc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742880" y="3394080"/>
            <a:ext cx="132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n gestrichelt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911000" y="3586320"/>
            <a:ext cx="98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chteck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138160" y="377208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fei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033040" y="396252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nkleb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7286760" y="5637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1464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3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90520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5" y="53"/>
                </a:lnTo>
                <a:lnTo>
                  <a:pt x="11" y="64"/>
                </a:lnTo>
                <a:lnTo>
                  <a:pt x="8" y="77"/>
                </a:lnTo>
                <a:lnTo>
                  <a:pt x="5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0520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2903400" y="3024360"/>
            <a:ext cx="222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85120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85120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01608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5" y="134"/>
                </a:lnTo>
                <a:lnTo>
                  <a:pt x="91" y="114"/>
                </a:lnTo>
                <a:lnTo>
                  <a:pt x="85" y="96"/>
                </a:lnTo>
                <a:lnTo>
                  <a:pt x="80" y="80"/>
                </a:lnTo>
                <a:lnTo>
                  <a:pt x="73" y="64"/>
                </a:lnTo>
                <a:lnTo>
                  <a:pt x="66" y="50"/>
                </a:lnTo>
                <a:lnTo>
                  <a:pt x="57" y="37"/>
                </a:lnTo>
                <a:lnTo>
                  <a:pt x="49" y="25"/>
                </a:lnTo>
                <a:lnTo>
                  <a:pt x="39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5120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3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7" y="96"/>
                </a:lnTo>
                <a:lnTo>
                  <a:pt x="12" y="114"/>
                </a:lnTo>
                <a:lnTo>
                  <a:pt x="8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12588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318132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312588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68596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3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7652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5" y="53"/>
                </a:lnTo>
                <a:lnTo>
                  <a:pt x="11" y="64"/>
                </a:lnTo>
                <a:lnTo>
                  <a:pt x="8" y="77"/>
                </a:lnTo>
                <a:lnTo>
                  <a:pt x="5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57652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57472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52252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52252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68776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5" y="134"/>
                </a:lnTo>
                <a:lnTo>
                  <a:pt x="91" y="114"/>
                </a:lnTo>
                <a:lnTo>
                  <a:pt x="85" y="96"/>
                </a:lnTo>
                <a:lnTo>
                  <a:pt x="80" y="80"/>
                </a:lnTo>
                <a:lnTo>
                  <a:pt x="73" y="64"/>
                </a:lnTo>
                <a:lnTo>
                  <a:pt x="66" y="50"/>
                </a:lnTo>
                <a:lnTo>
                  <a:pt x="57" y="37"/>
                </a:lnTo>
                <a:lnTo>
                  <a:pt x="49" y="25"/>
                </a:lnTo>
                <a:lnTo>
                  <a:pt x="39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52252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79720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2852640" y="2325600"/>
            <a:ext cx="180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279720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928960" y="4303800"/>
            <a:ext cx="274680" cy="333360"/>
          </a:xfrm>
          <a:custGeom>
            <a:avLst/>
            <a:gdLst/>
            <a:ahLst/>
            <a:rect l="l" t="t" r="r" b="b"/>
            <a:pathLst>
              <a:path w="173" h="210">
                <a:moveTo>
                  <a:pt x="173" y="210"/>
                </a:moveTo>
                <a:lnTo>
                  <a:pt x="172" y="188"/>
                </a:lnTo>
                <a:lnTo>
                  <a:pt x="169" y="168"/>
                </a:lnTo>
                <a:lnTo>
                  <a:pt x="164" y="148"/>
                </a:lnTo>
                <a:lnTo>
                  <a:pt x="159" y="129"/>
                </a:lnTo>
                <a:lnTo>
                  <a:pt x="151" y="110"/>
                </a:lnTo>
                <a:lnTo>
                  <a:pt x="143" y="92"/>
                </a:lnTo>
                <a:lnTo>
                  <a:pt x="133" y="77"/>
                </a:lnTo>
                <a:lnTo>
                  <a:pt x="122" y="61"/>
                </a:lnTo>
                <a:lnTo>
                  <a:pt x="109" y="48"/>
                </a:lnTo>
                <a:lnTo>
                  <a:pt x="95" y="36"/>
                </a:lnTo>
                <a:lnTo>
                  <a:pt x="81" y="26"/>
                </a:lnTo>
                <a:lnTo>
                  <a:pt x="66" y="17"/>
                </a:lnTo>
                <a:lnTo>
                  <a:pt x="51" y="9"/>
                </a:lnTo>
                <a:lnTo>
                  <a:pt x="34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55720" y="4303800"/>
            <a:ext cx="273240" cy="333360"/>
          </a:xfrm>
          <a:custGeom>
            <a:avLst/>
            <a:gdLst/>
            <a:ahLst/>
            <a:rect l="l" t="t" r="r" b="b"/>
            <a:pathLst>
              <a:path w="172" h="210">
                <a:moveTo>
                  <a:pt x="172" y="0"/>
                </a:moveTo>
                <a:lnTo>
                  <a:pt x="155" y="0"/>
                </a:lnTo>
                <a:lnTo>
                  <a:pt x="137" y="4"/>
                </a:lnTo>
                <a:lnTo>
                  <a:pt x="121" y="9"/>
                </a:lnTo>
                <a:lnTo>
                  <a:pt x="105" y="17"/>
                </a:lnTo>
                <a:lnTo>
                  <a:pt x="90" y="26"/>
                </a:lnTo>
                <a:lnTo>
                  <a:pt x="76" y="36"/>
                </a:lnTo>
                <a:lnTo>
                  <a:pt x="63" y="48"/>
                </a:lnTo>
                <a:lnTo>
                  <a:pt x="51" y="61"/>
                </a:lnTo>
                <a:lnTo>
                  <a:pt x="40" y="77"/>
                </a:lnTo>
                <a:lnTo>
                  <a:pt x="30" y="92"/>
                </a:lnTo>
                <a:lnTo>
                  <a:pt x="21" y="110"/>
                </a:lnTo>
                <a:lnTo>
                  <a:pt x="13" y="129"/>
                </a:lnTo>
                <a:lnTo>
                  <a:pt x="8" y="148"/>
                </a:lnTo>
                <a:lnTo>
                  <a:pt x="4" y="168"/>
                </a:lnTo>
                <a:lnTo>
                  <a:pt x="0" y="188"/>
                </a:lnTo>
                <a:lnTo>
                  <a:pt x="0" y="2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655720" y="4638600"/>
            <a:ext cx="1800" cy="99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2654280" y="5635800"/>
            <a:ext cx="549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522520" y="4638600"/>
            <a:ext cx="1440" cy="116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522520" y="5802480"/>
            <a:ext cx="820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30400" y="4138560"/>
            <a:ext cx="412920" cy="498600"/>
          </a:xfrm>
          <a:custGeom>
            <a:avLst/>
            <a:gdLst/>
            <a:ahLst/>
            <a:rect l="l" t="t" r="r" b="b"/>
            <a:pathLst>
              <a:path w="260" h="314">
                <a:moveTo>
                  <a:pt x="260" y="314"/>
                </a:moveTo>
                <a:lnTo>
                  <a:pt x="258" y="282"/>
                </a:lnTo>
                <a:lnTo>
                  <a:pt x="254" y="251"/>
                </a:lnTo>
                <a:lnTo>
                  <a:pt x="248" y="221"/>
                </a:lnTo>
                <a:lnTo>
                  <a:pt x="239" y="192"/>
                </a:lnTo>
                <a:lnTo>
                  <a:pt x="228" y="164"/>
                </a:lnTo>
                <a:lnTo>
                  <a:pt x="215" y="139"/>
                </a:lnTo>
                <a:lnTo>
                  <a:pt x="200" y="114"/>
                </a:lnTo>
                <a:lnTo>
                  <a:pt x="183" y="92"/>
                </a:lnTo>
                <a:lnTo>
                  <a:pt x="165" y="72"/>
                </a:lnTo>
                <a:lnTo>
                  <a:pt x="145" y="53"/>
                </a:lnTo>
                <a:lnTo>
                  <a:pt x="123" y="38"/>
                </a:lnTo>
                <a:lnTo>
                  <a:pt x="100" y="24"/>
                </a:lnTo>
                <a:lnTo>
                  <a:pt x="77" y="13"/>
                </a:lnTo>
                <a:lnTo>
                  <a:pt x="52" y="5"/>
                </a:lnTo>
                <a:lnTo>
                  <a:pt x="27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522520" y="4138560"/>
            <a:ext cx="407880" cy="498600"/>
          </a:xfrm>
          <a:custGeom>
            <a:avLst/>
            <a:gdLst/>
            <a:ahLst/>
            <a:rect l="l" t="t" r="r" b="b"/>
            <a:pathLst>
              <a:path w="257" h="314">
                <a:moveTo>
                  <a:pt x="257" y="0"/>
                </a:moveTo>
                <a:lnTo>
                  <a:pt x="231" y="1"/>
                </a:lnTo>
                <a:lnTo>
                  <a:pt x="205" y="5"/>
                </a:lnTo>
                <a:lnTo>
                  <a:pt x="181" y="13"/>
                </a:lnTo>
                <a:lnTo>
                  <a:pt x="157" y="24"/>
                </a:lnTo>
                <a:lnTo>
                  <a:pt x="135" y="38"/>
                </a:lnTo>
                <a:lnTo>
                  <a:pt x="113" y="53"/>
                </a:lnTo>
                <a:lnTo>
                  <a:pt x="93" y="72"/>
                </a:lnTo>
                <a:lnTo>
                  <a:pt x="76" y="92"/>
                </a:lnTo>
                <a:lnTo>
                  <a:pt x="58" y="114"/>
                </a:lnTo>
                <a:lnTo>
                  <a:pt x="44" y="139"/>
                </a:lnTo>
                <a:lnTo>
                  <a:pt x="31" y="164"/>
                </a:lnTo>
                <a:lnTo>
                  <a:pt x="20" y="192"/>
                </a:lnTo>
                <a:lnTo>
                  <a:pt x="11" y="221"/>
                </a:lnTo>
                <a:lnTo>
                  <a:pt x="4" y="251"/>
                </a:lnTo>
                <a:lnTo>
                  <a:pt x="1" y="282"/>
                </a:lnTo>
                <a:lnTo>
                  <a:pt x="0" y="3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203640" y="4805280"/>
            <a:ext cx="1440" cy="83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3343320" y="4636800"/>
            <a:ext cx="1440" cy="116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3203640" y="4638240"/>
            <a:ext cx="1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042920" y="131112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121520" y="1311120"/>
            <a:ext cx="1652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40480" y="2092320"/>
            <a:ext cx="11088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1" y="77"/>
                </a:lnTo>
                <a:lnTo>
                  <a:pt x="57" y="64"/>
                </a:lnTo>
                <a:lnTo>
                  <a:pt x="54" y="53"/>
                </a:lnTo>
                <a:lnTo>
                  <a:pt x="49" y="43"/>
                </a:lnTo>
                <a:lnTo>
                  <a:pt x="44" y="33"/>
                </a:lnTo>
                <a:lnTo>
                  <a:pt x="38" y="25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530680" y="2092320"/>
            <a:ext cx="10980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530680" y="2327400"/>
            <a:ext cx="180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552888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47704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47704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64192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6" y="134"/>
                </a:lnTo>
                <a:lnTo>
                  <a:pt x="91" y="114"/>
                </a:lnTo>
                <a:lnTo>
                  <a:pt x="86" y="96"/>
                </a:lnTo>
                <a:lnTo>
                  <a:pt x="80" y="80"/>
                </a:lnTo>
                <a:lnTo>
                  <a:pt x="74" y="64"/>
                </a:lnTo>
                <a:lnTo>
                  <a:pt x="66" y="50"/>
                </a:lnTo>
                <a:lnTo>
                  <a:pt x="57" y="37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7704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7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5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751360" y="2443320"/>
            <a:ext cx="180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80716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5751360" y="2325240"/>
            <a:ext cx="180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311800" y="2092320"/>
            <a:ext cx="11124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2" y="77"/>
                </a:lnTo>
                <a:lnTo>
                  <a:pt x="57" y="64"/>
                </a:lnTo>
                <a:lnTo>
                  <a:pt x="54" y="53"/>
                </a:lnTo>
                <a:lnTo>
                  <a:pt x="50" y="43"/>
                </a:lnTo>
                <a:lnTo>
                  <a:pt x="44" y="33"/>
                </a:lnTo>
                <a:lnTo>
                  <a:pt x="39" y="25"/>
                </a:lnTo>
                <a:lnTo>
                  <a:pt x="33" y="18"/>
                </a:lnTo>
                <a:lnTo>
                  <a:pt x="27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02360" y="2092320"/>
            <a:ext cx="10944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7"/>
                </a:lnTo>
                <a:lnTo>
                  <a:pt x="42" y="11"/>
                </a:lnTo>
                <a:lnTo>
                  <a:pt x="36" y="18"/>
                </a:lnTo>
                <a:lnTo>
                  <a:pt x="31" y="25"/>
                </a:lnTo>
                <a:lnTo>
                  <a:pt x="25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2" y="103"/>
                </a:lnTo>
                <a:lnTo>
                  <a:pt x="1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2360" y="2327400"/>
            <a:ext cx="144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5200560" y="3024360"/>
            <a:ext cx="222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14836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14836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31324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3" y="196"/>
                </a:lnTo>
                <a:lnTo>
                  <a:pt x="102" y="175"/>
                </a:lnTo>
                <a:lnTo>
                  <a:pt x="99" y="154"/>
                </a:lnTo>
                <a:lnTo>
                  <a:pt x="96" y="134"/>
                </a:lnTo>
                <a:lnTo>
                  <a:pt x="91" y="114"/>
                </a:lnTo>
                <a:lnTo>
                  <a:pt x="86" y="96"/>
                </a:lnTo>
                <a:lnTo>
                  <a:pt x="80" y="80"/>
                </a:lnTo>
                <a:lnTo>
                  <a:pt x="74" y="64"/>
                </a:lnTo>
                <a:lnTo>
                  <a:pt x="66" y="50"/>
                </a:lnTo>
                <a:lnTo>
                  <a:pt x="57" y="37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14836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7"/>
                </a:lnTo>
                <a:lnTo>
                  <a:pt x="38" y="50"/>
                </a:lnTo>
                <a:lnTo>
                  <a:pt x="31" y="64"/>
                </a:lnTo>
                <a:lnTo>
                  <a:pt x="23" y="80"/>
                </a:lnTo>
                <a:lnTo>
                  <a:pt x="18" y="96"/>
                </a:lnTo>
                <a:lnTo>
                  <a:pt x="12" y="114"/>
                </a:lnTo>
                <a:lnTo>
                  <a:pt x="8" y="134"/>
                </a:lnTo>
                <a:lnTo>
                  <a:pt x="5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23040" y="2443320"/>
            <a:ext cx="144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547848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5423040" y="2325240"/>
            <a:ext cx="144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84920" y="2092320"/>
            <a:ext cx="110880" cy="235080"/>
          </a:xfrm>
          <a:custGeom>
            <a:avLst/>
            <a:gdLst/>
            <a:ahLst/>
            <a:rect l="l" t="t" r="r" b="b"/>
            <a:pathLst>
              <a:path w="70" h="148">
                <a:moveTo>
                  <a:pt x="70" y="148"/>
                </a:moveTo>
                <a:lnTo>
                  <a:pt x="69" y="132"/>
                </a:lnTo>
                <a:lnTo>
                  <a:pt x="68" y="118"/>
                </a:lnTo>
                <a:lnTo>
                  <a:pt x="67" y="103"/>
                </a:lnTo>
                <a:lnTo>
                  <a:pt x="64" y="90"/>
                </a:lnTo>
                <a:lnTo>
                  <a:pt x="62" y="77"/>
                </a:lnTo>
                <a:lnTo>
                  <a:pt x="57" y="64"/>
                </a:lnTo>
                <a:lnTo>
                  <a:pt x="54" y="53"/>
                </a:lnTo>
                <a:lnTo>
                  <a:pt x="50" y="43"/>
                </a:lnTo>
                <a:lnTo>
                  <a:pt x="44" y="33"/>
                </a:lnTo>
                <a:lnTo>
                  <a:pt x="39" y="25"/>
                </a:lnTo>
                <a:lnTo>
                  <a:pt x="33" y="18"/>
                </a:lnTo>
                <a:lnTo>
                  <a:pt x="27" y="11"/>
                </a:lnTo>
                <a:lnTo>
                  <a:pt x="20" y="7"/>
                </a:lnTo>
                <a:lnTo>
                  <a:pt x="14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75120" y="2092320"/>
            <a:ext cx="109800" cy="235080"/>
          </a:xfrm>
          <a:custGeom>
            <a:avLst/>
            <a:gdLst/>
            <a:ahLst/>
            <a:rect l="l" t="t" r="r" b="b"/>
            <a:pathLst>
              <a:path w="69" h="148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9" y="7"/>
                </a:lnTo>
                <a:lnTo>
                  <a:pt x="42" y="11"/>
                </a:lnTo>
                <a:lnTo>
                  <a:pt x="37" y="18"/>
                </a:lnTo>
                <a:lnTo>
                  <a:pt x="31" y="25"/>
                </a:lnTo>
                <a:lnTo>
                  <a:pt x="26" y="33"/>
                </a:lnTo>
                <a:lnTo>
                  <a:pt x="20" y="43"/>
                </a:lnTo>
                <a:lnTo>
                  <a:pt x="16" y="53"/>
                </a:lnTo>
                <a:lnTo>
                  <a:pt x="11" y="64"/>
                </a:lnTo>
                <a:lnTo>
                  <a:pt x="8" y="77"/>
                </a:lnTo>
                <a:lnTo>
                  <a:pt x="6" y="90"/>
                </a:lnTo>
                <a:lnTo>
                  <a:pt x="3" y="103"/>
                </a:lnTo>
                <a:lnTo>
                  <a:pt x="2" y="118"/>
                </a:lnTo>
                <a:lnTo>
                  <a:pt x="0" y="132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75120" y="2327400"/>
            <a:ext cx="1800" cy="69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4873320" y="3024360"/>
            <a:ext cx="222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22920" y="2327400"/>
            <a:ext cx="1440" cy="81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822920" y="313992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987800" y="1976400"/>
            <a:ext cx="16524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220"/>
                </a:moveTo>
                <a:lnTo>
                  <a:pt x="102" y="196"/>
                </a:lnTo>
                <a:lnTo>
                  <a:pt x="101" y="175"/>
                </a:lnTo>
                <a:lnTo>
                  <a:pt x="98" y="154"/>
                </a:lnTo>
                <a:lnTo>
                  <a:pt x="95" y="134"/>
                </a:lnTo>
                <a:lnTo>
                  <a:pt x="90" y="114"/>
                </a:lnTo>
                <a:lnTo>
                  <a:pt x="85" y="96"/>
                </a:lnTo>
                <a:lnTo>
                  <a:pt x="79" y="80"/>
                </a:lnTo>
                <a:lnTo>
                  <a:pt x="73" y="64"/>
                </a:lnTo>
                <a:lnTo>
                  <a:pt x="65" y="50"/>
                </a:lnTo>
                <a:lnTo>
                  <a:pt x="56" y="37"/>
                </a:lnTo>
                <a:lnTo>
                  <a:pt x="49" y="25"/>
                </a:lnTo>
                <a:lnTo>
                  <a:pt x="39" y="17"/>
                </a:lnTo>
                <a:lnTo>
                  <a:pt x="30" y="9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822920" y="1976400"/>
            <a:ext cx="164880" cy="349200"/>
          </a:xfrm>
          <a:custGeom>
            <a:avLst/>
            <a:gdLst/>
            <a:ahLst/>
            <a:rect l="l" t="t" r="r" b="b"/>
            <a:pathLst>
              <a:path w="104" h="220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9"/>
                </a:lnTo>
                <a:lnTo>
                  <a:pt x="63" y="17"/>
                </a:lnTo>
                <a:lnTo>
                  <a:pt x="53" y="25"/>
                </a:lnTo>
                <a:lnTo>
                  <a:pt x="45" y="37"/>
                </a:lnTo>
                <a:lnTo>
                  <a:pt x="37" y="50"/>
                </a:lnTo>
                <a:lnTo>
                  <a:pt x="30" y="64"/>
                </a:lnTo>
                <a:lnTo>
                  <a:pt x="22" y="80"/>
                </a:lnTo>
                <a:lnTo>
                  <a:pt x="17" y="96"/>
                </a:lnTo>
                <a:lnTo>
                  <a:pt x="12" y="114"/>
                </a:lnTo>
                <a:lnTo>
                  <a:pt x="7" y="134"/>
                </a:lnTo>
                <a:lnTo>
                  <a:pt x="4" y="154"/>
                </a:lnTo>
                <a:lnTo>
                  <a:pt x="1" y="175"/>
                </a:lnTo>
                <a:lnTo>
                  <a:pt x="0" y="196"/>
                </a:lnTo>
                <a:lnTo>
                  <a:pt x="0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095800" y="2443320"/>
            <a:ext cx="1800" cy="5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153040" y="2325600"/>
            <a:ext cx="1440" cy="8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5095800" y="2325240"/>
            <a:ext cx="180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7121520" y="5802120"/>
            <a:ext cx="163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450200" y="1476360"/>
            <a:ext cx="1440" cy="416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7284600" y="1310760"/>
            <a:ext cx="1652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879480" y="131076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042920" y="1142640"/>
            <a:ext cx="1652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371600" y="1143000"/>
            <a:ext cx="5749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121520" y="1143000"/>
            <a:ext cx="16344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1208160" y="1143000"/>
            <a:ext cx="16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700280" y="3139920"/>
            <a:ext cx="32868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000680" y="3139920"/>
            <a:ext cx="32832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299280" y="3139920"/>
            <a:ext cx="328680" cy="2662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121520" y="5637240"/>
            <a:ext cx="163440" cy="165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655560" y="2114640"/>
            <a:ext cx="3567240" cy="436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5736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19000" y="6648480"/>
            <a:ext cx="3241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898800" y="22766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60800" y="2438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98800" y="2600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060800" y="2762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98800" y="2924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60800" y="308628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98800" y="3247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60800" y="340992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98800" y="3571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60800" y="373392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898800" y="3895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60800" y="4057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98800" y="4219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60800" y="4381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98800" y="454356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60800" y="4705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98800" y="4867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060800" y="5029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898800" y="5191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60800" y="535320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898800" y="5514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060800" y="5676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898800" y="5838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060800" y="6000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98800" y="61628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060800" y="63244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57360" y="63244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57360" y="616284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57360" y="6000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7360" y="5838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57360" y="5676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360" y="5514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57360" y="535320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57360" y="5191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57360" y="5029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57360" y="4867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57360" y="4705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7360" y="45435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57360" y="4381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7360" y="4219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57360" y="4057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7360" y="3895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7360" y="373392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7360" y="3571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7360" y="340992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57360" y="3247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57360" y="308628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57360" y="2924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57360" y="2762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57360" y="2600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57360" y="2438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57360" y="2276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602080" y="2874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2" y="88"/>
                </a:lnTo>
                <a:lnTo>
                  <a:pt x="60" y="75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3"/>
                </a:lnTo>
                <a:lnTo>
                  <a:pt x="38" y="24"/>
                </a:lnTo>
                <a:lnTo>
                  <a:pt x="32" y="18"/>
                </a:lnTo>
                <a:lnTo>
                  <a:pt x="26" y="11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494080" y="287496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7"/>
                </a:lnTo>
                <a:lnTo>
                  <a:pt x="41" y="11"/>
                </a:lnTo>
                <a:lnTo>
                  <a:pt x="35" y="18"/>
                </a:lnTo>
                <a:lnTo>
                  <a:pt x="30" y="24"/>
                </a:lnTo>
                <a:lnTo>
                  <a:pt x="25" y="33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494080" y="310356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491920" y="378144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440080" y="3103560"/>
            <a:ext cx="144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440080" y="389556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603520" y="276228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1"/>
                </a:lnTo>
                <a:lnTo>
                  <a:pt x="97" y="150"/>
                </a:lnTo>
                <a:lnTo>
                  <a:pt x="94" y="131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8" y="25"/>
                </a:lnTo>
                <a:lnTo>
                  <a:pt x="39" y="16"/>
                </a:lnTo>
                <a:lnTo>
                  <a:pt x="30" y="9"/>
                </a:lnTo>
                <a:lnTo>
                  <a:pt x="20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440080" y="27622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6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1"/>
                </a:lnTo>
                <a:lnTo>
                  <a:pt x="5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711520" y="321624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2765520" y="3102120"/>
            <a:ext cx="1440" cy="79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2711520" y="3101760"/>
            <a:ext cx="144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278080" y="2874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5" y="101"/>
                </a:lnTo>
                <a:lnTo>
                  <a:pt x="62" y="88"/>
                </a:lnTo>
                <a:lnTo>
                  <a:pt x="60" y="75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3"/>
                </a:lnTo>
                <a:lnTo>
                  <a:pt x="37" y="24"/>
                </a:lnTo>
                <a:lnTo>
                  <a:pt x="32" y="18"/>
                </a:lnTo>
                <a:lnTo>
                  <a:pt x="25" y="11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170080" y="287496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7"/>
                </a:lnTo>
                <a:lnTo>
                  <a:pt x="41" y="11"/>
                </a:lnTo>
                <a:lnTo>
                  <a:pt x="35" y="18"/>
                </a:lnTo>
                <a:lnTo>
                  <a:pt x="30" y="24"/>
                </a:lnTo>
                <a:lnTo>
                  <a:pt x="24" y="33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170080" y="310356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166480" y="378144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116080" y="3103560"/>
            <a:ext cx="18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116080" y="389556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79520" y="276228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1"/>
                </a:lnTo>
                <a:lnTo>
                  <a:pt x="97" y="150"/>
                </a:lnTo>
                <a:lnTo>
                  <a:pt x="94" y="131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4" y="49"/>
                </a:lnTo>
                <a:lnTo>
                  <a:pt x="56" y="36"/>
                </a:lnTo>
                <a:lnTo>
                  <a:pt x="48" y="25"/>
                </a:lnTo>
                <a:lnTo>
                  <a:pt x="39" y="16"/>
                </a:lnTo>
                <a:lnTo>
                  <a:pt x="30" y="9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116080" y="27622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387520" y="321624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2441520" y="3102120"/>
            <a:ext cx="1800" cy="79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387520" y="3101760"/>
            <a:ext cx="180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35400" y="5027760"/>
            <a:ext cx="323640" cy="323640"/>
          </a:xfrm>
          <a:custGeom>
            <a:avLst/>
            <a:gdLst/>
            <a:ahLst/>
            <a:rect l="l" t="t" r="r" b="b"/>
            <a:pathLst>
              <a:path w="204" h="204">
                <a:moveTo>
                  <a:pt x="204" y="204"/>
                </a:moveTo>
                <a:lnTo>
                  <a:pt x="203" y="183"/>
                </a:lnTo>
                <a:lnTo>
                  <a:pt x="200" y="163"/>
                </a:lnTo>
                <a:lnTo>
                  <a:pt x="194" y="144"/>
                </a:lnTo>
                <a:lnTo>
                  <a:pt x="187" y="125"/>
                </a:lnTo>
                <a:lnTo>
                  <a:pt x="178" y="107"/>
                </a:lnTo>
                <a:lnTo>
                  <a:pt x="168" y="90"/>
                </a:lnTo>
                <a:lnTo>
                  <a:pt x="157" y="75"/>
                </a:lnTo>
                <a:lnTo>
                  <a:pt x="144" y="59"/>
                </a:lnTo>
                <a:lnTo>
                  <a:pt x="129" y="47"/>
                </a:lnTo>
                <a:lnTo>
                  <a:pt x="113" y="35"/>
                </a:lnTo>
                <a:lnTo>
                  <a:pt x="96" y="25"/>
                </a:lnTo>
                <a:lnTo>
                  <a:pt x="78" y="16"/>
                </a:lnTo>
                <a:lnTo>
                  <a:pt x="59" y="9"/>
                </a:lnTo>
                <a:lnTo>
                  <a:pt x="40" y="3"/>
                </a:lnTo>
                <a:lnTo>
                  <a:pt x="2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111400" y="5027760"/>
            <a:ext cx="324000" cy="323640"/>
          </a:xfrm>
          <a:custGeom>
            <a:avLst/>
            <a:gdLst/>
            <a:ahLst/>
            <a:rect l="l" t="t" r="r" b="b"/>
            <a:pathLst>
              <a:path w="204" h="204">
                <a:moveTo>
                  <a:pt x="204" y="0"/>
                </a:moveTo>
                <a:lnTo>
                  <a:pt x="182" y="0"/>
                </a:lnTo>
                <a:lnTo>
                  <a:pt x="163" y="3"/>
                </a:lnTo>
                <a:lnTo>
                  <a:pt x="143" y="9"/>
                </a:lnTo>
                <a:lnTo>
                  <a:pt x="125" y="16"/>
                </a:lnTo>
                <a:lnTo>
                  <a:pt x="107" y="25"/>
                </a:lnTo>
                <a:lnTo>
                  <a:pt x="89" y="35"/>
                </a:lnTo>
                <a:lnTo>
                  <a:pt x="74" y="47"/>
                </a:lnTo>
                <a:lnTo>
                  <a:pt x="59" y="59"/>
                </a:lnTo>
                <a:lnTo>
                  <a:pt x="46" y="75"/>
                </a:lnTo>
                <a:lnTo>
                  <a:pt x="34" y="90"/>
                </a:lnTo>
                <a:lnTo>
                  <a:pt x="25" y="107"/>
                </a:lnTo>
                <a:lnTo>
                  <a:pt x="16" y="125"/>
                </a:lnTo>
                <a:lnTo>
                  <a:pt x="8" y="144"/>
                </a:lnTo>
                <a:lnTo>
                  <a:pt x="3" y="163"/>
                </a:lnTo>
                <a:lnTo>
                  <a:pt x="0" y="183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111400" y="5353200"/>
            <a:ext cx="1440" cy="96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2111040" y="6323040"/>
            <a:ext cx="64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952640" y="5353200"/>
            <a:ext cx="1440" cy="113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952640" y="6486480"/>
            <a:ext cx="971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436840" y="4867200"/>
            <a:ext cx="487440" cy="484200"/>
          </a:xfrm>
          <a:custGeom>
            <a:avLst/>
            <a:gdLst/>
            <a:ahLst/>
            <a:rect l="l" t="t" r="r" b="b"/>
            <a:pathLst>
              <a:path w="307" h="305">
                <a:moveTo>
                  <a:pt x="307" y="305"/>
                </a:moveTo>
                <a:lnTo>
                  <a:pt x="305" y="274"/>
                </a:lnTo>
                <a:lnTo>
                  <a:pt x="300" y="244"/>
                </a:lnTo>
                <a:lnTo>
                  <a:pt x="293" y="214"/>
                </a:lnTo>
                <a:lnTo>
                  <a:pt x="282" y="186"/>
                </a:lnTo>
                <a:lnTo>
                  <a:pt x="269" y="159"/>
                </a:lnTo>
                <a:lnTo>
                  <a:pt x="254" y="135"/>
                </a:lnTo>
                <a:lnTo>
                  <a:pt x="236" y="111"/>
                </a:lnTo>
                <a:lnTo>
                  <a:pt x="216" y="89"/>
                </a:lnTo>
                <a:lnTo>
                  <a:pt x="194" y="70"/>
                </a:lnTo>
                <a:lnTo>
                  <a:pt x="171" y="51"/>
                </a:lnTo>
                <a:lnTo>
                  <a:pt x="145" y="36"/>
                </a:lnTo>
                <a:lnTo>
                  <a:pt x="119" y="23"/>
                </a:lnTo>
                <a:lnTo>
                  <a:pt x="91" y="13"/>
                </a:lnTo>
                <a:lnTo>
                  <a:pt x="61" y="5"/>
                </a:lnTo>
                <a:lnTo>
                  <a:pt x="3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952640" y="4867200"/>
            <a:ext cx="484200" cy="484200"/>
          </a:xfrm>
          <a:custGeom>
            <a:avLst/>
            <a:gdLst/>
            <a:ahLst/>
            <a:rect l="l" t="t" r="r" b="b"/>
            <a:pathLst>
              <a:path w="305" h="305">
                <a:moveTo>
                  <a:pt x="305" y="0"/>
                </a:moveTo>
                <a:lnTo>
                  <a:pt x="274" y="1"/>
                </a:lnTo>
                <a:lnTo>
                  <a:pt x="243" y="5"/>
                </a:lnTo>
                <a:lnTo>
                  <a:pt x="214" y="13"/>
                </a:lnTo>
                <a:lnTo>
                  <a:pt x="186" y="23"/>
                </a:lnTo>
                <a:lnTo>
                  <a:pt x="159" y="36"/>
                </a:lnTo>
                <a:lnTo>
                  <a:pt x="134" y="51"/>
                </a:lnTo>
                <a:lnTo>
                  <a:pt x="111" y="70"/>
                </a:lnTo>
                <a:lnTo>
                  <a:pt x="89" y="89"/>
                </a:lnTo>
                <a:lnTo>
                  <a:pt x="70" y="111"/>
                </a:lnTo>
                <a:lnTo>
                  <a:pt x="52" y="135"/>
                </a:lnTo>
                <a:lnTo>
                  <a:pt x="37" y="159"/>
                </a:lnTo>
                <a:lnTo>
                  <a:pt x="24" y="186"/>
                </a:lnTo>
                <a:lnTo>
                  <a:pt x="13" y="214"/>
                </a:lnTo>
                <a:lnTo>
                  <a:pt x="6" y="244"/>
                </a:lnTo>
                <a:lnTo>
                  <a:pt x="1" y="274"/>
                </a:lnTo>
                <a:lnTo>
                  <a:pt x="0" y="30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759040" y="5516640"/>
            <a:ext cx="1800" cy="80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924280" y="5351040"/>
            <a:ext cx="1440" cy="11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759040" y="5353200"/>
            <a:ext cx="18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57360" y="1142640"/>
            <a:ext cx="178272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440080" y="1143000"/>
            <a:ext cx="178272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981000" y="2276640"/>
            <a:ext cx="291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4060800" y="648648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708440" y="6000480"/>
            <a:ext cx="97488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683320" y="6000840"/>
            <a:ext cx="96984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4708440" y="4543200"/>
            <a:ext cx="180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708440" y="4543560"/>
            <a:ext cx="19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653160" y="4543560"/>
            <a:ext cx="180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681520" y="494676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68" y="103"/>
                </a:moveTo>
                <a:lnTo>
                  <a:pt x="67" y="92"/>
                </a:lnTo>
                <a:lnTo>
                  <a:pt x="66" y="81"/>
                </a:lnTo>
                <a:lnTo>
                  <a:pt x="65" y="72"/>
                </a:lnTo>
                <a:lnTo>
                  <a:pt x="61" y="63"/>
                </a:lnTo>
                <a:lnTo>
                  <a:pt x="59" y="53"/>
                </a:lnTo>
                <a:lnTo>
                  <a:pt x="56" y="46"/>
                </a:lnTo>
                <a:lnTo>
                  <a:pt x="52" y="37"/>
                </a:lnTo>
                <a:lnTo>
                  <a:pt x="47" y="31"/>
                </a:lnTo>
                <a:lnTo>
                  <a:pt x="42" y="23"/>
                </a:lnTo>
                <a:lnTo>
                  <a:pt x="37" y="18"/>
                </a:lnTo>
                <a:lnTo>
                  <a:pt x="31" y="12"/>
                </a:lnTo>
                <a:lnTo>
                  <a:pt x="26" y="8"/>
                </a:lnTo>
                <a:lnTo>
                  <a:pt x="19" y="5"/>
                </a:lnTo>
                <a:lnTo>
                  <a:pt x="13" y="1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573880" y="4946760"/>
            <a:ext cx="10764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5"/>
                </a:lnTo>
                <a:lnTo>
                  <a:pt x="41" y="8"/>
                </a:lnTo>
                <a:lnTo>
                  <a:pt x="34" y="12"/>
                </a:lnTo>
                <a:lnTo>
                  <a:pt x="29" y="18"/>
                </a:lnTo>
                <a:lnTo>
                  <a:pt x="24" y="23"/>
                </a:lnTo>
                <a:lnTo>
                  <a:pt x="19" y="31"/>
                </a:lnTo>
                <a:lnTo>
                  <a:pt x="15" y="37"/>
                </a:lnTo>
                <a:lnTo>
                  <a:pt x="11" y="46"/>
                </a:lnTo>
                <a:lnTo>
                  <a:pt x="7" y="53"/>
                </a:lnTo>
                <a:lnTo>
                  <a:pt x="4" y="63"/>
                </a:lnTo>
                <a:lnTo>
                  <a:pt x="2" y="72"/>
                </a:lnTo>
                <a:lnTo>
                  <a:pt x="1" y="81"/>
                </a:lnTo>
                <a:lnTo>
                  <a:pt x="0" y="92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73880" y="5110200"/>
            <a:ext cx="1440" cy="48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5572080" y="5592600"/>
            <a:ext cx="217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19880" y="5110200"/>
            <a:ext cx="144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519880" y="567360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681520" y="4867200"/>
            <a:ext cx="16200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152"/>
                </a:moveTo>
                <a:lnTo>
                  <a:pt x="101" y="136"/>
                </a:lnTo>
                <a:lnTo>
                  <a:pt x="100" y="121"/>
                </a:lnTo>
                <a:lnTo>
                  <a:pt x="97" y="107"/>
                </a:lnTo>
                <a:lnTo>
                  <a:pt x="94" y="92"/>
                </a:lnTo>
                <a:lnTo>
                  <a:pt x="90" y="80"/>
                </a:lnTo>
                <a:lnTo>
                  <a:pt x="84" y="67"/>
                </a:lnTo>
                <a:lnTo>
                  <a:pt x="79" y="55"/>
                </a:lnTo>
                <a:lnTo>
                  <a:pt x="72" y="44"/>
                </a:lnTo>
                <a:lnTo>
                  <a:pt x="65" y="34"/>
                </a:lnTo>
                <a:lnTo>
                  <a:pt x="56" y="26"/>
                </a:lnTo>
                <a:lnTo>
                  <a:pt x="48" y="18"/>
                </a:lnTo>
                <a:lnTo>
                  <a:pt x="39" y="12"/>
                </a:lnTo>
                <a:lnTo>
                  <a:pt x="30" y="6"/>
                </a:lnTo>
                <a:lnTo>
                  <a:pt x="20" y="2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519880" y="486720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0"/>
                </a:moveTo>
                <a:lnTo>
                  <a:pt x="91" y="0"/>
                </a:lnTo>
                <a:lnTo>
                  <a:pt x="81" y="2"/>
                </a:lnTo>
                <a:lnTo>
                  <a:pt x="72" y="6"/>
                </a:lnTo>
                <a:lnTo>
                  <a:pt x="62" y="12"/>
                </a:lnTo>
                <a:lnTo>
                  <a:pt x="53" y="18"/>
                </a:lnTo>
                <a:lnTo>
                  <a:pt x="45" y="26"/>
                </a:lnTo>
                <a:lnTo>
                  <a:pt x="37" y="34"/>
                </a:lnTo>
                <a:lnTo>
                  <a:pt x="29" y="44"/>
                </a:lnTo>
                <a:lnTo>
                  <a:pt x="23" y="55"/>
                </a:lnTo>
                <a:lnTo>
                  <a:pt x="18" y="67"/>
                </a:lnTo>
                <a:lnTo>
                  <a:pt x="12" y="80"/>
                </a:lnTo>
                <a:lnTo>
                  <a:pt x="8" y="92"/>
                </a:lnTo>
                <a:lnTo>
                  <a:pt x="5" y="107"/>
                </a:lnTo>
                <a:lnTo>
                  <a:pt x="1" y="121"/>
                </a:lnTo>
                <a:lnTo>
                  <a:pt x="0" y="13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789520" y="5191200"/>
            <a:ext cx="1800" cy="40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5843520" y="510840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5789520" y="5109840"/>
            <a:ext cx="180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681520" y="600084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4871520" y="6162840"/>
            <a:ext cx="80964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708440" y="648648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681520" y="6162840"/>
            <a:ext cx="81144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6492960" y="648648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708440" y="3409560"/>
            <a:ext cx="973080" cy="11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681520" y="3409920"/>
            <a:ext cx="971640" cy="11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6653160" y="438156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 flipV="1">
            <a:off x="5843160" y="3409560"/>
            <a:ext cx="8096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5681520" y="3409920"/>
            <a:ext cx="16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5519520" y="3409920"/>
            <a:ext cx="16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4708440" y="3409920"/>
            <a:ext cx="8114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708440" y="438156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708440" y="45435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708440" y="4705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708440" y="4867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708440" y="5029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708440" y="5191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708440" y="535320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708440" y="5514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708440" y="5676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708440" y="5838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708440" y="6000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708440" y="61628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92960" y="454356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329520" y="4705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92960" y="48672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329520" y="5029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492960" y="51912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329520" y="53532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492960" y="55148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29520" y="5676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92960" y="58388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92960" y="616284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53160" y="4543560"/>
            <a:ext cx="1943280" cy="194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329520" y="6000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434440" y="454356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271000" y="4705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434440" y="48672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271000" y="5029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434440" y="51912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271000" y="53532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434440" y="55148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8271000" y="5676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434440" y="58388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434440" y="616284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271000" y="6000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651720" y="4545000"/>
            <a:ext cx="144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651720" y="4383000"/>
            <a:ext cx="1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651720" y="45450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651720" y="47070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51720" y="486900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651720" y="50306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651720" y="5192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51720" y="53546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51720" y="5516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651720" y="567864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651720" y="5840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51720" y="6002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651720" y="6164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623000" y="4948200"/>
            <a:ext cx="10800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68" y="103"/>
                </a:moveTo>
                <a:lnTo>
                  <a:pt x="67" y="92"/>
                </a:lnTo>
                <a:lnTo>
                  <a:pt x="66" y="81"/>
                </a:lnTo>
                <a:lnTo>
                  <a:pt x="65" y="72"/>
                </a:lnTo>
                <a:lnTo>
                  <a:pt x="61" y="63"/>
                </a:lnTo>
                <a:lnTo>
                  <a:pt x="59" y="53"/>
                </a:lnTo>
                <a:lnTo>
                  <a:pt x="56" y="46"/>
                </a:lnTo>
                <a:lnTo>
                  <a:pt x="52" y="37"/>
                </a:lnTo>
                <a:lnTo>
                  <a:pt x="47" y="31"/>
                </a:lnTo>
                <a:lnTo>
                  <a:pt x="42" y="23"/>
                </a:lnTo>
                <a:lnTo>
                  <a:pt x="36" y="18"/>
                </a:lnTo>
                <a:lnTo>
                  <a:pt x="31" y="12"/>
                </a:lnTo>
                <a:lnTo>
                  <a:pt x="26" y="8"/>
                </a:lnTo>
                <a:lnTo>
                  <a:pt x="19" y="5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515360" y="4948200"/>
            <a:ext cx="107640" cy="163440"/>
          </a:xfrm>
          <a:custGeom>
            <a:avLst/>
            <a:gdLst/>
            <a:ahLst/>
            <a:rect l="l" t="t" r="r" b="b"/>
            <a:pathLst>
              <a:path w="68" h="103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5"/>
                </a:lnTo>
                <a:lnTo>
                  <a:pt x="41" y="8"/>
                </a:lnTo>
                <a:lnTo>
                  <a:pt x="34" y="12"/>
                </a:lnTo>
                <a:lnTo>
                  <a:pt x="29" y="18"/>
                </a:lnTo>
                <a:lnTo>
                  <a:pt x="23" y="23"/>
                </a:lnTo>
                <a:lnTo>
                  <a:pt x="19" y="31"/>
                </a:lnTo>
                <a:lnTo>
                  <a:pt x="15" y="37"/>
                </a:lnTo>
                <a:lnTo>
                  <a:pt x="10" y="46"/>
                </a:lnTo>
                <a:lnTo>
                  <a:pt x="7" y="53"/>
                </a:lnTo>
                <a:lnTo>
                  <a:pt x="4" y="63"/>
                </a:lnTo>
                <a:lnTo>
                  <a:pt x="2" y="72"/>
                </a:lnTo>
                <a:lnTo>
                  <a:pt x="1" y="81"/>
                </a:lnTo>
                <a:lnTo>
                  <a:pt x="0" y="92"/>
                </a:lnTo>
                <a:lnTo>
                  <a:pt x="0" y="1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515360" y="5111640"/>
            <a:ext cx="144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7513560" y="5594400"/>
            <a:ext cx="21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461360" y="5111640"/>
            <a:ext cx="1440" cy="56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461360" y="567540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23000" y="4869000"/>
            <a:ext cx="16200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152"/>
                </a:moveTo>
                <a:lnTo>
                  <a:pt x="101" y="136"/>
                </a:lnTo>
                <a:lnTo>
                  <a:pt x="100" y="121"/>
                </a:lnTo>
                <a:lnTo>
                  <a:pt x="97" y="107"/>
                </a:lnTo>
                <a:lnTo>
                  <a:pt x="94" y="93"/>
                </a:lnTo>
                <a:lnTo>
                  <a:pt x="89" y="80"/>
                </a:lnTo>
                <a:lnTo>
                  <a:pt x="84" y="67"/>
                </a:lnTo>
                <a:lnTo>
                  <a:pt x="79" y="55"/>
                </a:lnTo>
                <a:lnTo>
                  <a:pt x="72" y="44"/>
                </a:lnTo>
                <a:lnTo>
                  <a:pt x="65" y="34"/>
                </a:lnTo>
                <a:lnTo>
                  <a:pt x="56" y="26"/>
                </a:lnTo>
                <a:lnTo>
                  <a:pt x="48" y="18"/>
                </a:lnTo>
                <a:lnTo>
                  <a:pt x="39" y="12"/>
                </a:lnTo>
                <a:lnTo>
                  <a:pt x="30" y="6"/>
                </a:lnTo>
                <a:lnTo>
                  <a:pt x="20" y="2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461360" y="486900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0"/>
                </a:moveTo>
                <a:lnTo>
                  <a:pt x="91" y="0"/>
                </a:lnTo>
                <a:lnTo>
                  <a:pt x="81" y="2"/>
                </a:lnTo>
                <a:lnTo>
                  <a:pt x="71" y="6"/>
                </a:lnTo>
                <a:lnTo>
                  <a:pt x="62" y="12"/>
                </a:lnTo>
                <a:lnTo>
                  <a:pt x="53" y="18"/>
                </a:lnTo>
                <a:lnTo>
                  <a:pt x="44" y="26"/>
                </a:lnTo>
                <a:lnTo>
                  <a:pt x="37" y="34"/>
                </a:lnTo>
                <a:lnTo>
                  <a:pt x="29" y="44"/>
                </a:lnTo>
                <a:lnTo>
                  <a:pt x="23" y="55"/>
                </a:lnTo>
                <a:lnTo>
                  <a:pt x="17" y="67"/>
                </a:lnTo>
                <a:lnTo>
                  <a:pt x="12" y="80"/>
                </a:lnTo>
                <a:lnTo>
                  <a:pt x="8" y="93"/>
                </a:lnTo>
                <a:lnTo>
                  <a:pt x="4" y="107"/>
                </a:lnTo>
                <a:lnTo>
                  <a:pt x="1" y="121"/>
                </a:lnTo>
                <a:lnTo>
                  <a:pt x="0" y="13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731000" y="5192640"/>
            <a:ext cx="1800" cy="4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7785000" y="511020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7731000" y="5111280"/>
            <a:ext cx="180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653160" y="63244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272440" y="632448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653160" y="648648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815160" y="6324480"/>
            <a:ext cx="1619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8434440" y="648648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8596440" y="4543560"/>
            <a:ext cx="16164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758080" y="4705200"/>
            <a:ext cx="1800" cy="16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8596080" y="6324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6653160" y="3409560"/>
            <a:ext cx="971640" cy="11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624800" y="3409920"/>
            <a:ext cx="971640" cy="11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653160" y="438156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97200" y="47484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pel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37640" y="638280"/>
            <a:ext cx="113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orderfront 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954720" y="79848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rmtei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4695480" y="471600"/>
            <a:ext cx="639720" cy="250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7280" y="2981160"/>
            <a:ext cx="94140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640480" y="547560"/>
            <a:ext cx="12600" cy="267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H="1" flipV="1">
            <a:off x="5334120" y="469800"/>
            <a:ext cx="31248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5136840" y="47304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4581000" y="587520"/>
            <a:ext cx="56052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579920" y="2784600"/>
            <a:ext cx="117360" cy="19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699080" y="2981160"/>
            <a:ext cx="11412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443560" y="3222720"/>
            <a:ext cx="1969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5337000" y="156960"/>
            <a:ext cx="7812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19800" y="157320"/>
            <a:ext cx="31284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5653080" y="239760"/>
            <a:ext cx="777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656320" y="557280"/>
            <a:ext cx="322200" cy="266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835520" y="3182760"/>
            <a:ext cx="61740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276960" y="476280"/>
            <a:ext cx="639720" cy="250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H="1">
            <a:off x="5973480" y="2986200"/>
            <a:ext cx="94284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 flipV="1">
            <a:off x="5959440" y="553680"/>
            <a:ext cx="14400" cy="266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5964120" y="474840"/>
            <a:ext cx="31428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76960" y="477720"/>
            <a:ext cx="19692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470640" y="592200"/>
            <a:ext cx="55872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6915240" y="2789280"/>
            <a:ext cx="11736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6797160" y="2986200"/>
            <a:ext cx="117720" cy="19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 flipV="1">
            <a:off x="5970600" y="3228840"/>
            <a:ext cx="2001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6159240" y="3187800"/>
            <a:ext cx="617400" cy="15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667480" y="474840"/>
            <a:ext cx="9504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762520" y="474840"/>
            <a:ext cx="111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873760" y="474840"/>
            <a:ext cx="7632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5967360" y="431280"/>
            <a:ext cx="2556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5992920" y="388440"/>
            <a:ext cx="1807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173640" y="388800"/>
            <a:ext cx="111240" cy="9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864840" y="95868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fei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4222800" y="1952640"/>
            <a:ext cx="1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 flipV="1">
            <a:off x="2763360" y="1142640"/>
            <a:ext cx="14590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2115720" y="1143000"/>
            <a:ext cx="64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657360" y="1143000"/>
            <a:ext cx="14587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57360" y="1952640"/>
            <a:ext cx="1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655560" y="2114640"/>
            <a:ext cx="3567240" cy="436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57360" y="6485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9000" y="6647040"/>
            <a:ext cx="3241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98800" y="2274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060800" y="24382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898800" y="2598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060800" y="2762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898800" y="292248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060800" y="3086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98800" y="324648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060800" y="3409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898800" y="357012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60800" y="3733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898800" y="3894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060800" y="40575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898800" y="4218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060800" y="43815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98800" y="4541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060800" y="4703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898800" y="4865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060800" y="50277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98800" y="5189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60800" y="5351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98800" y="5513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060800" y="5675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98800" y="583740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60800" y="5999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98800" y="6161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060800" y="6323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57360" y="6323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5736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57360" y="5999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573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57360" y="5675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573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57360" y="5351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5736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57360" y="502776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5736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57360" y="47037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5736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7360" y="438156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5736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57360" y="405756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5736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57360" y="3733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5736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57360" y="3409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5736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57360" y="3086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5736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7360" y="2762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5736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7360" y="243828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57360" y="2274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02080" y="2874960"/>
            <a:ext cx="109440" cy="22716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2"/>
                </a:lnTo>
                <a:lnTo>
                  <a:pt x="38" y="24"/>
                </a:lnTo>
                <a:lnTo>
                  <a:pt x="32" y="17"/>
                </a:lnTo>
                <a:lnTo>
                  <a:pt x="26" y="11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94080" y="2874960"/>
            <a:ext cx="108000" cy="22716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6"/>
                </a:lnTo>
                <a:lnTo>
                  <a:pt x="41" y="11"/>
                </a:lnTo>
                <a:lnTo>
                  <a:pt x="35" y="17"/>
                </a:lnTo>
                <a:lnTo>
                  <a:pt x="30" y="24"/>
                </a:lnTo>
                <a:lnTo>
                  <a:pt x="25" y="32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4080" y="3102120"/>
            <a:ext cx="1440" cy="67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2491920" y="378144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440080" y="3102120"/>
            <a:ext cx="144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440080" y="389412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603520" y="276228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9" y="77"/>
                </a:lnTo>
                <a:lnTo>
                  <a:pt x="72" y="62"/>
                </a:lnTo>
                <a:lnTo>
                  <a:pt x="65" y="48"/>
                </a:lnTo>
                <a:lnTo>
                  <a:pt x="56" y="35"/>
                </a:lnTo>
                <a:lnTo>
                  <a:pt x="48" y="25"/>
                </a:lnTo>
                <a:lnTo>
                  <a:pt x="39" y="16"/>
                </a:lnTo>
                <a:lnTo>
                  <a:pt x="30" y="8"/>
                </a:lnTo>
                <a:lnTo>
                  <a:pt x="20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40080" y="276228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6" y="35"/>
                </a:lnTo>
                <a:lnTo>
                  <a:pt x="37" y="48"/>
                </a:lnTo>
                <a:lnTo>
                  <a:pt x="30" y="62"/>
                </a:lnTo>
                <a:lnTo>
                  <a:pt x="23" y="77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711520" y="321624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2765520" y="309996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2711520" y="310032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278080" y="2874960"/>
            <a:ext cx="109440" cy="22716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5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2"/>
                </a:lnTo>
                <a:lnTo>
                  <a:pt x="37" y="24"/>
                </a:lnTo>
                <a:lnTo>
                  <a:pt x="32" y="17"/>
                </a:lnTo>
                <a:lnTo>
                  <a:pt x="25" y="11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170080" y="2874960"/>
            <a:ext cx="108000" cy="22716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6"/>
                </a:lnTo>
                <a:lnTo>
                  <a:pt x="41" y="11"/>
                </a:lnTo>
                <a:lnTo>
                  <a:pt x="35" y="17"/>
                </a:lnTo>
                <a:lnTo>
                  <a:pt x="30" y="24"/>
                </a:lnTo>
                <a:lnTo>
                  <a:pt x="24" y="32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170080" y="3102120"/>
            <a:ext cx="1800" cy="67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166480" y="378144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116080" y="3102120"/>
            <a:ext cx="18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116080" y="389412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279520" y="276228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9" y="77"/>
                </a:lnTo>
                <a:lnTo>
                  <a:pt x="72" y="62"/>
                </a:lnTo>
                <a:lnTo>
                  <a:pt x="64" y="48"/>
                </a:lnTo>
                <a:lnTo>
                  <a:pt x="56" y="35"/>
                </a:lnTo>
                <a:lnTo>
                  <a:pt x="48" y="25"/>
                </a:lnTo>
                <a:lnTo>
                  <a:pt x="39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116080" y="276228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7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387520" y="321624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2441520" y="309996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2387520" y="3100320"/>
            <a:ext cx="180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657360" y="1142640"/>
            <a:ext cx="178272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40080" y="1143000"/>
            <a:ext cx="178272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981000" y="2274840"/>
            <a:ext cx="2916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406080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4708440" y="5999040"/>
            <a:ext cx="97488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683320" y="5999040"/>
            <a:ext cx="96984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708440" y="4541760"/>
            <a:ext cx="180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708440" y="454176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653160" y="4541760"/>
            <a:ext cx="180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681520" y="4946760"/>
            <a:ext cx="108000" cy="161640"/>
          </a:xfrm>
          <a:custGeom>
            <a:avLst/>
            <a:gdLst/>
            <a:ahLst/>
            <a:rect l="l" t="t" r="r" b="b"/>
            <a:pathLst>
              <a:path w="68" h="102">
                <a:moveTo>
                  <a:pt x="68" y="102"/>
                </a:moveTo>
                <a:lnTo>
                  <a:pt x="67" y="91"/>
                </a:lnTo>
                <a:lnTo>
                  <a:pt x="66" y="81"/>
                </a:lnTo>
                <a:lnTo>
                  <a:pt x="65" y="71"/>
                </a:lnTo>
                <a:lnTo>
                  <a:pt x="61" y="62"/>
                </a:lnTo>
                <a:lnTo>
                  <a:pt x="59" y="53"/>
                </a:lnTo>
                <a:lnTo>
                  <a:pt x="56" y="45"/>
                </a:lnTo>
                <a:lnTo>
                  <a:pt x="52" y="36"/>
                </a:lnTo>
                <a:lnTo>
                  <a:pt x="47" y="30"/>
                </a:lnTo>
                <a:lnTo>
                  <a:pt x="42" y="22"/>
                </a:lnTo>
                <a:lnTo>
                  <a:pt x="37" y="17"/>
                </a:lnTo>
                <a:lnTo>
                  <a:pt x="31" y="12"/>
                </a:lnTo>
                <a:lnTo>
                  <a:pt x="26" y="7"/>
                </a:lnTo>
                <a:lnTo>
                  <a:pt x="19" y="4"/>
                </a:lnTo>
                <a:lnTo>
                  <a:pt x="13" y="1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573880" y="4946760"/>
            <a:ext cx="107640" cy="161640"/>
          </a:xfrm>
          <a:custGeom>
            <a:avLst/>
            <a:gdLst/>
            <a:ahLst/>
            <a:rect l="l" t="t" r="r" b="b"/>
            <a:pathLst>
              <a:path w="68" h="102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4"/>
                </a:lnTo>
                <a:lnTo>
                  <a:pt x="41" y="7"/>
                </a:lnTo>
                <a:lnTo>
                  <a:pt x="34" y="12"/>
                </a:lnTo>
                <a:lnTo>
                  <a:pt x="29" y="17"/>
                </a:lnTo>
                <a:lnTo>
                  <a:pt x="24" y="22"/>
                </a:lnTo>
                <a:lnTo>
                  <a:pt x="19" y="30"/>
                </a:lnTo>
                <a:lnTo>
                  <a:pt x="15" y="36"/>
                </a:lnTo>
                <a:lnTo>
                  <a:pt x="11" y="45"/>
                </a:lnTo>
                <a:lnTo>
                  <a:pt x="7" y="53"/>
                </a:lnTo>
                <a:lnTo>
                  <a:pt x="4" y="62"/>
                </a:lnTo>
                <a:lnTo>
                  <a:pt x="2" y="71"/>
                </a:lnTo>
                <a:lnTo>
                  <a:pt x="1" y="81"/>
                </a:lnTo>
                <a:lnTo>
                  <a:pt x="0" y="91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573880" y="5108400"/>
            <a:ext cx="1440" cy="4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5572080" y="5592600"/>
            <a:ext cx="217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519880" y="5108400"/>
            <a:ext cx="1440" cy="56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19880" y="567216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681520" y="4865760"/>
            <a:ext cx="16200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152"/>
                </a:moveTo>
                <a:lnTo>
                  <a:pt x="101" y="136"/>
                </a:lnTo>
                <a:lnTo>
                  <a:pt x="100" y="121"/>
                </a:lnTo>
                <a:lnTo>
                  <a:pt x="97" y="107"/>
                </a:lnTo>
                <a:lnTo>
                  <a:pt x="94" y="93"/>
                </a:lnTo>
                <a:lnTo>
                  <a:pt x="90" y="80"/>
                </a:lnTo>
                <a:lnTo>
                  <a:pt x="84" y="67"/>
                </a:lnTo>
                <a:lnTo>
                  <a:pt x="79" y="55"/>
                </a:lnTo>
                <a:lnTo>
                  <a:pt x="72" y="44"/>
                </a:lnTo>
                <a:lnTo>
                  <a:pt x="65" y="34"/>
                </a:lnTo>
                <a:lnTo>
                  <a:pt x="56" y="26"/>
                </a:lnTo>
                <a:lnTo>
                  <a:pt x="48" y="18"/>
                </a:lnTo>
                <a:lnTo>
                  <a:pt x="39" y="12"/>
                </a:lnTo>
                <a:lnTo>
                  <a:pt x="30" y="6"/>
                </a:lnTo>
                <a:lnTo>
                  <a:pt x="20" y="2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519880" y="486576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0"/>
                </a:moveTo>
                <a:lnTo>
                  <a:pt x="91" y="0"/>
                </a:lnTo>
                <a:lnTo>
                  <a:pt x="81" y="2"/>
                </a:lnTo>
                <a:lnTo>
                  <a:pt x="72" y="6"/>
                </a:lnTo>
                <a:lnTo>
                  <a:pt x="62" y="12"/>
                </a:lnTo>
                <a:lnTo>
                  <a:pt x="53" y="18"/>
                </a:lnTo>
                <a:lnTo>
                  <a:pt x="45" y="26"/>
                </a:lnTo>
                <a:lnTo>
                  <a:pt x="37" y="34"/>
                </a:lnTo>
                <a:lnTo>
                  <a:pt x="29" y="44"/>
                </a:lnTo>
                <a:lnTo>
                  <a:pt x="23" y="55"/>
                </a:lnTo>
                <a:lnTo>
                  <a:pt x="18" y="67"/>
                </a:lnTo>
                <a:lnTo>
                  <a:pt x="12" y="80"/>
                </a:lnTo>
                <a:lnTo>
                  <a:pt x="8" y="93"/>
                </a:lnTo>
                <a:lnTo>
                  <a:pt x="5" y="107"/>
                </a:lnTo>
                <a:lnTo>
                  <a:pt x="1" y="121"/>
                </a:lnTo>
                <a:lnTo>
                  <a:pt x="0" y="13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89520" y="5189400"/>
            <a:ext cx="180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843520" y="510696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789520" y="5108040"/>
            <a:ext cx="180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681520" y="599904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871520" y="6161040"/>
            <a:ext cx="80964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 flipV="1">
            <a:off x="4708440" y="648504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681520" y="6161040"/>
            <a:ext cx="81144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6492960" y="648504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4708440" y="3409920"/>
            <a:ext cx="973080" cy="113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681520" y="3409920"/>
            <a:ext cx="971640" cy="113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6653160" y="4381200"/>
            <a:ext cx="18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5843160" y="3409560"/>
            <a:ext cx="8096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81520" y="3409920"/>
            <a:ext cx="16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5519520" y="3409920"/>
            <a:ext cx="16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4708440" y="3409920"/>
            <a:ext cx="8114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708440" y="4381560"/>
            <a:ext cx="18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708440" y="4541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708440" y="4703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708440" y="4865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708440" y="502776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708440" y="5189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708440" y="5351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708440" y="5513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708440" y="5675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708440" y="583740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708440" y="5999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708440" y="6161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492960" y="454176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329520" y="4703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492960" y="486576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329520" y="50277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492960" y="5189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329520" y="5351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492960" y="5513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329520" y="5675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92960" y="583740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492960" y="61610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653160" y="4541760"/>
            <a:ext cx="1943280" cy="194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329520" y="5999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8434440" y="454176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71000" y="4703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8434440" y="486576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271000" y="50277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434440" y="5189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271000" y="5351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8434440" y="5513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8271000" y="5675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8434440" y="5837400"/>
            <a:ext cx="160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434440" y="61610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8271000" y="5999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6651720" y="4543200"/>
            <a:ext cx="144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51720" y="4383000"/>
            <a:ext cx="144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651720" y="454356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51720" y="470700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6651720" y="486720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651720" y="503064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651720" y="519120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651720" y="5354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651720" y="5514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651720" y="5676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651720" y="5838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651720" y="6000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651720" y="61628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623000" y="4948200"/>
            <a:ext cx="108000" cy="162000"/>
          </a:xfrm>
          <a:custGeom>
            <a:avLst/>
            <a:gdLst/>
            <a:ahLst/>
            <a:rect l="l" t="t" r="r" b="b"/>
            <a:pathLst>
              <a:path w="68" h="102">
                <a:moveTo>
                  <a:pt x="68" y="102"/>
                </a:moveTo>
                <a:lnTo>
                  <a:pt x="67" y="91"/>
                </a:lnTo>
                <a:lnTo>
                  <a:pt x="66" y="81"/>
                </a:lnTo>
                <a:lnTo>
                  <a:pt x="65" y="71"/>
                </a:lnTo>
                <a:lnTo>
                  <a:pt x="61" y="62"/>
                </a:lnTo>
                <a:lnTo>
                  <a:pt x="59" y="53"/>
                </a:lnTo>
                <a:lnTo>
                  <a:pt x="56" y="45"/>
                </a:lnTo>
                <a:lnTo>
                  <a:pt x="52" y="36"/>
                </a:lnTo>
                <a:lnTo>
                  <a:pt x="47" y="30"/>
                </a:lnTo>
                <a:lnTo>
                  <a:pt x="42" y="22"/>
                </a:lnTo>
                <a:lnTo>
                  <a:pt x="36" y="17"/>
                </a:lnTo>
                <a:lnTo>
                  <a:pt x="31" y="12"/>
                </a:lnTo>
                <a:lnTo>
                  <a:pt x="26" y="7"/>
                </a:lnTo>
                <a:lnTo>
                  <a:pt x="19" y="4"/>
                </a:lnTo>
                <a:lnTo>
                  <a:pt x="13" y="1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515360" y="4948200"/>
            <a:ext cx="107640" cy="162000"/>
          </a:xfrm>
          <a:custGeom>
            <a:avLst/>
            <a:gdLst/>
            <a:ahLst/>
            <a:rect l="l" t="t" r="r" b="b"/>
            <a:pathLst>
              <a:path w="68" h="102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4"/>
                </a:lnTo>
                <a:lnTo>
                  <a:pt x="41" y="7"/>
                </a:lnTo>
                <a:lnTo>
                  <a:pt x="34" y="12"/>
                </a:lnTo>
                <a:lnTo>
                  <a:pt x="29" y="17"/>
                </a:lnTo>
                <a:lnTo>
                  <a:pt x="23" y="22"/>
                </a:lnTo>
                <a:lnTo>
                  <a:pt x="19" y="30"/>
                </a:lnTo>
                <a:lnTo>
                  <a:pt x="15" y="36"/>
                </a:lnTo>
                <a:lnTo>
                  <a:pt x="10" y="45"/>
                </a:lnTo>
                <a:lnTo>
                  <a:pt x="7" y="53"/>
                </a:lnTo>
                <a:lnTo>
                  <a:pt x="4" y="62"/>
                </a:lnTo>
                <a:lnTo>
                  <a:pt x="2" y="71"/>
                </a:lnTo>
                <a:lnTo>
                  <a:pt x="1" y="81"/>
                </a:lnTo>
                <a:lnTo>
                  <a:pt x="0" y="91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515360" y="5110200"/>
            <a:ext cx="1440" cy="4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7513560" y="5594400"/>
            <a:ext cx="21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461360" y="5110200"/>
            <a:ext cx="144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461360" y="567360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623000" y="4867200"/>
            <a:ext cx="16200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152"/>
                </a:moveTo>
                <a:lnTo>
                  <a:pt x="101" y="136"/>
                </a:lnTo>
                <a:lnTo>
                  <a:pt x="100" y="121"/>
                </a:lnTo>
                <a:lnTo>
                  <a:pt x="97" y="107"/>
                </a:lnTo>
                <a:lnTo>
                  <a:pt x="94" y="93"/>
                </a:lnTo>
                <a:lnTo>
                  <a:pt x="89" y="80"/>
                </a:lnTo>
                <a:lnTo>
                  <a:pt x="84" y="67"/>
                </a:lnTo>
                <a:lnTo>
                  <a:pt x="79" y="55"/>
                </a:lnTo>
                <a:lnTo>
                  <a:pt x="72" y="44"/>
                </a:lnTo>
                <a:lnTo>
                  <a:pt x="65" y="35"/>
                </a:lnTo>
                <a:lnTo>
                  <a:pt x="56" y="26"/>
                </a:lnTo>
                <a:lnTo>
                  <a:pt x="48" y="18"/>
                </a:lnTo>
                <a:lnTo>
                  <a:pt x="39" y="12"/>
                </a:lnTo>
                <a:lnTo>
                  <a:pt x="30" y="6"/>
                </a:lnTo>
                <a:lnTo>
                  <a:pt x="20" y="2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461360" y="486720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102" y="0"/>
                </a:moveTo>
                <a:lnTo>
                  <a:pt x="91" y="0"/>
                </a:lnTo>
                <a:lnTo>
                  <a:pt x="81" y="2"/>
                </a:lnTo>
                <a:lnTo>
                  <a:pt x="71" y="6"/>
                </a:lnTo>
                <a:lnTo>
                  <a:pt x="62" y="12"/>
                </a:lnTo>
                <a:lnTo>
                  <a:pt x="53" y="18"/>
                </a:lnTo>
                <a:lnTo>
                  <a:pt x="44" y="26"/>
                </a:lnTo>
                <a:lnTo>
                  <a:pt x="37" y="35"/>
                </a:lnTo>
                <a:lnTo>
                  <a:pt x="29" y="44"/>
                </a:lnTo>
                <a:lnTo>
                  <a:pt x="23" y="55"/>
                </a:lnTo>
                <a:lnTo>
                  <a:pt x="17" y="67"/>
                </a:lnTo>
                <a:lnTo>
                  <a:pt x="12" y="80"/>
                </a:lnTo>
                <a:lnTo>
                  <a:pt x="8" y="93"/>
                </a:lnTo>
                <a:lnTo>
                  <a:pt x="4" y="107"/>
                </a:lnTo>
                <a:lnTo>
                  <a:pt x="1" y="121"/>
                </a:lnTo>
                <a:lnTo>
                  <a:pt x="0" y="13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7731000" y="5191200"/>
            <a:ext cx="180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7785000" y="510840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7731000" y="5109840"/>
            <a:ext cx="180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653160" y="6323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272440" y="632304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65316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15160" y="6323040"/>
            <a:ext cx="1619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843444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596440" y="454176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8758080" y="4703760"/>
            <a:ext cx="1800" cy="16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8596080" y="6323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6653160" y="3409920"/>
            <a:ext cx="971640" cy="113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4800" y="3409920"/>
            <a:ext cx="971640" cy="113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653160" y="4381560"/>
            <a:ext cx="18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321200" y="47484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pel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082160" y="638280"/>
            <a:ext cx="109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nterfront 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278720" y="79704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rmteil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305000" y="4218120"/>
            <a:ext cx="2268360" cy="2266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883520" y="5253120"/>
            <a:ext cx="110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bau einkle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19880" y="979560"/>
            <a:ext cx="2266920" cy="22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518080" y="331920"/>
            <a:ext cx="226692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 flipV="1">
            <a:off x="4981320" y="620280"/>
            <a:ext cx="53964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4981680" y="620640"/>
            <a:ext cx="9360" cy="26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981680" y="3249720"/>
            <a:ext cx="53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5357520" y="331920"/>
            <a:ext cx="1602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357880" y="49536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357880" y="819000"/>
            <a:ext cx="16020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167520" y="3249720"/>
            <a:ext cx="539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7785000" y="620280"/>
            <a:ext cx="54144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317080" y="620640"/>
            <a:ext cx="9360" cy="26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7785000" y="3249720"/>
            <a:ext cx="54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788240" y="33192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950240" y="49536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7788240" y="819000"/>
            <a:ext cx="16200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518080" y="9795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518080" y="114300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518080" y="13032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518080" y="146700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518080" y="1627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18080" y="179064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518080" y="1951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518080" y="211464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518080" y="2274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518080" y="24382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518080" y="2598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518080" y="2762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518080" y="29224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518080" y="3086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7786440" y="819000"/>
            <a:ext cx="16164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462800" y="9795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624800" y="1143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462800" y="13032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624800" y="1467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462800" y="1627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624800" y="179064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462800" y="1951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624800" y="211464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462800" y="2274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624800" y="243828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462800" y="2598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624800" y="2762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7462800" y="29224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624800" y="3086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813720" y="1417680"/>
            <a:ext cx="10944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2"/>
                </a:lnTo>
                <a:lnTo>
                  <a:pt x="53" y="51"/>
                </a:lnTo>
                <a:lnTo>
                  <a:pt x="48" y="42"/>
                </a:lnTo>
                <a:lnTo>
                  <a:pt x="43" y="32"/>
                </a:lnTo>
                <a:lnTo>
                  <a:pt x="38" y="23"/>
                </a:lnTo>
                <a:lnTo>
                  <a:pt x="32" y="17"/>
                </a:lnTo>
                <a:lnTo>
                  <a:pt x="26" y="10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705720" y="1417680"/>
            <a:ext cx="108000" cy="22680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6"/>
                </a:lnTo>
                <a:lnTo>
                  <a:pt x="41" y="10"/>
                </a:lnTo>
                <a:lnTo>
                  <a:pt x="35" y="17"/>
                </a:lnTo>
                <a:lnTo>
                  <a:pt x="30" y="23"/>
                </a:lnTo>
                <a:lnTo>
                  <a:pt x="25" y="32"/>
                </a:lnTo>
                <a:lnTo>
                  <a:pt x="19" y="42"/>
                </a:lnTo>
                <a:lnTo>
                  <a:pt x="15" y="51"/>
                </a:lnTo>
                <a:lnTo>
                  <a:pt x="11" y="62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6705720" y="16444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6703560" y="2322360"/>
            <a:ext cx="219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651720" y="164448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651720" y="2436840"/>
            <a:ext cx="32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815160" y="130320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1" y="191"/>
                </a:lnTo>
                <a:lnTo>
                  <a:pt x="100" y="171"/>
                </a:lnTo>
                <a:lnTo>
                  <a:pt x="97" y="150"/>
                </a:lnTo>
                <a:lnTo>
                  <a:pt x="94" y="131"/>
                </a:lnTo>
                <a:lnTo>
                  <a:pt x="90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0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651720" y="130320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5"/>
                </a:lnTo>
                <a:lnTo>
                  <a:pt x="72" y="9"/>
                </a:lnTo>
                <a:lnTo>
                  <a:pt x="63" y="16"/>
                </a:lnTo>
                <a:lnTo>
                  <a:pt x="53" y="25"/>
                </a:lnTo>
                <a:lnTo>
                  <a:pt x="46" y="36"/>
                </a:lnTo>
                <a:lnTo>
                  <a:pt x="37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1"/>
                </a:lnTo>
                <a:lnTo>
                  <a:pt x="8" y="131"/>
                </a:lnTo>
                <a:lnTo>
                  <a:pt x="5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923160" y="1757520"/>
            <a:ext cx="1440" cy="56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6978600" y="164268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923160" y="1643040"/>
            <a:ext cx="144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489720" y="1417680"/>
            <a:ext cx="10944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2"/>
                </a:lnTo>
                <a:lnTo>
                  <a:pt x="53" y="51"/>
                </a:lnTo>
                <a:lnTo>
                  <a:pt x="48" y="42"/>
                </a:lnTo>
                <a:lnTo>
                  <a:pt x="43" y="32"/>
                </a:lnTo>
                <a:lnTo>
                  <a:pt x="37" y="23"/>
                </a:lnTo>
                <a:lnTo>
                  <a:pt x="32" y="17"/>
                </a:lnTo>
                <a:lnTo>
                  <a:pt x="26" y="10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381720" y="1417680"/>
            <a:ext cx="108000" cy="22680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6"/>
                </a:lnTo>
                <a:lnTo>
                  <a:pt x="41" y="10"/>
                </a:lnTo>
                <a:lnTo>
                  <a:pt x="35" y="17"/>
                </a:lnTo>
                <a:lnTo>
                  <a:pt x="30" y="23"/>
                </a:lnTo>
                <a:lnTo>
                  <a:pt x="24" y="32"/>
                </a:lnTo>
                <a:lnTo>
                  <a:pt x="19" y="42"/>
                </a:lnTo>
                <a:lnTo>
                  <a:pt x="15" y="51"/>
                </a:lnTo>
                <a:lnTo>
                  <a:pt x="10" y="62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381720" y="16444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6380280" y="2322360"/>
            <a:ext cx="218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327720" y="1644480"/>
            <a:ext cx="18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327720" y="2436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491160" y="130320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1"/>
                </a:lnTo>
                <a:lnTo>
                  <a:pt x="97" y="150"/>
                </a:lnTo>
                <a:lnTo>
                  <a:pt x="94" y="131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8" y="25"/>
                </a:lnTo>
                <a:lnTo>
                  <a:pt x="39" y="16"/>
                </a:lnTo>
                <a:lnTo>
                  <a:pt x="30" y="9"/>
                </a:lnTo>
                <a:lnTo>
                  <a:pt x="20" y="5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27720" y="130320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5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599160" y="1757520"/>
            <a:ext cx="1800" cy="56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6653160" y="164268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6599160" y="1643040"/>
            <a:ext cx="180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4870080" y="630360"/>
            <a:ext cx="120600" cy="18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870440" y="819000"/>
            <a:ext cx="1440" cy="226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870440" y="3086280"/>
            <a:ext cx="120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315280" y="630360"/>
            <a:ext cx="119160" cy="18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8434440" y="819000"/>
            <a:ext cx="1440" cy="226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8307000" y="3086280"/>
            <a:ext cx="12708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18080" y="324648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81520" y="3409920"/>
            <a:ext cx="1943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7624800" y="3246480"/>
            <a:ext cx="1602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5357520" y="3246480"/>
            <a:ext cx="1602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5194440" y="3409920"/>
            <a:ext cx="16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 flipV="1">
            <a:off x="5033880" y="3246480"/>
            <a:ext cx="1605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785000" y="324648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948440" y="3409920"/>
            <a:ext cx="160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8109000" y="324648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8132040" y="3110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b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5518080" y="171360"/>
            <a:ext cx="16344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681520" y="171360"/>
            <a:ext cx="1943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624800" y="171360"/>
            <a:ext cx="16020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4222800" y="1951200"/>
            <a:ext cx="1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 flipV="1">
            <a:off x="2763360" y="1142640"/>
            <a:ext cx="1459080" cy="80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2439720" y="114300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2116080" y="114300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657360" y="1143000"/>
            <a:ext cx="1458720" cy="80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57360" y="1951200"/>
            <a:ext cx="1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93600" y="1006560"/>
            <a:ext cx="6405840" cy="465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3336840"/>
            <a:ext cx="6405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886520" y="1486080"/>
            <a:ext cx="66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Kapelle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8035200" y="165564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100480" y="2338560"/>
            <a:ext cx="1971720" cy="1996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 flipH="1">
            <a:off x="447480" y="646200"/>
            <a:ext cx="639720" cy="250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49280" y="3156120"/>
            <a:ext cx="941400" cy="23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1392120" y="723600"/>
            <a:ext cx="12960" cy="266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H="1" flipV="1">
            <a:off x="1085400" y="644040"/>
            <a:ext cx="312840" cy="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890280" y="647640"/>
            <a:ext cx="19692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334440" y="762120"/>
            <a:ext cx="55908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33360" y="2959200"/>
            <a:ext cx="11592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0720" y="3156120"/>
            <a:ext cx="114480" cy="1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1195560" y="3398760"/>
            <a:ext cx="1965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089000" y="331560"/>
            <a:ext cx="795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171440" y="331920"/>
            <a:ext cx="31284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1405080" y="414360"/>
            <a:ext cx="777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407960" y="731880"/>
            <a:ext cx="32256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88960" y="3357720"/>
            <a:ext cx="615960" cy="15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028960" y="650880"/>
            <a:ext cx="639720" cy="25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1725480" y="3162240"/>
            <a:ext cx="94320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 flipV="1">
            <a:off x="1711080" y="728280"/>
            <a:ext cx="1404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716120" y="649440"/>
            <a:ext cx="31428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28960" y="652320"/>
            <a:ext cx="19656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22640" y="768240"/>
            <a:ext cx="558720" cy="21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>
            <a:off x="2666520" y="2963880"/>
            <a:ext cx="1177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2549520" y="3162240"/>
            <a:ext cx="11736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1723680" y="340344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1911240" y="3362400"/>
            <a:ext cx="61776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1419120" y="649440"/>
            <a:ext cx="9540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514520" y="649440"/>
            <a:ext cx="111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625760" y="649440"/>
            <a:ext cx="7776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19360" y="606600"/>
            <a:ext cx="27000" cy="11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1746360" y="563400"/>
            <a:ext cx="179280" cy="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925640" y="563400"/>
            <a:ext cx="111240" cy="9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3039840" y="646200"/>
            <a:ext cx="639720" cy="250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41640" y="3156120"/>
            <a:ext cx="941400" cy="23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3984480" y="723600"/>
            <a:ext cx="12960" cy="266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 flipV="1">
            <a:off x="3677760" y="644040"/>
            <a:ext cx="314280" cy="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3482640" y="647640"/>
            <a:ext cx="19692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927520" y="762120"/>
            <a:ext cx="55872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925720" y="2959200"/>
            <a:ext cx="11592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043080" y="3156120"/>
            <a:ext cx="115920" cy="1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3787920" y="3398760"/>
            <a:ext cx="1965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3681360" y="331560"/>
            <a:ext cx="795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763800" y="331920"/>
            <a:ext cx="31464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H="1">
            <a:off x="3997440" y="414360"/>
            <a:ext cx="7920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000680" y="731880"/>
            <a:ext cx="3222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81320" y="3357720"/>
            <a:ext cx="617400" cy="15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621320" y="650880"/>
            <a:ext cx="639720" cy="25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4317840" y="3162240"/>
            <a:ext cx="94320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 flipV="1">
            <a:off x="4303440" y="728280"/>
            <a:ext cx="1404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4309920" y="649440"/>
            <a:ext cx="31284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621320" y="652320"/>
            <a:ext cx="19836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815000" y="768240"/>
            <a:ext cx="560160" cy="21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5258880" y="2963880"/>
            <a:ext cx="1191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5143320" y="3162240"/>
            <a:ext cx="11556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 flipV="1">
            <a:off x="4316040" y="340344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505040" y="3362400"/>
            <a:ext cx="61740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4013280" y="649440"/>
            <a:ext cx="9360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06880" y="649440"/>
            <a:ext cx="111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218120" y="649440"/>
            <a:ext cx="7776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4313160" y="606600"/>
            <a:ext cx="25560" cy="11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4338720" y="563400"/>
            <a:ext cx="179280" cy="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518000" y="563400"/>
            <a:ext cx="112680" cy="9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633640" y="646200"/>
            <a:ext cx="639720" cy="250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635800" y="3156120"/>
            <a:ext cx="941040" cy="23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6578640" y="723600"/>
            <a:ext cx="11160" cy="266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 flipV="1">
            <a:off x="6270480" y="644040"/>
            <a:ext cx="314640" cy="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6075000" y="64764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5519880" y="762120"/>
            <a:ext cx="55872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518080" y="2959200"/>
            <a:ext cx="11772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637240" y="3156120"/>
            <a:ext cx="114120" cy="1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6381720" y="3398760"/>
            <a:ext cx="19692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6275520" y="331560"/>
            <a:ext cx="777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356520" y="331920"/>
            <a:ext cx="31428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6589800" y="414360"/>
            <a:ext cx="7920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594480" y="731880"/>
            <a:ext cx="3222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773680" y="3357720"/>
            <a:ext cx="617760" cy="15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213680" y="650880"/>
            <a:ext cx="637920" cy="25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6910560" y="3162240"/>
            <a:ext cx="94104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 flipV="1">
            <a:off x="6897600" y="728280"/>
            <a:ext cx="12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6902280" y="649440"/>
            <a:ext cx="312840" cy="7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213680" y="652320"/>
            <a:ext cx="1969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407360" y="768240"/>
            <a:ext cx="558720" cy="21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7849800" y="2963880"/>
            <a:ext cx="1191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7734240" y="3162240"/>
            <a:ext cx="11592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 flipV="1">
            <a:off x="6908400" y="340344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H="1">
            <a:off x="7095960" y="3362400"/>
            <a:ext cx="61776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6605640" y="649440"/>
            <a:ext cx="9504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700680" y="649440"/>
            <a:ext cx="111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811920" y="649440"/>
            <a:ext cx="7632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6905520" y="606600"/>
            <a:ext cx="25560" cy="11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6931080" y="563400"/>
            <a:ext cx="179280" cy="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110360" y="563400"/>
            <a:ext cx="111240" cy="9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 flipV="1">
            <a:off x="974880" y="4054320"/>
            <a:ext cx="251280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732960" y="4056120"/>
            <a:ext cx="243000" cy="94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38360" y="4998960"/>
            <a:ext cx="267156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3409920" y="4692240"/>
            <a:ext cx="7776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370320" y="4495680"/>
            <a:ext cx="11592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 flipV="1">
            <a:off x="1171440" y="3941280"/>
            <a:ext cx="2200320" cy="56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974520" y="3940200"/>
            <a:ext cx="19836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777600" y="4057560"/>
            <a:ext cx="19836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17400" y="4802040"/>
            <a:ext cx="11448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486240" y="4695840"/>
            <a:ext cx="31428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3720600" y="4778280"/>
            <a:ext cx="81000" cy="31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H="1" flipV="1">
            <a:off x="3403440" y="5009760"/>
            <a:ext cx="31608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30080" y="5011560"/>
            <a:ext cx="2671920" cy="322560"/>
          </a:xfrm>
          <a:custGeom>
            <a:avLst/>
            <a:gdLst/>
            <a:ahLst/>
            <a:rect l="l" t="t" r="r" b="b"/>
            <a:pathLst>
              <a:path w="1683" h="203">
                <a:moveTo>
                  <a:pt x="1683" y="1"/>
                </a:moveTo>
                <a:lnTo>
                  <a:pt x="1" y="0"/>
                </a:lnTo>
                <a:lnTo>
                  <a:pt x="0" y="203"/>
                </a:lnTo>
                <a:lnTo>
                  <a:pt x="1682" y="203"/>
                </a:lnTo>
                <a:lnTo>
                  <a:pt x="1683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619200" y="4195800"/>
            <a:ext cx="155520" cy="61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68040" y="5634000"/>
            <a:ext cx="2514600" cy="63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728640" y="5330520"/>
            <a:ext cx="241200" cy="9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731880" y="5317920"/>
            <a:ext cx="26715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403440" y="5322960"/>
            <a:ext cx="79560" cy="31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3363480" y="5634000"/>
            <a:ext cx="11772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1166760" y="5827680"/>
            <a:ext cx="220032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 flipV="1">
            <a:off x="968400" y="6272280"/>
            <a:ext cx="20016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 flipV="1">
            <a:off x="773280" y="6154200"/>
            <a:ext cx="19656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612720" y="5329080"/>
            <a:ext cx="114480" cy="1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H="1" flipV="1">
            <a:off x="615960" y="5516280"/>
            <a:ext cx="15408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406680" y="5025960"/>
            <a:ext cx="7632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483000" y="5119560"/>
            <a:ext cx="144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3389400" y="5232240"/>
            <a:ext cx="95040" cy="7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416400" y="5326200"/>
            <a:ext cx="10944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27280" y="5351400"/>
            <a:ext cx="4140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475080" y="5530680"/>
            <a:ext cx="9504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 flipV="1">
            <a:off x="4908600" y="4009680"/>
            <a:ext cx="2511360" cy="64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4667400" y="4011480"/>
            <a:ext cx="242640" cy="94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672080" y="4954680"/>
            <a:ext cx="267012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7342200" y="4646520"/>
            <a:ext cx="77760" cy="31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H="1" flipV="1">
            <a:off x="7302600" y="4451040"/>
            <a:ext cx="115920" cy="19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H="1" flipV="1">
            <a:off x="5105160" y="3897000"/>
            <a:ext cx="2198520" cy="56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4908240" y="3895560"/>
            <a:ext cx="19836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4712760" y="4013280"/>
            <a:ext cx="19692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51480" y="4757760"/>
            <a:ext cx="11412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418520" y="4651200"/>
            <a:ext cx="314280" cy="7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7652880" y="4732200"/>
            <a:ext cx="81000" cy="3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 flipV="1">
            <a:off x="7335720" y="4965480"/>
            <a:ext cx="316080" cy="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664160" y="4967280"/>
            <a:ext cx="2670120" cy="322200"/>
          </a:xfrm>
          <a:custGeom>
            <a:avLst/>
            <a:gdLst/>
            <a:ahLst/>
            <a:rect l="l" t="t" r="r" b="b"/>
            <a:pathLst>
              <a:path w="1682" h="203">
                <a:moveTo>
                  <a:pt x="1682" y="1"/>
                </a:moveTo>
                <a:lnTo>
                  <a:pt x="1" y="0"/>
                </a:lnTo>
                <a:lnTo>
                  <a:pt x="0" y="203"/>
                </a:lnTo>
                <a:lnTo>
                  <a:pt x="1681" y="203"/>
                </a:lnTo>
                <a:lnTo>
                  <a:pt x="1682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4552920" y="4149720"/>
            <a:ext cx="155520" cy="61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4901760" y="5589720"/>
            <a:ext cx="2513160" cy="63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H="1" flipV="1">
            <a:off x="4662000" y="5286240"/>
            <a:ext cx="243000" cy="9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4665600" y="5271840"/>
            <a:ext cx="267012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335720" y="5278320"/>
            <a:ext cx="79560" cy="31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H="1">
            <a:off x="7296120" y="5589720"/>
            <a:ext cx="117360" cy="19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5100480" y="5783400"/>
            <a:ext cx="219888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 flipV="1">
            <a:off x="4902120" y="6227280"/>
            <a:ext cx="200160" cy="1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 flipV="1">
            <a:off x="4706640" y="6110280"/>
            <a:ext cx="19836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4546440" y="5284440"/>
            <a:ext cx="11448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 flipV="1">
            <a:off x="4549680" y="5472000"/>
            <a:ext cx="154080" cy="61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338960" y="4981680"/>
            <a:ext cx="76320" cy="9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7415280" y="5075280"/>
            <a:ext cx="1440" cy="10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H="1">
            <a:off x="7321680" y="5187960"/>
            <a:ext cx="95040" cy="7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348680" y="5281560"/>
            <a:ext cx="109440" cy="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459560" y="5307120"/>
            <a:ext cx="4140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7407360" y="5486400"/>
            <a:ext cx="9504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801560" y="9586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pel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773120" y="112392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feiler 2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657360" y="2276640"/>
            <a:ext cx="631800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57360" y="2114640"/>
            <a:ext cx="6318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57360" y="1143000"/>
            <a:ext cx="48708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62864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602080" y="1143000"/>
            <a:ext cx="48708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57336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546440" y="1143000"/>
            <a:ext cx="487440" cy="4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51808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49116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57360" y="1627200"/>
            <a:ext cx="6321240" cy="48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978600" y="1143000"/>
            <a:ext cx="15876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6978240" y="6323040"/>
            <a:ext cx="1587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6978600" y="1951200"/>
            <a:ext cx="1587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37360" y="1303200"/>
            <a:ext cx="180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978600" y="2274840"/>
            <a:ext cx="1587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137360" y="2438280"/>
            <a:ext cx="180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95360" y="114300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95360" y="1303200"/>
            <a:ext cx="144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95360" y="195120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95360" y="227484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95360" y="2438280"/>
            <a:ext cx="144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95360" y="6323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57360" y="6485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819000" y="664704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6815160" y="648504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624800" y="2274840"/>
            <a:ext cx="97164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461360" y="1303200"/>
            <a:ext cx="1130040" cy="97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294200" y="4698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uer Tei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624800" y="648504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7785000" y="6647040"/>
            <a:ext cx="649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8434080" y="648324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653160" y="2274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15160" y="24382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653160" y="2598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815160" y="2762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653160" y="292248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815160" y="3086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653160" y="324648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15160" y="3409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653160" y="357012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15160" y="3733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653160" y="3894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15160" y="40575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653160" y="4218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815160" y="43815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53160" y="4541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815160" y="4703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653160" y="4865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815160" y="50277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653160" y="5189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815160" y="5351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653160" y="5513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815160" y="5675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653160" y="583740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815160" y="5999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653160" y="6161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15160" y="6323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653160" y="195120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815160" y="179064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653160" y="162720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57360" y="1951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57360" y="179064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57360" y="1627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57360" y="2274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57360" y="243828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5736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57360" y="2762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736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57360" y="3086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5736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57360" y="3409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5736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57360" y="3733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5736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57360" y="405756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5736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57360" y="438156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5736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57360" y="47037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5736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57360" y="502776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5736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57360" y="5351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73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57360" y="5675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573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57360" y="5999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5736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57360" y="6323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137360" y="2114640"/>
            <a:ext cx="163440" cy="322200"/>
          </a:xfrm>
          <a:custGeom>
            <a:avLst/>
            <a:gdLst/>
            <a:ahLst/>
            <a:rect l="l" t="t" r="r" b="b"/>
            <a:pathLst>
              <a:path w="103" h="203">
                <a:moveTo>
                  <a:pt x="0" y="101"/>
                </a:moveTo>
                <a:lnTo>
                  <a:pt x="51" y="0"/>
                </a:lnTo>
                <a:lnTo>
                  <a:pt x="51" y="50"/>
                </a:lnTo>
                <a:lnTo>
                  <a:pt x="103" y="50"/>
                </a:lnTo>
                <a:lnTo>
                  <a:pt x="103" y="152"/>
                </a:lnTo>
                <a:lnTo>
                  <a:pt x="51" y="152"/>
                </a:lnTo>
                <a:lnTo>
                  <a:pt x="51" y="203"/>
                </a:lnTo>
                <a:lnTo>
                  <a:pt x="0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33360" y="1952640"/>
            <a:ext cx="162000" cy="322200"/>
          </a:xfrm>
          <a:custGeom>
            <a:avLst/>
            <a:gdLst/>
            <a:ahLst/>
            <a:rect l="l" t="t" r="r" b="b"/>
            <a:pathLst>
              <a:path w="102" h="203">
                <a:moveTo>
                  <a:pt x="102" y="102"/>
                </a:moveTo>
                <a:lnTo>
                  <a:pt x="51" y="203"/>
                </a:lnTo>
                <a:lnTo>
                  <a:pt x="51" y="152"/>
                </a:lnTo>
                <a:lnTo>
                  <a:pt x="0" y="152"/>
                </a:lnTo>
                <a:lnTo>
                  <a:pt x="0" y="51"/>
                </a:lnTo>
                <a:lnTo>
                  <a:pt x="51" y="51"/>
                </a:lnTo>
                <a:lnTo>
                  <a:pt x="51" y="0"/>
                </a:lnTo>
                <a:lnTo>
                  <a:pt x="102" y="1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38600" y="225900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n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266240" y="242244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n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340760" y="11271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itenw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657360" y="2276640"/>
            <a:ext cx="6318000" cy="42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>
            <a:off x="6978240" y="6324480"/>
            <a:ext cx="1587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H="1" flipV="1">
            <a:off x="6978240" y="2276280"/>
            <a:ext cx="15876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137360" y="2438280"/>
            <a:ext cx="18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495360" y="2276640"/>
            <a:ext cx="16200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95360" y="2438280"/>
            <a:ext cx="144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5360" y="632448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736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819000" y="664848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815160" y="648648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785000" y="2276640"/>
            <a:ext cx="97308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785000" y="1303200"/>
            <a:ext cx="1135080" cy="97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774560" y="63180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uer Tei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57360" y="1303200"/>
            <a:ext cx="6318000" cy="97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H="1">
            <a:off x="495360" y="1303200"/>
            <a:ext cx="16200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95360" y="1467000"/>
            <a:ext cx="14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95360" y="2112840"/>
            <a:ext cx="16200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978600" y="1306440"/>
            <a:ext cx="158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37360" y="1467000"/>
            <a:ext cx="18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6978240" y="2112840"/>
            <a:ext cx="15876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78680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859608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7948440" y="6648480"/>
            <a:ext cx="648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653160" y="22766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815160" y="2438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653160" y="2600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815160" y="2762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653160" y="2924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815160" y="308628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653160" y="3247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6815160" y="340992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653160" y="3571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815160" y="373392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653160" y="3895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815160" y="4057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653160" y="4219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815160" y="4381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653160" y="454356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815160" y="4705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653160" y="4867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815160" y="5029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653160" y="5191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815160" y="535320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653160" y="5514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815160" y="5676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653160" y="5838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815160" y="6000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6653160" y="61628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815160" y="63244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57360" y="63244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57360" y="616284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57360" y="6000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57360" y="5838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57360" y="5676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57360" y="5514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57360" y="535320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57360" y="5191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57360" y="5029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57360" y="4867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7360" y="4705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57360" y="45435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57360" y="4381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57360" y="4219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57360" y="4057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57360" y="3895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57360" y="373392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57360" y="3571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57360" y="340992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57360" y="3247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57360" y="308628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57360" y="2924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57360" y="2762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57360" y="2600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57360" y="2438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57360" y="227664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657360" y="1142640"/>
            <a:ext cx="1616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819000" y="114300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815160" y="1143000"/>
            <a:ext cx="1634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"/>
          <p:cNvSpPr/>
          <p:nvPr/>
        </p:nvSpPr>
        <p:spPr>
          <a:xfrm>
            <a:off x="7920" y="7920"/>
            <a:ext cx="9621720" cy="679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57360" y="2276640"/>
            <a:ext cx="631800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69080" y="3881520"/>
            <a:ext cx="129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Zugbrücke in Datei Extra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9120" y="4008600"/>
            <a:ext cx="119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benfalls Zwischenw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932920" y="4616280"/>
            <a:ext cx="1770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öcher für das Zugbrückenseil bit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952360" y="4738680"/>
            <a:ext cx="173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vor dem Zusammenbau einstech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57360" y="2114640"/>
            <a:ext cx="6318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57360" y="1143000"/>
            <a:ext cx="48708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62864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602080" y="1143000"/>
            <a:ext cx="48708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57336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546440" y="1143000"/>
            <a:ext cx="487440" cy="4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51808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491160" y="1143000"/>
            <a:ext cx="48744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657360" y="1627200"/>
            <a:ext cx="6321240" cy="48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978600" y="1143000"/>
            <a:ext cx="15876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6978240" y="6323040"/>
            <a:ext cx="1587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6978600" y="1951200"/>
            <a:ext cx="1587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137360" y="1303200"/>
            <a:ext cx="180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978600" y="2274840"/>
            <a:ext cx="1587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137360" y="2438280"/>
            <a:ext cx="180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495360" y="114300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95360" y="1303200"/>
            <a:ext cx="144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5360" y="195120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495360" y="227484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95360" y="2438280"/>
            <a:ext cx="144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95360" y="6323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57360" y="6485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819000" y="664704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6815160" y="648504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624800" y="2274840"/>
            <a:ext cx="97164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461360" y="1303200"/>
            <a:ext cx="1130040" cy="97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602080" y="4541760"/>
            <a:ext cx="144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2602080" y="421776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94440" y="4218120"/>
            <a:ext cx="144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2602080" y="3570120"/>
            <a:ext cx="64764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546440" y="3570120"/>
            <a:ext cx="64800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249720" y="3570120"/>
            <a:ext cx="1296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2278080" y="4217760"/>
            <a:ext cx="144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V="1">
            <a:off x="2278080" y="3246120"/>
            <a:ext cx="9716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49720" y="3246480"/>
            <a:ext cx="129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546440" y="3246480"/>
            <a:ext cx="9716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518080" y="4218120"/>
            <a:ext cx="180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78080" y="616104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278080" y="583740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278080" y="551340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78080" y="518940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278080" y="486576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278080" y="454176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278080" y="421812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49720" y="324648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46440" y="324648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194440" y="42181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194440" y="454176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194440" y="486576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194440" y="518940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194440" y="551340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194440" y="583740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194440" y="616104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573360" y="324648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97360" y="324648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222800" y="324648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249720" y="3570120"/>
            <a:ext cx="16344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413160" y="3733920"/>
            <a:ext cx="97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4384800" y="3569760"/>
            <a:ext cx="16164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249720" y="3570120"/>
            <a:ext cx="144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602080" y="4218120"/>
            <a:ext cx="16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2763720" y="3733560"/>
            <a:ext cx="486000" cy="4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546440" y="3570120"/>
            <a:ext cx="180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5033880" y="4218120"/>
            <a:ext cx="160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546440" y="3733920"/>
            <a:ext cx="487440" cy="4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602080" y="4218120"/>
            <a:ext cx="1616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763720" y="4381560"/>
            <a:ext cx="1800" cy="194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H="1">
            <a:off x="2601720" y="6323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H="1">
            <a:off x="5033880" y="4218120"/>
            <a:ext cx="16056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33880" y="4381560"/>
            <a:ext cx="1800" cy="194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033880" y="6323040"/>
            <a:ext cx="1605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653160" y="2274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815160" y="24382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653160" y="259884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815160" y="2762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653160" y="292248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815160" y="30862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653160" y="324648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815160" y="3409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6653160" y="3570120"/>
            <a:ext cx="3254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815160" y="373392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653160" y="3894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815160" y="40575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6653160" y="421812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815160" y="43815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653160" y="4541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815160" y="4703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653160" y="4865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15160" y="50277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653160" y="5189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815160" y="5351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653160" y="5513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815160" y="5675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653160" y="583740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815160" y="5999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653160" y="6161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815160" y="63230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6653160" y="1951200"/>
            <a:ext cx="325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815160" y="179064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653160" y="1627200"/>
            <a:ext cx="162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57360" y="1627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57360" y="179064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57360" y="1951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57360" y="2274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57360" y="243828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5736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57360" y="2762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95360" y="3086280"/>
            <a:ext cx="1440" cy="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65736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57360" y="3086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65736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57360" y="3409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5736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657360" y="3733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5736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57360" y="405756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65736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57360" y="438156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5736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57360" y="47037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5736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57360" y="502776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5736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57360" y="5351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73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57360" y="5675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573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57360" y="5999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5736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57360" y="6323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33360" y="1952640"/>
            <a:ext cx="160200" cy="322200"/>
          </a:xfrm>
          <a:custGeom>
            <a:avLst/>
            <a:gdLst/>
            <a:ahLst/>
            <a:rect l="l" t="t" r="r" b="b"/>
            <a:pathLst>
              <a:path w="101" h="203">
                <a:moveTo>
                  <a:pt x="101" y="102"/>
                </a:moveTo>
                <a:lnTo>
                  <a:pt x="50" y="203"/>
                </a:lnTo>
                <a:lnTo>
                  <a:pt x="50" y="152"/>
                </a:lnTo>
                <a:lnTo>
                  <a:pt x="0" y="152"/>
                </a:lnTo>
                <a:lnTo>
                  <a:pt x="0" y="51"/>
                </a:lnTo>
                <a:lnTo>
                  <a:pt x="50" y="51"/>
                </a:lnTo>
                <a:lnTo>
                  <a:pt x="50" y="0"/>
                </a:lnTo>
                <a:lnTo>
                  <a:pt x="101" y="1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38600" y="177480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n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139160" y="2112840"/>
            <a:ext cx="161640" cy="322560"/>
          </a:xfrm>
          <a:custGeom>
            <a:avLst/>
            <a:gdLst/>
            <a:ahLst/>
            <a:rect l="l" t="t" r="r" b="b"/>
            <a:pathLst>
              <a:path w="102" h="203">
                <a:moveTo>
                  <a:pt x="0" y="101"/>
                </a:moveTo>
                <a:lnTo>
                  <a:pt x="51" y="0"/>
                </a:lnTo>
                <a:lnTo>
                  <a:pt x="51" y="50"/>
                </a:lnTo>
                <a:lnTo>
                  <a:pt x="102" y="50"/>
                </a:lnTo>
                <a:lnTo>
                  <a:pt x="102" y="152"/>
                </a:lnTo>
                <a:lnTo>
                  <a:pt x="51" y="152"/>
                </a:lnTo>
                <a:lnTo>
                  <a:pt x="51" y="203"/>
                </a:lnTo>
                <a:lnTo>
                  <a:pt x="0" y="10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266240" y="242244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n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30840" y="63504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r Tei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7567920" y="9651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itenw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836480" y="10810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624800" y="648504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785000" y="6647040"/>
            <a:ext cx="649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843444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227560" y="4216320"/>
            <a:ext cx="6840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2"/>
                </a:moveTo>
                <a:lnTo>
                  <a:pt x="42" y="29"/>
                </a:lnTo>
                <a:lnTo>
                  <a:pt x="40" y="34"/>
                </a:lnTo>
                <a:lnTo>
                  <a:pt x="34" y="40"/>
                </a:lnTo>
                <a:lnTo>
                  <a:pt x="29" y="42"/>
                </a:lnTo>
                <a:lnTo>
                  <a:pt x="21" y="43"/>
                </a:lnTo>
                <a:lnTo>
                  <a:pt x="15" y="42"/>
                </a:lnTo>
                <a:lnTo>
                  <a:pt x="9" y="40"/>
                </a:lnTo>
                <a:lnTo>
                  <a:pt x="4" y="34"/>
                </a:lnTo>
                <a:lnTo>
                  <a:pt x="1" y="29"/>
                </a:lnTo>
                <a:lnTo>
                  <a:pt x="0" y="22"/>
                </a:lnTo>
                <a:lnTo>
                  <a:pt x="1" y="15"/>
                </a:lnTo>
                <a:lnTo>
                  <a:pt x="4" y="10"/>
                </a:lnTo>
                <a:lnTo>
                  <a:pt x="9" y="4"/>
                </a:lnTo>
                <a:lnTo>
                  <a:pt x="15" y="1"/>
                </a:lnTo>
                <a:lnTo>
                  <a:pt x="21" y="0"/>
                </a:lnTo>
                <a:lnTo>
                  <a:pt x="29" y="1"/>
                </a:lnTo>
                <a:lnTo>
                  <a:pt x="34" y="4"/>
                </a:lnTo>
                <a:lnTo>
                  <a:pt x="40" y="10"/>
                </a:lnTo>
                <a:lnTo>
                  <a:pt x="42" y="15"/>
                </a:lnTo>
                <a:lnTo>
                  <a:pt x="43" y="22"/>
                </a:lnTo>
                <a:lnTo>
                  <a:pt x="4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502000" y="420840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1"/>
                </a:moveTo>
                <a:lnTo>
                  <a:pt x="42" y="29"/>
                </a:lnTo>
                <a:lnTo>
                  <a:pt x="39" y="34"/>
                </a:lnTo>
                <a:lnTo>
                  <a:pt x="35" y="39"/>
                </a:lnTo>
                <a:lnTo>
                  <a:pt x="28" y="42"/>
                </a:lnTo>
                <a:lnTo>
                  <a:pt x="22" y="43"/>
                </a:lnTo>
                <a:lnTo>
                  <a:pt x="15" y="42"/>
                </a:lnTo>
                <a:lnTo>
                  <a:pt x="9" y="39"/>
                </a:lnTo>
                <a:lnTo>
                  <a:pt x="4" y="34"/>
                </a:lnTo>
                <a:lnTo>
                  <a:pt x="1" y="29"/>
                </a:lnTo>
                <a:lnTo>
                  <a:pt x="0" y="21"/>
                </a:lnTo>
                <a:lnTo>
                  <a:pt x="1" y="15"/>
                </a:lnTo>
                <a:lnTo>
                  <a:pt x="4" y="9"/>
                </a:lnTo>
                <a:lnTo>
                  <a:pt x="9" y="4"/>
                </a:lnTo>
                <a:lnTo>
                  <a:pt x="15" y="1"/>
                </a:lnTo>
                <a:lnTo>
                  <a:pt x="22" y="0"/>
                </a:lnTo>
                <a:lnTo>
                  <a:pt x="28" y="1"/>
                </a:lnTo>
                <a:lnTo>
                  <a:pt x="34" y="4"/>
                </a:lnTo>
                <a:lnTo>
                  <a:pt x="39" y="9"/>
                </a:lnTo>
                <a:lnTo>
                  <a:pt x="42" y="15"/>
                </a:lnTo>
                <a:lnTo>
                  <a:pt x="43" y="21"/>
                </a:lnTo>
                <a:lnTo>
                  <a:pt x="43" y="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6200000">
            <a:off x="1545480" y="4807440"/>
            <a:ext cx="110880" cy="227160"/>
          </a:xfrm>
          <a:custGeom>
            <a:avLst/>
            <a:gdLst/>
            <a:ahLst/>
            <a:rect l="l" t="t" r="r" b="b"/>
            <a:pathLst>
              <a:path w="70" h="143">
                <a:moveTo>
                  <a:pt x="70" y="143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4" y="87"/>
                </a:lnTo>
                <a:lnTo>
                  <a:pt x="61" y="74"/>
                </a:lnTo>
                <a:lnTo>
                  <a:pt x="57" y="62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546200" y="4916160"/>
            <a:ext cx="109440" cy="22716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14680" y="508320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000" y="486576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14680" y="5137200"/>
            <a:ext cx="79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08120" y="4809960"/>
            <a:ext cx="1800" cy="33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460160" y="472212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214"/>
                </a:moveTo>
                <a:lnTo>
                  <a:pt x="103" y="192"/>
                </a:lnTo>
                <a:lnTo>
                  <a:pt x="102" y="171"/>
                </a:lnTo>
                <a:lnTo>
                  <a:pt x="99" y="151"/>
                </a:lnTo>
                <a:lnTo>
                  <a:pt x="95" y="131"/>
                </a:lnTo>
                <a:lnTo>
                  <a:pt x="91" y="112"/>
                </a:lnTo>
                <a:lnTo>
                  <a:pt x="86" y="94"/>
                </a:lnTo>
                <a:lnTo>
                  <a:pt x="80" y="78"/>
                </a:lnTo>
                <a:lnTo>
                  <a:pt x="74" y="63"/>
                </a:lnTo>
                <a:lnTo>
                  <a:pt x="66" y="49"/>
                </a:lnTo>
                <a:lnTo>
                  <a:pt x="57" y="36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5"/>
                </a:lnTo>
                <a:lnTo>
                  <a:pt x="10" y="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460160" y="488736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0"/>
                </a:moveTo>
                <a:lnTo>
                  <a:pt x="93" y="2"/>
                </a:lnTo>
                <a:lnTo>
                  <a:pt x="82" y="5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6"/>
                </a:lnTo>
                <a:lnTo>
                  <a:pt x="38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2"/>
                </a:lnTo>
                <a:lnTo>
                  <a:pt x="8" y="131"/>
                </a:lnTo>
                <a:lnTo>
                  <a:pt x="5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486252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712520" y="480708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712880" y="486252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3463920" y="595080"/>
            <a:ext cx="2954520" cy="842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6286680"/>
            <a:ext cx="163440" cy="16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90640" y="6450120"/>
            <a:ext cx="340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92640" y="6450120"/>
            <a:ext cx="4701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994600" y="6287760"/>
            <a:ext cx="16056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9155160" y="6122520"/>
            <a:ext cx="16344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9155160" y="38052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66640" y="6122520"/>
            <a:ext cx="16056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8440" y="3497040"/>
            <a:ext cx="1440" cy="26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8440" y="3331800"/>
            <a:ext cx="16020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68080" y="317016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68440" y="544320"/>
            <a:ext cx="1440" cy="26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68440" y="379080"/>
            <a:ext cx="16020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318600" y="3498840"/>
            <a:ext cx="1440" cy="262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9155160" y="3333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155160" y="3171600"/>
            <a:ext cx="16344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318600" y="546120"/>
            <a:ext cx="1440" cy="262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168720" y="20174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4" y="87"/>
                </a:lnTo>
                <a:lnTo>
                  <a:pt x="61" y="74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3169440" y="21261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38640" y="2293920"/>
            <a:ext cx="677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16520" y="207648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38640" y="23479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30640" y="202068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083760" y="1934280"/>
            <a:ext cx="16488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213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6" y="94"/>
                </a:lnTo>
                <a:lnTo>
                  <a:pt x="80" y="77"/>
                </a:lnTo>
                <a:lnTo>
                  <a:pt x="74" y="62"/>
                </a:lnTo>
                <a:lnTo>
                  <a:pt x="66" y="48"/>
                </a:lnTo>
                <a:lnTo>
                  <a:pt x="57" y="35"/>
                </a:lnTo>
                <a:lnTo>
                  <a:pt x="50" y="24"/>
                </a:lnTo>
                <a:lnTo>
                  <a:pt x="40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083760" y="2099160"/>
            <a:ext cx="16524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8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51320" y="207288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335040" y="201780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335400" y="2072880"/>
            <a:ext cx="11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549440" y="44780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9"/>
                </a:lnTo>
                <a:lnTo>
                  <a:pt x="68" y="114"/>
                </a:lnTo>
                <a:lnTo>
                  <a:pt x="67" y="100"/>
                </a:lnTo>
                <a:lnTo>
                  <a:pt x="63" y="87"/>
                </a:lnTo>
                <a:lnTo>
                  <a:pt x="61" y="75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50160" y="458676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19360" y="4754160"/>
            <a:ext cx="677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7240" y="453708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719360" y="48085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1360" y="448128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465200" y="4394160"/>
            <a:ext cx="164880" cy="33948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214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5" y="94"/>
                </a:lnTo>
                <a:lnTo>
                  <a:pt x="80" y="77"/>
                </a:lnTo>
                <a:lnTo>
                  <a:pt x="73" y="62"/>
                </a:lnTo>
                <a:lnTo>
                  <a:pt x="66" y="48"/>
                </a:lnTo>
                <a:lnTo>
                  <a:pt x="57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465200" y="4559040"/>
            <a:ext cx="165240" cy="33948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7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832040" y="453348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717200" y="447840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717560" y="4533480"/>
            <a:ext cx="114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168720" y="168876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169440" y="179748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38640" y="1964880"/>
            <a:ext cx="677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6520" y="174780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38640" y="201888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30640" y="169200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3083760" y="1605600"/>
            <a:ext cx="16488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213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5" y="94"/>
                </a:lnTo>
                <a:lnTo>
                  <a:pt x="80" y="77"/>
                </a:lnTo>
                <a:lnTo>
                  <a:pt x="73" y="62"/>
                </a:lnTo>
                <a:lnTo>
                  <a:pt x="66" y="48"/>
                </a:lnTo>
                <a:lnTo>
                  <a:pt x="57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83760" y="1770480"/>
            <a:ext cx="16524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7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51320" y="174420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335040" y="168912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335400" y="1744200"/>
            <a:ext cx="11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26040" y="4501440"/>
            <a:ext cx="328680" cy="293760"/>
          </a:xfrm>
          <a:custGeom>
            <a:avLst/>
            <a:gdLst/>
            <a:ahLst/>
            <a:rect l="l" t="t" r="r" b="b"/>
            <a:pathLst>
              <a:path w="207" h="185">
                <a:moveTo>
                  <a:pt x="207" y="185"/>
                </a:moveTo>
                <a:lnTo>
                  <a:pt x="206" y="165"/>
                </a:lnTo>
                <a:lnTo>
                  <a:pt x="202" y="147"/>
                </a:lnTo>
                <a:lnTo>
                  <a:pt x="197" y="130"/>
                </a:lnTo>
                <a:lnTo>
                  <a:pt x="189" y="112"/>
                </a:lnTo>
                <a:lnTo>
                  <a:pt x="180" y="96"/>
                </a:lnTo>
                <a:lnTo>
                  <a:pt x="171" y="81"/>
                </a:lnTo>
                <a:lnTo>
                  <a:pt x="159" y="67"/>
                </a:lnTo>
                <a:lnTo>
                  <a:pt x="145" y="54"/>
                </a:lnTo>
                <a:lnTo>
                  <a:pt x="130" y="42"/>
                </a:lnTo>
                <a:lnTo>
                  <a:pt x="115" y="31"/>
                </a:lnTo>
                <a:lnTo>
                  <a:pt x="97" y="21"/>
                </a:lnTo>
                <a:lnTo>
                  <a:pt x="79" y="14"/>
                </a:lnTo>
                <a:lnTo>
                  <a:pt x="60" y="7"/>
                </a:lnTo>
                <a:lnTo>
                  <a:pt x="40" y="3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826040" y="4830120"/>
            <a:ext cx="328680" cy="293760"/>
          </a:xfrm>
          <a:custGeom>
            <a:avLst/>
            <a:gdLst/>
            <a:ahLst/>
            <a:rect l="l" t="t" r="r" b="b"/>
            <a:pathLst>
              <a:path w="207" h="185">
                <a:moveTo>
                  <a:pt x="207" y="0"/>
                </a:moveTo>
                <a:lnTo>
                  <a:pt x="185" y="0"/>
                </a:lnTo>
                <a:lnTo>
                  <a:pt x="165" y="3"/>
                </a:lnTo>
                <a:lnTo>
                  <a:pt x="146" y="7"/>
                </a:lnTo>
                <a:lnTo>
                  <a:pt x="127" y="14"/>
                </a:lnTo>
                <a:lnTo>
                  <a:pt x="108" y="21"/>
                </a:lnTo>
                <a:lnTo>
                  <a:pt x="91" y="31"/>
                </a:lnTo>
                <a:lnTo>
                  <a:pt x="76" y="42"/>
                </a:lnTo>
                <a:lnTo>
                  <a:pt x="60" y="54"/>
                </a:lnTo>
                <a:lnTo>
                  <a:pt x="47" y="67"/>
                </a:lnTo>
                <a:lnTo>
                  <a:pt x="35" y="81"/>
                </a:lnTo>
                <a:lnTo>
                  <a:pt x="25" y="96"/>
                </a:lnTo>
                <a:lnTo>
                  <a:pt x="17" y="112"/>
                </a:lnTo>
                <a:lnTo>
                  <a:pt x="9" y="130"/>
                </a:lnTo>
                <a:lnTo>
                  <a:pt x="3" y="147"/>
                </a:lnTo>
                <a:lnTo>
                  <a:pt x="0" y="16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37440" y="5140440"/>
            <a:ext cx="87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10800" y="448632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137440" y="5300640"/>
            <a:ext cx="1017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155160" y="4319280"/>
            <a:ext cx="144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7670880" y="4347720"/>
            <a:ext cx="492120" cy="438120"/>
          </a:xfrm>
          <a:custGeom>
            <a:avLst/>
            <a:gdLst/>
            <a:ahLst/>
            <a:rect l="l" t="t" r="r" b="b"/>
            <a:pathLst>
              <a:path w="310" h="276">
                <a:moveTo>
                  <a:pt x="310" y="276"/>
                </a:moveTo>
                <a:lnTo>
                  <a:pt x="307" y="247"/>
                </a:lnTo>
                <a:lnTo>
                  <a:pt x="303" y="219"/>
                </a:lnTo>
                <a:lnTo>
                  <a:pt x="295" y="193"/>
                </a:lnTo>
                <a:lnTo>
                  <a:pt x="284" y="169"/>
                </a:lnTo>
                <a:lnTo>
                  <a:pt x="271" y="144"/>
                </a:lnTo>
                <a:lnTo>
                  <a:pt x="256" y="121"/>
                </a:lnTo>
                <a:lnTo>
                  <a:pt x="237" y="100"/>
                </a:lnTo>
                <a:lnTo>
                  <a:pt x="218" y="81"/>
                </a:lnTo>
                <a:lnTo>
                  <a:pt x="196" y="63"/>
                </a:lnTo>
                <a:lnTo>
                  <a:pt x="172" y="46"/>
                </a:lnTo>
                <a:lnTo>
                  <a:pt x="147" y="32"/>
                </a:lnTo>
                <a:lnTo>
                  <a:pt x="119" y="22"/>
                </a:lnTo>
                <a:lnTo>
                  <a:pt x="91" y="12"/>
                </a:lnTo>
                <a:lnTo>
                  <a:pt x="61" y="5"/>
                </a:lnTo>
                <a:lnTo>
                  <a:pt x="31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7671600" y="4837680"/>
            <a:ext cx="490320" cy="438120"/>
          </a:xfrm>
          <a:custGeom>
            <a:avLst/>
            <a:gdLst/>
            <a:ahLst/>
            <a:rect l="l" t="t" r="r" b="b"/>
            <a:pathLst>
              <a:path w="309" h="276">
                <a:moveTo>
                  <a:pt x="309" y="0"/>
                </a:moveTo>
                <a:lnTo>
                  <a:pt x="277" y="1"/>
                </a:lnTo>
                <a:lnTo>
                  <a:pt x="247" y="5"/>
                </a:lnTo>
                <a:lnTo>
                  <a:pt x="217" y="12"/>
                </a:lnTo>
                <a:lnTo>
                  <a:pt x="189" y="22"/>
                </a:lnTo>
                <a:lnTo>
                  <a:pt x="161" y="32"/>
                </a:lnTo>
                <a:lnTo>
                  <a:pt x="136" y="46"/>
                </a:lnTo>
                <a:lnTo>
                  <a:pt x="112" y="63"/>
                </a:lnTo>
                <a:lnTo>
                  <a:pt x="90" y="81"/>
                </a:lnTo>
                <a:lnTo>
                  <a:pt x="71" y="100"/>
                </a:lnTo>
                <a:lnTo>
                  <a:pt x="53" y="121"/>
                </a:lnTo>
                <a:lnTo>
                  <a:pt x="38" y="144"/>
                </a:lnTo>
                <a:lnTo>
                  <a:pt x="25" y="169"/>
                </a:lnTo>
                <a:lnTo>
                  <a:pt x="14" y="193"/>
                </a:lnTo>
                <a:lnTo>
                  <a:pt x="6" y="219"/>
                </a:lnTo>
                <a:lnTo>
                  <a:pt x="2" y="247"/>
                </a:lnTo>
                <a:lnTo>
                  <a:pt x="0" y="2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82160" y="4483080"/>
            <a:ext cx="728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8135640" y="4317480"/>
            <a:ext cx="1019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8136000" y="4483080"/>
            <a:ext cx="14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64368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8888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96732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12132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292040" y="6041520"/>
            <a:ext cx="3286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15372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161676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86120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4148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18592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2651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50956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5891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83428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91384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579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2374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4819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356220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8066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388620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1306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420984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4550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8096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808560" y="3252960"/>
            <a:ext cx="327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8046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133280" y="3252240"/>
            <a:ext cx="327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11293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4558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14533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177948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177804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210420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21016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42820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4256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275292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750400" y="3251880"/>
            <a:ext cx="65556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0765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0740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34005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39876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7249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372276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0489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40464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43736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3711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469728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69476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453456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77900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85820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51026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51829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50212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50194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64440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889560" y="38124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9680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1214280" y="3805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12927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15364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16167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86048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94148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218520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2651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50884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5891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83356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913840" y="46260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1572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2374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4812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56220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8059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88620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1299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42098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4542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5345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77828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85820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1019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51829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42736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55069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75136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583056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60757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61552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3997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64792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672372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680400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70484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712764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737208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7451640" y="604368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76968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777636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80204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8100360" y="604440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83444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84247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866916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874836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899280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534600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53434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5670360" y="3254400"/>
            <a:ext cx="3254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66712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59943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9918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63183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63158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664200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664056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69667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69642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729072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72882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76154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7612920" y="3251880"/>
            <a:ext cx="65556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79390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793656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82630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82612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858744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858492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891144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542664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55069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575064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583056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60750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61552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63990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4792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672300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680400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0477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71276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737136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74516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76960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7776360" y="46260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80197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810000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83437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4247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866844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874836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99208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464640" y="-2356560"/>
            <a:ext cx="2952720" cy="842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8181720" y="51397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8506440" y="51390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8830080" y="51390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8181720" y="43189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8506440" y="43182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8830080" y="43182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697880" y="4808520"/>
            <a:ext cx="16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994600" y="4971600"/>
            <a:ext cx="160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994600" y="4642920"/>
            <a:ext cx="160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-642600" y="1876320"/>
            <a:ext cx="225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Grosser Turm 1 (2x druck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"/>
          <p:cNvSpPr/>
          <p:nvPr/>
        </p:nvSpPr>
        <p:spPr>
          <a:xfrm>
            <a:off x="7920" y="7920"/>
            <a:ext cx="9621720" cy="679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657360" y="2276640"/>
            <a:ext cx="6321240" cy="42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6978240" y="6324480"/>
            <a:ext cx="1587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 flipV="1">
            <a:off x="6978240" y="2276280"/>
            <a:ext cx="15876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137360" y="2438280"/>
            <a:ext cx="18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495360" y="227664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95360" y="2438280"/>
            <a:ext cx="144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360" y="632448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65736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19000" y="664848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V="1">
            <a:off x="6815160" y="648648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785000" y="2276640"/>
            <a:ext cx="973080" cy="420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785000" y="1303200"/>
            <a:ext cx="1135080" cy="97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89840" y="289080"/>
            <a:ext cx="13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or Teil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57360" y="1303200"/>
            <a:ext cx="6318000" cy="97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95360" y="1467000"/>
            <a:ext cx="14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95360" y="2112840"/>
            <a:ext cx="16200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137360" y="1467000"/>
            <a:ext cx="18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6978240" y="2112840"/>
            <a:ext cx="15876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785000" y="648648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H="1">
            <a:off x="8596080" y="648648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7948440" y="6648480"/>
            <a:ext cx="648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438280" y="4543560"/>
            <a:ext cx="180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2438280" y="421956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030640" y="4219560"/>
            <a:ext cx="180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2438280" y="3571560"/>
            <a:ext cx="6480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383000" y="3571920"/>
            <a:ext cx="647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3086280" y="3571920"/>
            <a:ext cx="129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2114640" y="4219200"/>
            <a:ext cx="144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2114640" y="3247560"/>
            <a:ext cx="97164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086280" y="3247920"/>
            <a:ext cx="1296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383000" y="3247920"/>
            <a:ext cx="97308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356080" y="4219560"/>
            <a:ext cx="180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2114640" y="616284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114640" y="583884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114640" y="551484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114640" y="519120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114640" y="486720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114640" y="454356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114640" y="421956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086280" y="324792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4383000" y="324792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030640" y="421956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030640" y="454356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030640" y="486720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030640" y="519120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030640" y="551484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030640" y="583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030640" y="6162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411360" y="324792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735360" y="324792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059360" y="324792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086280" y="357192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49720" y="3733920"/>
            <a:ext cx="97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4222800" y="357192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086280" y="3571920"/>
            <a:ext cx="1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438280" y="4219560"/>
            <a:ext cx="16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2602080" y="3733560"/>
            <a:ext cx="48420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383000" y="3571920"/>
            <a:ext cx="1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4870080" y="4219560"/>
            <a:ext cx="16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383000" y="3733920"/>
            <a:ext cx="48744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438280" y="4219560"/>
            <a:ext cx="163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602080" y="4381560"/>
            <a:ext cx="144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2437920" y="6324480"/>
            <a:ext cx="1638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H="1">
            <a:off x="4870080" y="421956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4870440" y="4381560"/>
            <a:ext cx="144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870440" y="632448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6653160" y="22766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815160" y="2438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653160" y="2600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815160" y="27622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653160" y="292428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815160" y="308628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653160" y="3247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815160" y="340992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653160" y="357192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815160" y="373392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653160" y="3895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815160" y="4057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6653160" y="42195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6815160" y="43815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6653160" y="454356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815160" y="4705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653160" y="4867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815160" y="50292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6653160" y="51912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815160" y="535320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6653160" y="5514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6815160" y="5676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6653160" y="58388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815160" y="60008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653160" y="616284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815160" y="632448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57360" y="63244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7360" y="616284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57360" y="6000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57360" y="5838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57360" y="56768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657360" y="5514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657360" y="535320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57360" y="5191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57360" y="5029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57360" y="48672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57360" y="47052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657360" y="45435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657360" y="4381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57360" y="4219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57360" y="40575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57360" y="38955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57360" y="373392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57360" y="3571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57360" y="340992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57360" y="324792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57360" y="308628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57360" y="2924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57360" y="2762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57360" y="260028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57360" y="243828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57360" y="2276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819000" y="1143000"/>
            <a:ext cx="599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815160" y="114300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H="1">
            <a:off x="495000" y="1143000"/>
            <a:ext cx="3236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978600" y="1303200"/>
            <a:ext cx="15876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663320" y="9651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itenw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65560" y="42339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43" y="22"/>
                </a:moveTo>
                <a:lnTo>
                  <a:pt x="42" y="29"/>
                </a:lnTo>
                <a:lnTo>
                  <a:pt x="40" y="35"/>
                </a:lnTo>
                <a:lnTo>
                  <a:pt x="35" y="40"/>
                </a:lnTo>
                <a:lnTo>
                  <a:pt x="29" y="42"/>
                </a:lnTo>
                <a:lnTo>
                  <a:pt x="22" y="44"/>
                </a:lnTo>
                <a:lnTo>
                  <a:pt x="15" y="42"/>
                </a:lnTo>
                <a:lnTo>
                  <a:pt x="10" y="40"/>
                </a:lnTo>
                <a:lnTo>
                  <a:pt x="4" y="35"/>
                </a:lnTo>
                <a:lnTo>
                  <a:pt x="1" y="29"/>
                </a:lnTo>
                <a:lnTo>
                  <a:pt x="0" y="22"/>
                </a:lnTo>
                <a:lnTo>
                  <a:pt x="1" y="15"/>
                </a:lnTo>
                <a:lnTo>
                  <a:pt x="4" y="10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lnTo>
                  <a:pt x="29" y="1"/>
                </a:lnTo>
                <a:lnTo>
                  <a:pt x="35" y="5"/>
                </a:lnTo>
                <a:lnTo>
                  <a:pt x="40" y="10"/>
                </a:lnTo>
                <a:lnTo>
                  <a:pt x="42" y="15"/>
                </a:lnTo>
                <a:lnTo>
                  <a:pt x="43" y="22"/>
                </a:lnTo>
                <a:lnTo>
                  <a:pt x="4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324160" y="422604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2"/>
                </a:moveTo>
                <a:lnTo>
                  <a:pt x="42" y="29"/>
                </a:lnTo>
                <a:lnTo>
                  <a:pt x="39" y="34"/>
                </a:lnTo>
                <a:lnTo>
                  <a:pt x="34" y="40"/>
                </a:lnTo>
                <a:lnTo>
                  <a:pt x="28" y="42"/>
                </a:lnTo>
                <a:lnTo>
                  <a:pt x="21" y="43"/>
                </a:lnTo>
                <a:lnTo>
                  <a:pt x="15" y="42"/>
                </a:lnTo>
                <a:lnTo>
                  <a:pt x="8" y="40"/>
                </a:lnTo>
                <a:lnTo>
                  <a:pt x="4" y="34"/>
                </a:lnTo>
                <a:lnTo>
                  <a:pt x="1" y="29"/>
                </a:lnTo>
                <a:lnTo>
                  <a:pt x="0" y="22"/>
                </a:lnTo>
                <a:lnTo>
                  <a:pt x="1" y="15"/>
                </a:lnTo>
                <a:lnTo>
                  <a:pt x="4" y="10"/>
                </a:lnTo>
                <a:lnTo>
                  <a:pt x="8" y="4"/>
                </a:lnTo>
                <a:lnTo>
                  <a:pt x="15" y="1"/>
                </a:lnTo>
                <a:lnTo>
                  <a:pt x="21" y="0"/>
                </a:lnTo>
                <a:lnTo>
                  <a:pt x="28" y="1"/>
                </a:lnTo>
                <a:lnTo>
                  <a:pt x="33" y="4"/>
                </a:lnTo>
                <a:lnTo>
                  <a:pt x="39" y="10"/>
                </a:lnTo>
                <a:lnTo>
                  <a:pt x="42" y="15"/>
                </a:lnTo>
                <a:lnTo>
                  <a:pt x="43" y="22"/>
                </a:lnTo>
                <a:lnTo>
                  <a:pt x="43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059280" y="4208400"/>
            <a:ext cx="1355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chtung: Löcher für das Zugseil vor d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257280" y="4294080"/>
            <a:ext cx="959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usammenkleben einsteche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"/>
          <p:cNvSpPr/>
          <p:nvPr/>
        </p:nvSpPr>
        <p:spPr>
          <a:xfrm>
            <a:off x="7920" y="7920"/>
            <a:ext cx="9621720" cy="679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603520" y="655560"/>
            <a:ext cx="2106720" cy="582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95360" y="655560"/>
            <a:ext cx="2104920" cy="582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816600" y="657360"/>
            <a:ext cx="2103480" cy="5829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H="1">
            <a:off x="333360" y="65556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33360" y="819000"/>
            <a:ext cx="1440" cy="550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33360" y="6323040"/>
            <a:ext cx="324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57360" y="664704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244008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602080" y="6485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763720" y="664704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454644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70844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870440" y="664704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6653160" y="648504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81660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975360" y="664704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8759880" y="648504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 flipV="1">
            <a:off x="495360" y="49500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57360" y="49536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440080" y="49536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2602080" y="495000"/>
            <a:ext cx="1616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763720" y="49536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546440" y="49536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4708440" y="49500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870440" y="495360"/>
            <a:ext cx="1782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653160" y="495360"/>
            <a:ext cx="1634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6816600" y="49500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978600" y="495360"/>
            <a:ext cx="1781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8759880" y="495360"/>
            <a:ext cx="1602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467000" y="141444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2" y="88"/>
                </a:lnTo>
                <a:lnTo>
                  <a:pt x="60" y="75"/>
                </a:lnTo>
                <a:lnTo>
                  <a:pt x="56" y="63"/>
                </a:lnTo>
                <a:lnTo>
                  <a:pt x="53" y="52"/>
                </a:lnTo>
                <a:lnTo>
                  <a:pt x="48" y="43"/>
                </a:lnTo>
                <a:lnTo>
                  <a:pt x="43" y="33"/>
                </a:lnTo>
                <a:lnTo>
                  <a:pt x="37" y="24"/>
                </a:lnTo>
                <a:lnTo>
                  <a:pt x="32" y="18"/>
                </a:lnTo>
                <a:lnTo>
                  <a:pt x="26" y="11"/>
                </a:lnTo>
                <a:lnTo>
                  <a:pt x="19" y="7"/>
                </a:lnTo>
                <a:lnTo>
                  <a:pt x="13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359000" y="14144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3"/>
                </a:lnTo>
                <a:lnTo>
                  <a:pt x="47" y="7"/>
                </a:lnTo>
                <a:lnTo>
                  <a:pt x="41" y="11"/>
                </a:lnTo>
                <a:lnTo>
                  <a:pt x="35" y="18"/>
                </a:lnTo>
                <a:lnTo>
                  <a:pt x="30" y="24"/>
                </a:lnTo>
                <a:lnTo>
                  <a:pt x="24" y="33"/>
                </a:lnTo>
                <a:lnTo>
                  <a:pt x="19" y="43"/>
                </a:lnTo>
                <a:lnTo>
                  <a:pt x="15" y="52"/>
                </a:lnTo>
                <a:lnTo>
                  <a:pt x="10" y="63"/>
                </a:lnTo>
                <a:lnTo>
                  <a:pt x="7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359000" y="164304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H="1">
            <a:off x="1355400" y="232092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305000" y="164304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305000" y="243540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468440" y="130176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1"/>
                </a:lnTo>
                <a:lnTo>
                  <a:pt x="97" y="150"/>
                </a:lnTo>
                <a:lnTo>
                  <a:pt x="94" y="131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8" y="25"/>
                </a:lnTo>
                <a:lnTo>
                  <a:pt x="39" y="16"/>
                </a:lnTo>
                <a:lnTo>
                  <a:pt x="30" y="9"/>
                </a:lnTo>
                <a:lnTo>
                  <a:pt x="20" y="5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305000" y="130176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5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576440" y="175572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1630440" y="164124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1576440" y="1641240"/>
            <a:ext cx="144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786800" y="1419120"/>
            <a:ext cx="110880" cy="227160"/>
          </a:xfrm>
          <a:custGeom>
            <a:avLst/>
            <a:gdLst/>
            <a:ahLst/>
            <a:rect l="l" t="t" r="r" b="b"/>
            <a:pathLst>
              <a:path w="70" h="143">
                <a:moveTo>
                  <a:pt x="70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2"/>
                </a:lnTo>
                <a:lnTo>
                  <a:pt x="53" y="51"/>
                </a:lnTo>
                <a:lnTo>
                  <a:pt x="49" y="42"/>
                </a:lnTo>
                <a:lnTo>
                  <a:pt x="44" y="32"/>
                </a:lnTo>
                <a:lnTo>
                  <a:pt x="38" y="23"/>
                </a:lnTo>
                <a:lnTo>
                  <a:pt x="33" y="17"/>
                </a:lnTo>
                <a:lnTo>
                  <a:pt x="26" y="10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7678800" y="1419120"/>
            <a:ext cx="108000" cy="22716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0"/>
                </a:lnTo>
                <a:lnTo>
                  <a:pt x="36" y="17"/>
                </a:lnTo>
                <a:lnTo>
                  <a:pt x="31" y="23"/>
                </a:lnTo>
                <a:lnTo>
                  <a:pt x="25" y="32"/>
                </a:lnTo>
                <a:lnTo>
                  <a:pt x="20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678800" y="16462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7676640" y="232416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7626240" y="1646280"/>
            <a:ext cx="18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7626240" y="243828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788240" y="1305000"/>
            <a:ext cx="163440" cy="33948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1"/>
                </a:lnTo>
                <a:lnTo>
                  <a:pt x="98" y="150"/>
                </a:lnTo>
                <a:lnTo>
                  <a:pt x="94" y="131"/>
                </a:lnTo>
                <a:lnTo>
                  <a:pt x="90" y="112"/>
                </a:lnTo>
                <a:lnTo>
                  <a:pt x="85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7" y="36"/>
                </a:lnTo>
                <a:lnTo>
                  <a:pt x="49" y="25"/>
                </a:lnTo>
                <a:lnTo>
                  <a:pt x="39" y="17"/>
                </a:lnTo>
                <a:lnTo>
                  <a:pt x="31" y="9"/>
                </a:lnTo>
                <a:lnTo>
                  <a:pt x="21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626240" y="1305000"/>
            <a:ext cx="162000" cy="33948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2" y="1"/>
                </a:lnTo>
                <a:lnTo>
                  <a:pt x="81" y="5"/>
                </a:lnTo>
                <a:lnTo>
                  <a:pt x="71" y="9"/>
                </a:lnTo>
                <a:lnTo>
                  <a:pt x="63" y="17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2"/>
                </a:lnTo>
                <a:lnTo>
                  <a:pt x="7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7897680" y="175896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7951680" y="164412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7897680" y="1644480"/>
            <a:ext cx="180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574640" y="4737240"/>
            <a:ext cx="247680" cy="387360"/>
          </a:xfrm>
          <a:custGeom>
            <a:avLst/>
            <a:gdLst/>
            <a:ahLst/>
            <a:rect l="l" t="t" r="r" b="b"/>
            <a:pathLst>
              <a:path w="156" h="244">
                <a:moveTo>
                  <a:pt x="156" y="244"/>
                </a:moveTo>
                <a:lnTo>
                  <a:pt x="155" y="219"/>
                </a:lnTo>
                <a:lnTo>
                  <a:pt x="153" y="194"/>
                </a:lnTo>
                <a:lnTo>
                  <a:pt x="149" y="172"/>
                </a:lnTo>
                <a:lnTo>
                  <a:pt x="143" y="149"/>
                </a:lnTo>
                <a:lnTo>
                  <a:pt x="137" y="128"/>
                </a:lnTo>
                <a:lnTo>
                  <a:pt x="128" y="108"/>
                </a:lnTo>
                <a:lnTo>
                  <a:pt x="120" y="88"/>
                </a:lnTo>
                <a:lnTo>
                  <a:pt x="110" y="71"/>
                </a:lnTo>
                <a:lnTo>
                  <a:pt x="98" y="56"/>
                </a:lnTo>
                <a:lnTo>
                  <a:pt x="86" y="42"/>
                </a:lnTo>
                <a:lnTo>
                  <a:pt x="73" y="29"/>
                </a:lnTo>
                <a:lnTo>
                  <a:pt x="59" y="19"/>
                </a:lnTo>
                <a:lnTo>
                  <a:pt x="45" y="11"/>
                </a:lnTo>
                <a:lnTo>
                  <a:pt x="30" y="4"/>
                </a:lnTo>
                <a:lnTo>
                  <a:pt x="15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327320" y="4737240"/>
            <a:ext cx="247320" cy="387360"/>
          </a:xfrm>
          <a:custGeom>
            <a:avLst/>
            <a:gdLst/>
            <a:ahLst/>
            <a:rect l="l" t="t" r="r" b="b"/>
            <a:pathLst>
              <a:path w="156" h="244">
                <a:moveTo>
                  <a:pt x="156" y="0"/>
                </a:moveTo>
                <a:lnTo>
                  <a:pt x="139" y="1"/>
                </a:lnTo>
                <a:lnTo>
                  <a:pt x="124" y="4"/>
                </a:lnTo>
                <a:lnTo>
                  <a:pt x="109" y="11"/>
                </a:lnTo>
                <a:lnTo>
                  <a:pt x="95" y="19"/>
                </a:lnTo>
                <a:lnTo>
                  <a:pt x="81" y="29"/>
                </a:lnTo>
                <a:lnTo>
                  <a:pt x="68" y="42"/>
                </a:lnTo>
                <a:lnTo>
                  <a:pt x="56" y="56"/>
                </a:lnTo>
                <a:lnTo>
                  <a:pt x="45" y="71"/>
                </a:lnTo>
                <a:lnTo>
                  <a:pt x="36" y="88"/>
                </a:lnTo>
                <a:lnTo>
                  <a:pt x="26" y="108"/>
                </a:lnTo>
                <a:lnTo>
                  <a:pt x="18" y="128"/>
                </a:lnTo>
                <a:lnTo>
                  <a:pt x="12" y="149"/>
                </a:lnTo>
                <a:lnTo>
                  <a:pt x="7" y="172"/>
                </a:lnTo>
                <a:lnTo>
                  <a:pt x="2" y="194"/>
                </a:lnTo>
                <a:lnTo>
                  <a:pt x="0" y="219"/>
                </a:lnTo>
                <a:lnTo>
                  <a:pt x="0" y="2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327320" y="5126040"/>
            <a:ext cx="1440" cy="116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1325520" y="6291360"/>
            <a:ext cx="49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206360" y="5126040"/>
            <a:ext cx="1800" cy="13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206360" y="6483240"/>
            <a:ext cx="741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576440" y="4543560"/>
            <a:ext cx="371520" cy="581040"/>
          </a:xfrm>
          <a:custGeom>
            <a:avLst/>
            <a:gdLst/>
            <a:ahLst/>
            <a:rect l="l" t="t" r="r" b="b"/>
            <a:pathLst>
              <a:path w="234" h="366">
                <a:moveTo>
                  <a:pt x="234" y="366"/>
                </a:moveTo>
                <a:lnTo>
                  <a:pt x="232" y="328"/>
                </a:lnTo>
                <a:lnTo>
                  <a:pt x="229" y="293"/>
                </a:lnTo>
                <a:lnTo>
                  <a:pt x="223" y="257"/>
                </a:lnTo>
                <a:lnTo>
                  <a:pt x="215" y="223"/>
                </a:lnTo>
                <a:lnTo>
                  <a:pt x="205" y="191"/>
                </a:lnTo>
                <a:lnTo>
                  <a:pt x="193" y="162"/>
                </a:lnTo>
                <a:lnTo>
                  <a:pt x="180" y="133"/>
                </a:lnTo>
                <a:lnTo>
                  <a:pt x="165" y="107"/>
                </a:lnTo>
                <a:lnTo>
                  <a:pt x="148" y="83"/>
                </a:lnTo>
                <a:lnTo>
                  <a:pt x="129" y="63"/>
                </a:lnTo>
                <a:lnTo>
                  <a:pt x="111" y="44"/>
                </a:lnTo>
                <a:lnTo>
                  <a:pt x="90" y="28"/>
                </a:lnTo>
                <a:lnTo>
                  <a:pt x="69" y="16"/>
                </a:lnTo>
                <a:lnTo>
                  <a:pt x="46" y="7"/>
                </a:lnTo>
                <a:lnTo>
                  <a:pt x="2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206360" y="4543560"/>
            <a:ext cx="370080" cy="581040"/>
          </a:xfrm>
          <a:custGeom>
            <a:avLst/>
            <a:gdLst/>
            <a:ahLst/>
            <a:rect l="l" t="t" r="r" b="b"/>
            <a:pathLst>
              <a:path w="233" h="366">
                <a:moveTo>
                  <a:pt x="233" y="0"/>
                </a:moveTo>
                <a:lnTo>
                  <a:pt x="209" y="1"/>
                </a:lnTo>
                <a:lnTo>
                  <a:pt x="185" y="7"/>
                </a:lnTo>
                <a:lnTo>
                  <a:pt x="164" y="16"/>
                </a:lnTo>
                <a:lnTo>
                  <a:pt x="142" y="28"/>
                </a:lnTo>
                <a:lnTo>
                  <a:pt x="121" y="44"/>
                </a:lnTo>
                <a:lnTo>
                  <a:pt x="103" y="63"/>
                </a:lnTo>
                <a:lnTo>
                  <a:pt x="85" y="83"/>
                </a:lnTo>
                <a:lnTo>
                  <a:pt x="69" y="107"/>
                </a:lnTo>
                <a:lnTo>
                  <a:pt x="53" y="133"/>
                </a:lnTo>
                <a:lnTo>
                  <a:pt x="39" y="162"/>
                </a:lnTo>
                <a:lnTo>
                  <a:pt x="29" y="191"/>
                </a:lnTo>
                <a:lnTo>
                  <a:pt x="19" y="223"/>
                </a:lnTo>
                <a:lnTo>
                  <a:pt x="10" y="257"/>
                </a:lnTo>
                <a:lnTo>
                  <a:pt x="5" y="293"/>
                </a:lnTo>
                <a:lnTo>
                  <a:pt x="2" y="328"/>
                </a:lnTo>
                <a:lnTo>
                  <a:pt x="0" y="3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822320" y="5321160"/>
            <a:ext cx="1800" cy="96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1947960" y="5124600"/>
            <a:ext cx="144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1812960" y="5173200"/>
            <a:ext cx="1440" cy="21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6934680" y="0"/>
            <a:ext cx="951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urm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95360" y="65556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95360" y="81900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95360" y="97956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5360" y="1143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95360" y="130320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95360" y="1467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495360" y="1627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95360" y="179064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495360" y="1951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95360" y="211464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495360" y="2274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95360" y="243828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9536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95360" y="2762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9536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95360" y="3086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9536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278080" y="65556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440080" y="81900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278080" y="97956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440080" y="114300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278080" y="1303200"/>
            <a:ext cx="647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440080" y="146700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278080" y="162720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2440080" y="179064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278080" y="195120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40080" y="2114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278080" y="227484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40080" y="243828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278080" y="259884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440080" y="276228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278080" y="2922480"/>
            <a:ext cx="647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2440080" y="308628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278080" y="324648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384800" y="65556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4546440" y="819000"/>
            <a:ext cx="324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4384800" y="97956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546440" y="114300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384800" y="1303200"/>
            <a:ext cx="64908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546440" y="146700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384800" y="1627200"/>
            <a:ext cx="6458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546440" y="1790640"/>
            <a:ext cx="324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384800" y="195120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546440" y="211464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84800" y="227484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546440" y="2438280"/>
            <a:ext cx="324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384800" y="259884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546440" y="276228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384800" y="2922480"/>
            <a:ext cx="64908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546440" y="308628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384800" y="324648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546440" y="340992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384800" y="3570120"/>
            <a:ext cx="64908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6492960" y="65556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653160" y="819000"/>
            <a:ext cx="325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6492960" y="97956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6653160" y="114300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492960" y="1303200"/>
            <a:ext cx="6462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653160" y="146700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6492960" y="162720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6653160" y="1790640"/>
            <a:ext cx="325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6492960" y="195120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816600" y="2274840"/>
            <a:ext cx="1800" cy="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653160" y="211464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6492960" y="227484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6653160" y="2438280"/>
            <a:ext cx="325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6492960" y="259884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6653160" y="276228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492960" y="2922480"/>
            <a:ext cx="6462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653160" y="308628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492960" y="3246480"/>
            <a:ext cx="646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653160" y="3409920"/>
            <a:ext cx="325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492960" y="3570120"/>
            <a:ext cx="6462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8596440" y="65556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8759880" y="819000"/>
            <a:ext cx="160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8596440" y="97956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8759880" y="114300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8596440" y="130320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8759880" y="146700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8759880" y="1790640"/>
            <a:ext cx="160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8596440" y="1951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759880" y="211464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8596440" y="2274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8759880" y="2438280"/>
            <a:ext cx="160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59644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8759880" y="276228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859644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8759880" y="308628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59644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759880" y="340992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859644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8596440" y="1627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759880" y="373392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859644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8759880" y="4057560"/>
            <a:ext cx="160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859644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8759880" y="4381560"/>
            <a:ext cx="160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859644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759880" y="470376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59644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759880" y="5027760"/>
            <a:ext cx="1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859644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759880" y="5351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859644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8759880" y="5675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59644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8759880" y="59990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8759880" y="632304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859644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6653160" y="373392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492960" y="3894120"/>
            <a:ext cx="6444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6653160" y="4057560"/>
            <a:ext cx="322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6492960" y="4218120"/>
            <a:ext cx="6444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6653160" y="4381560"/>
            <a:ext cx="3222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492960" y="4541760"/>
            <a:ext cx="6444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653160" y="470376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6492960" y="4865760"/>
            <a:ext cx="646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653160" y="5027760"/>
            <a:ext cx="325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6492960" y="5189400"/>
            <a:ext cx="646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653160" y="5351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6492960" y="5513400"/>
            <a:ext cx="646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6653160" y="567540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6492960" y="5837400"/>
            <a:ext cx="6462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653160" y="5999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492960" y="6161040"/>
            <a:ext cx="646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653160" y="6323040"/>
            <a:ext cx="325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4546440" y="373392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4384800" y="389412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546440" y="4057560"/>
            <a:ext cx="324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4384800" y="421812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4546440" y="438156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384800" y="4541760"/>
            <a:ext cx="64908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546440" y="4703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384800" y="4865760"/>
            <a:ext cx="1440" cy="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4384800" y="4865760"/>
            <a:ext cx="64908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4546440" y="5027760"/>
            <a:ext cx="324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384800" y="5189400"/>
            <a:ext cx="64908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546440" y="535140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384800" y="5513400"/>
            <a:ext cx="64908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4546440" y="5675400"/>
            <a:ext cx="32256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4384800" y="5837400"/>
            <a:ext cx="64908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546440" y="599904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4384800" y="6161040"/>
            <a:ext cx="64908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546440" y="632304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440080" y="340992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278080" y="3570120"/>
            <a:ext cx="647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2440080" y="373392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2278080" y="389412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440080" y="405756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78080" y="4218120"/>
            <a:ext cx="647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440080" y="438156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278080" y="454176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440080" y="4703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278080" y="486576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440080" y="502776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278080" y="518940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2440080" y="5351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278080" y="551340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40080" y="5675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278080" y="5837400"/>
            <a:ext cx="647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440080" y="5999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278080" y="616104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440080" y="6323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495360" y="340992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9536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495360" y="373392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536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95360" y="405756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536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95360" y="438156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9536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95360" y="470376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9536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95360" y="5027760"/>
            <a:ext cx="162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49536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95360" y="535140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4953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95360" y="567540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953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95360" y="599904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9536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95360" y="632304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708440" y="6485040"/>
            <a:ext cx="210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4708440" y="655560"/>
            <a:ext cx="2106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"/>
          <p:cNvSpPr/>
          <p:nvPr/>
        </p:nvSpPr>
        <p:spPr>
          <a:xfrm>
            <a:off x="7066080" y="127080"/>
            <a:ext cx="951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urm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763720" y="1951200"/>
            <a:ext cx="2432160" cy="243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089160" y="2274840"/>
            <a:ext cx="1800" cy="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763720" y="4381560"/>
            <a:ext cx="4859280" cy="96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333360" y="979560"/>
            <a:ext cx="4859280" cy="96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763720" y="979560"/>
            <a:ext cx="1800" cy="97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5194440" y="4381560"/>
            <a:ext cx="1440" cy="96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333360" y="33336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16080" y="33192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763720" y="331920"/>
            <a:ext cx="6494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546440" y="331920"/>
            <a:ext cx="64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763720" y="5351400"/>
            <a:ext cx="6494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4546440" y="5351400"/>
            <a:ext cx="648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5194440" y="535140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6978600" y="5351400"/>
            <a:ext cx="6462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5194440" y="4381560"/>
            <a:ext cx="1440" cy="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5194440" y="421812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357880" y="4218120"/>
            <a:ext cx="2103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461360" y="421812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624800" y="4381560"/>
            <a:ext cx="1602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7785000" y="4541760"/>
            <a:ext cx="18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33360" y="195120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495360" y="2114640"/>
            <a:ext cx="210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2602080" y="1951200"/>
            <a:ext cx="1616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7624440" y="5837400"/>
            <a:ext cx="16020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171360" y="33192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1360" y="495360"/>
            <a:ext cx="1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71360" y="1790640"/>
            <a:ext cx="16200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440080" y="97956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602080" y="114300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2440080" y="1303200"/>
            <a:ext cx="64908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602080" y="146700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440080" y="1627200"/>
            <a:ext cx="64908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602080" y="179064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4870440" y="9795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033880" y="1143000"/>
            <a:ext cx="16056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4870440" y="13032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5033880" y="1467000"/>
            <a:ext cx="16056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4870440" y="1627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033880" y="1790640"/>
            <a:ext cx="16056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33360" y="9795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33360" y="1143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33360" y="13032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333360" y="1467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33360" y="1627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33360" y="179064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2763720" y="438156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763720" y="4541760"/>
            <a:ext cx="32256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763720" y="470376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2763720" y="4865760"/>
            <a:ext cx="32256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763720" y="5027760"/>
            <a:ext cx="162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763720" y="5189400"/>
            <a:ext cx="32256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870440" y="518940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5033880" y="5027760"/>
            <a:ext cx="324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870440" y="4865760"/>
            <a:ext cx="647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5033880" y="4703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870440" y="4541760"/>
            <a:ext cx="6462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033880" y="438156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461360" y="43815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7300800" y="4541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461360" y="47037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300800" y="4865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7461360" y="50277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7300800" y="518940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 rot="16200000">
            <a:off x="1545480" y="4807440"/>
            <a:ext cx="110880" cy="227160"/>
          </a:xfrm>
          <a:custGeom>
            <a:avLst/>
            <a:gdLst/>
            <a:ahLst/>
            <a:rect l="l" t="t" r="r" b="b"/>
            <a:pathLst>
              <a:path w="70" h="143">
                <a:moveTo>
                  <a:pt x="70" y="143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4" y="87"/>
                </a:lnTo>
                <a:lnTo>
                  <a:pt x="61" y="74"/>
                </a:lnTo>
                <a:lnTo>
                  <a:pt x="57" y="62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546200" y="4916160"/>
            <a:ext cx="109440" cy="22716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714680" y="508320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94000" y="486576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14680" y="5137200"/>
            <a:ext cx="79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08120" y="4809960"/>
            <a:ext cx="1800" cy="33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460160" y="472212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214"/>
                </a:moveTo>
                <a:lnTo>
                  <a:pt x="103" y="192"/>
                </a:lnTo>
                <a:lnTo>
                  <a:pt x="102" y="171"/>
                </a:lnTo>
                <a:lnTo>
                  <a:pt x="99" y="151"/>
                </a:lnTo>
                <a:lnTo>
                  <a:pt x="95" y="131"/>
                </a:lnTo>
                <a:lnTo>
                  <a:pt x="91" y="112"/>
                </a:lnTo>
                <a:lnTo>
                  <a:pt x="86" y="94"/>
                </a:lnTo>
                <a:lnTo>
                  <a:pt x="80" y="78"/>
                </a:lnTo>
                <a:lnTo>
                  <a:pt x="74" y="63"/>
                </a:lnTo>
                <a:lnTo>
                  <a:pt x="66" y="49"/>
                </a:lnTo>
                <a:lnTo>
                  <a:pt x="57" y="36"/>
                </a:lnTo>
                <a:lnTo>
                  <a:pt x="50" y="25"/>
                </a:lnTo>
                <a:lnTo>
                  <a:pt x="40" y="17"/>
                </a:lnTo>
                <a:lnTo>
                  <a:pt x="31" y="9"/>
                </a:lnTo>
                <a:lnTo>
                  <a:pt x="21" y="5"/>
                </a:lnTo>
                <a:lnTo>
                  <a:pt x="10" y="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1460160" y="4887360"/>
            <a:ext cx="165240" cy="33984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0"/>
                </a:moveTo>
                <a:lnTo>
                  <a:pt x="93" y="2"/>
                </a:lnTo>
                <a:lnTo>
                  <a:pt x="82" y="5"/>
                </a:lnTo>
                <a:lnTo>
                  <a:pt x="73" y="9"/>
                </a:lnTo>
                <a:lnTo>
                  <a:pt x="64" y="17"/>
                </a:lnTo>
                <a:lnTo>
                  <a:pt x="54" y="25"/>
                </a:lnTo>
                <a:lnTo>
                  <a:pt x="46" y="36"/>
                </a:lnTo>
                <a:lnTo>
                  <a:pt x="38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2"/>
                </a:lnTo>
                <a:lnTo>
                  <a:pt x="8" y="131"/>
                </a:lnTo>
                <a:lnTo>
                  <a:pt x="5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86252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712520" y="480708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712880" y="486252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463920" y="595080"/>
            <a:ext cx="2954520" cy="842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8640" y="6286680"/>
            <a:ext cx="163440" cy="16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90640" y="6450120"/>
            <a:ext cx="340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292640" y="6450120"/>
            <a:ext cx="4701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994600" y="6287760"/>
            <a:ext cx="16056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155160" y="6122520"/>
            <a:ext cx="16344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9155160" y="38052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66640" y="6122520"/>
            <a:ext cx="160560" cy="16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68440" y="3497040"/>
            <a:ext cx="1440" cy="26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68440" y="3331800"/>
            <a:ext cx="16020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568080" y="3170160"/>
            <a:ext cx="1602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8440" y="544320"/>
            <a:ext cx="1440" cy="26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8440" y="379080"/>
            <a:ext cx="16020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9318600" y="3498840"/>
            <a:ext cx="1440" cy="262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9155160" y="3333240"/>
            <a:ext cx="16344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9155160" y="3171600"/>
            <a:ext cx="163440" cy="16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9318600" y="546120"/>
            <a:ext cx="1440" cy="262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3168720" y="20174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4" y="87"/>
                </a:lnTo>
                <a:lnTo>
                  <a:pt x="61" y="74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169440" y="21261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2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38640" y="2293920"/>
            <a:ext cx="677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6520" y="207648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338640" y="23479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130640" y="202068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3083760" y="1934280"/>
            <a:ext cx="16488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213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6" y="94"/>
                </a:lnTo>
                <a:lnTo>
                  <a:pt x="80" y="77"/>
                </a:lnTo>
                <a:lnTo>
                  <a:pt x="74" y="62"/>
                </a:lnTo>
                <a:lnTo>
                  <a:pt x="66" y="48"/>
                </a:lnTo>
                <a:lnTo>
                  <a:pt x="57" y="35"/>
                </a:lnTo>
                <a:lnTo>
                  <a:pt x="50" y="24"/>
                </a:lnTo>
                <a:lnTo>
                  <a:pt x="40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3083760" y="2099160"/>
            <a:ext cx="16524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3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8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51320" y="207288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335040" y="201780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335400" y="2072880"/>
            <a:ext cx="11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1549440" y="44780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9"/>
                </a:lnTo>
                <a:lnTo>
                  <a:pt x="68" y="114"/>
                </a:lnTo>
                <a:lnTo>
                  <a:pt x="67" y="100"/>
                </a:lnTo>
                <a:lnTo>
                  <a:pt x="63" y="87"/>
                </a:lnTo>
                <a:lnTo>
                  <a:pt x="61" y="75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550160" y="458676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719360" y="4754160"/>
            <a:ext cx="677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7240" y="453708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719360" y="48085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511360" y="448128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1465200" y="4394160"/>
            <a:ext cx="164880" cy="33948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214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5" y="94"/>
                </a:lnTo>
                <a:lnTo>
                  <a:pt x="80" y="77"/>
                </a:lnTo>
                <a:lnTo>
                  <a:pt x="73" y="62"/>
                </a:lnTo>
                <a:lnTo>
                  <a:pt x="66" y="48"/>
                </a:lnTo>
                <a:lnTo>
                  <a:pt x="57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465200" y="4559040"/>
            <a:ext cx="165240" cy="339480"/>
          </a:xfrm>
          <a:custGeom>
            <a:avLst/>
            <a:gdLst/>
            <a:ahLst/>
            <a:rect l="l" t="t" r="r" b="b"/>
            <a:pathLst>
              <a:path w="104" h="214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7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832040" y="453348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1717200" y="447840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717560" y="4533480"/>
            <a:ext cx="114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168720" y="168876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8"/>
                </a:lnTo>
                <a:lnTo>
                  <a:pt x="68" y="114"/>
                </a:lnTo>
                <a:lnTo>
                  <a:pt x="67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4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3169440" y="179748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1" y="0"/>
                </a:lnTo>
                <a:lnTo>
                  <a:pt x="55" y="2"/>
                </a:lnTo>
                <a:lnTo>
                  <a:pt x="48" y="6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338640" y="1964880"/>
            <a:ext cx="677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16520" y="1747800"/>
            <a:ext cx="14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338640" y="201888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130640" y="1692000"/>
            <a:ext cx="180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3083760" y="1605600"/>
            <a:ext cx="16488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213"/>
                </a:moveTo>
                <a:lnTo>
                  <a:pt x="103" y="191"/>
                </a:lnTo>
                <a:lnTo>
                  <a:pt x="102" y="170"/>
                </a:lnTo>
                <a:lnTo>
                  <a:pt x="99" y="150"/>
                </a:lnTo>
                <a:lnTo>
                  <a:pt x="95" y="130"/>
                </a:lnTo>
                <a:lnTo>
                  <a:pt x="91" y="111"/>
                </a:lnTo>
                <a:lnTo>
                  <a:pt x="85" y="94"/>
                </a:lnTo>
                <a:lnTo>
                  <a:pt x="80" y="77"/>
                </a:lnTo>
                <a:lnTo>
                  <a:pt x="73" y="62"/>
                </a:lnTo>
                <a:lnTo>
                  <a:pt x="66" y="48"/>
                </a:lnTo>
                <a:lnTo>
                  <a:pt x="57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083760" y="1770480"/>
            <a:ext cx="165240" cy="338040"/>
          </a:xfrm>
          <a:custGeom>
            <a:avLst/>
            <a:gdLst/>
            <a:ahLst/>
            <a:rect l="l" t="t" r="r" b="b"/>
            <a:pathLst>
              <a:path w="104" h="213">
                <a:moveTo>
                  <a:pt x="104" y="0"/>
                </a:moveTo>
                <a:lnTo>
                  <a:pt x="93" y="1"/>
                </a:lnTo>
                <a:lnTo>
                  <a:pt x="82" y="4"/>
                </a:lnTo>
                <a:lnTo>
                  <a:pt x="72" y="8"/>
                </a:lnTo>
                <a:lnTo>
                  <a:pt x="64" y="16"/>
                </a:lnTo>
                <a:lnTo>
                  <a:pt x="54" y="24"/>
                </a:lnTo>
                <a:lnTo>
                  <a:pt x="46" y="35"/>
                </a:lnTo>
                <a:lnTo>
                  <a:pt x="37" y="48"/>
                </a:lnTo>
                <a:lnTo>
                  <a:pt x="31" y="62"/>
                </a:lnTo>
                <a:lnTo>
                  <a:pt x="23" y="77"/>
                </a:lnTo>
                <a:lnTo>
                  <a:pt x="18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451320" y="1744200"/>
            <a:ext cx="56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3335040" y="168912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335400" y="1744200"/>
            <a:ext cx="11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7826040" y="4501440"/>
            <a:ext cx="328680" cy="293760"/>
          </a:xfrm>
          <a:custGeom>
            <a:avLst/>
            <a:gdLst/>
            <a:ahLst/>
            <a:rect l="l" t="t" r="r" b="b"/>
            <a:pathLst>
              <a:path w="207" h="185">
                <a:moveTo>
                  <a:pt x="207" y="185"/>
                </a:moveTo>
                <a:lnTo>
                  <a:pt x="206" y="165"/>
                </a:lnTo>
                <a:lnTo>
                  <a:pt x="202" y="147"/>
                </a:lnTo>
                <a:lnTo>
                  <a:pt x="197" y="130"/>
                </a:lnTo>
                <a:lnTo>
                  <a:pt x="189" y="112"/>
                </a:lnTo>
                <a:lnTo>
                  <a:pt x="180" y="96"/>
                </a:lnTo>
                <a:lnTo>
                  <a:pt x="171" y="81"/>
                </a:lnTo>
                <a:lnTo>
                  <a:pt x="159" y="67"/>
                </a:lnTo>
                <a:lnTo>
                  <a:pt x="145" y="54"/>
                </a:lnTo>
                <a:lnTo>
                  <a:pt x="130" y="42"/>
                </a:lnTo>
                <a:lnTo>
                  <a:pt x="115" y="31"/>
                </a:lnTo>
                <a:lnTo>
                  <a:pt x="97" y="21"/>
                </a:lnTo>
                <a:lnTo>
                  <a:pt x="79" y="14"/>
                </a:lnTo>
                <a:lnTo>
                  <a:pt x="60" y="7"/>
                </a:lnTo>
                <a:lnTo>
                  <a:pt x="40" y="3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7826040" y="4830120"/>
            <a:ext cx="328680" cy="293760"/>
          </a:xfrm>
          <a:custGeom>
            <a:avLst/>
            <a:gdLst/>
            <a:ahLst/>
            <a:rect l="l" t="t" r="r" b="b"/>
            <a:pathLst>
              <a:path w="207" h="185">
                <a:moveTo>
                  <a:pt x="207" y="0"/>
                </a:moveTo>
                <a:lnTo>
                  <a:pt x="185" y="0"/>
                </a:lnTo>
                <a:lnTo>
                  <a:pt x="165" y="3"/>
                </a:lnTo>
                <a:lnTo>
                  <a:pt x="146" y="7"/>
                </a:lnTo>
                <a:lnTo>
                  <a:pt x="127" y="14"/>
                </a:lnTo>
                <a:lnTo>
                  <a:pt x="108" y="21"/>
                </a:lnTo>
                <a:lnTo>
                  <a:pt x="91" y="31"/>
                </a:lnTo>
                <a:lnTo>
                  <a:pt x="76" y="42"/>
                </a:lnTo>
                <a:lnTo>
                  <a:pt x="60" y="54"/>
                </a:lnTo>
                <a:lnTo>
                  <a:pt x="47" y="67"/>
                </a:lnTo>
                <a:lnTo>
                  <a:pt x="35" y="81"/>
                </a:lnTo>
                <a:lnTo>
                  <a:pt x="25" y="96"/>
                </a:lnTo>
                <a:lnTo>
                  <a:pt x="17" y="112"/>
                </a:lnTo>
                <a:lnTo>
                  <a:pt x="9" y="130"/>
                </a:lnTo>
                <a:lnTo>
                  <a:pt x="3" y="147"/>
                </a:lnTo>
                <a:lnTo>
                  <a:pt x="0" y="16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137440" y="5140440"/>
            <a:ext cx="87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010800" y="448632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137440" y="5300640"/>
            <a:ext cx="1017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9155160" y="4319280"/>
            <a:ext cx="144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7670880" y="4347720"/>
            <a:ext cx="492120" cy="438120"/>
          </a:xfrm>
          <a:custGeom>
            <a:avLst/>
            <a:gdLst/>
            <a:ahLst/>
            <a:rect l="l" t="t" r="r" b="b"/>
            <a:pathLst>
              <a:path w="310" h="276">
                <a:moveTo>
                  <a:pt x="310" y="276"/>
                </a:moveTo>
                <a:lnTo>
                  <a:pt x="307" y="247"/>
                </a:lnTo>
                <a:lnTo>
                  <a:pt x="303" y="219"/>
                </a:lnTo>
                <a:lnTo>
                  <a:pt x="295" y="193"/>
                </a:lnTo>
                <a:lnTo>
                  <a:pt x="284" y="169"/>
                </a:lnTo>
                <a:lnTo>
                  <a:pt x="271" y="144"/>
                </a:lnTo>
                <a:lnTo>
                  <a:pt x="256" y="121"/>
                </a:lnTo>
                <a:lnTo>
                  <a:pt x="237" y="100"/>
                </a:lnTo>
                <a:lnTo>
                  <a:pt x="218" y="81"/>
                </a:lnTo>
                <a:lnTo>
                  <a:pt x="196" y="63"/>
                </a:lnTo>
                <a:lnTo>
                  <a:pt x="172" y="46"/>
                </a:lnTo>
                <a:lnTo>
                  <a:pt x="147" y="32"/>
                </a:lnTo>
                <a:lnTo>
                  <a:pt x="119" y="22"/>
                </a:lnTo>
                <a:lnTo>
                  <a:pt x="91" y="12"/>
                </a:lnTo>
                <a:lnTo>
                  <a:pt x="61" y="5"/>
                </a:lnTo>
                <a:lnTo>
                  <a:pt x="31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7671600" y="4837680"/>
            <a:ext cx="490320" cy="438120"/>
          </a:xfrm>
          <a:custGeom>
            <a:avLst/>
            <a:gdLst/>
            <a:ahLst/>
            <a:rect l="l" t="t" r="r" b="b"/>
            <a:pathLst>
              <a:path w="309" h="276">
                <a:moveTo>
                  <a:pt x="309" y="0"/>
                </a:moveTo>
                <a:lnTo>
                  <a:pt x="277" y="1"/>
                </a:lnTo>
                <a:lnTo>
                  <a:pt x="247" y="5"/>
                </a:lnTo>
                <a:lnTo>
                  <a:pt x="217" y="12"/>
                </a:lnTo>
                <a:lnTo>
                  <a:pt x="189" y="22"/>
                </a:lnTo>
                <a:lnTo>
                  <a:pt x="161" y="32"/>
                </a:lnTo>
                <a:lnTo>
                  <a:pt x="136" y="46"/>
                </a:lnTo>
                <a:lnTo>
                  <a:pt x="112" y="63"/>
                </a:lnTo>
                <a:lnTo>
                  <a:pt x="90" y="81"/>
                </a:lnTo>
                <a:lnTo>
                  <a:pt x="71" y="100"/>
                </a:lnTo>
                <a:lnTo>
                  <a:pt x="53" y="121"/>
                </a:lnTo>
                <a:lnTo>
                  <a:pt x="38" y="144"/>
                </a:lnTo>
                <a:lnTo>
                  <a:pt x="25" y="169"/>
                </a:lnTo>
                <a:lnTo>
                  <a:pt x="14" y="193"/>
                </a:lnTo>
                <a:lnTo>
                  <a:pt x="6" y="219"/>
                </a:lnTo>
                <a:lnTo>
                  <a:pt x="2" y="247"/>
                </a:lnTo>
                <a:lnTo>
                  <a:pt x="0" y="2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282160" y="4483080"/>
            <a:ext cx="728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8135640" y="4317480"/>
            <a:ext cx="1019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8136000" y="4483080"/>
            <a:ext cx="146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64368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8888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96732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12132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1292040" y="6041520"/>
            <a:ext cx="3286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15372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161676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186120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194148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218592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22651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250956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25891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83428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291384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31579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32374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34819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356220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38066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388620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41306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420984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44550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8096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808560" y="3252960"/>
            <a:ext cx="327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8046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1133280" y="3252240"/>
            <a:ext cx="327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11293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14558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4533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177948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177804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10420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21016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42820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24256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275292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750400" y="3251880"/>
            <a:ext cx="65556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30765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30740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34005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339876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37249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372276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40489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40464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43736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437112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469728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469476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53456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77900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485820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1026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51829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50212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50194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64440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889560" y="38124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9680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214280" y="3805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12927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15364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16167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186048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194148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218520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22651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250884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25891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83356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2913840" y="46260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31572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32374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4812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356220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38059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388620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1299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2098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44542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453456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477828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485820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51019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51829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542736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55069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575136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583056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60757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61552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639972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6479280" y="604080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6723720" y="6123600"/>
            <a:ext cx="16380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6804000" y="604008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6200000">
            <a:off x="704844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712764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737208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7451640" y="604368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769680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7776360" y="604116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80204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8100360" y="604440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8344440" y="6123240"/>
            <a:ext cx="16380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42472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8669160" y="6124320"/>
            <a:ext cx="16380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8748360" y="604008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8992800" y="6123960"/>
            <a:ext cx="16380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534600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53434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5670360" y="3254400"/>
            <a:ext cx="3254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566712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59943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59918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631836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631584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16200000">
            <a:off x="6642000" y="3254400"/>
            <a:ext cx="3268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6640560" y="3250800"/>
            <a:ext cx="65556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696672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69642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729072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728820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761544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7612920" y="3251880"/>
            <a:ext cx="65556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79390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7936560" y="3251520"/>
            <a:ext cx="65556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8263080" y="3254400"/>
            <a:ext cx="3268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6200000">
            <a:off x="826128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8587440" y="3255120"/>
            <a:ext cx="32688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8584920" y="3250800"/>
            <a:ext cx="65556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8911440" y="3255120"/>
            <a:ext cx="32688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542664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55069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575064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583056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60750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1552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00000">
            <a:off x="639900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00000">
            <a:off x="647928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6723000" y="382320"/>
            <a:ext cx="16524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6804000" y="461520"/>
            <a:ext cx="328680" cy="16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704772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1276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737136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745164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769608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7776360" y="462600"/>
            <a:ext cx="328680" cy="16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80197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8100000" y="462240"/>
            <a:ext cx="32868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8343720" y="38196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842472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8668440" y="383040"/>
            <a:ext cx="165240" cy="16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8748360" y="461520"/>
            <a:ext cx="32868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8992080" y="382680"/>
            <a:ext cx="165240" cy="1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3464640" y="-2356560"/>
            <a:ext cx="2952720" cy="8427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6200000">
            <a:off x="8181720" y="51397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8506440" y="51390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8830080" y="51390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8181720" y="4318920"/>
            <a:ext cx="165240" cy="16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8506440" y="43182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8830080" y="4318200"/>
            <a:ext cx="165240" cy="16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697880" y="4808520"/>
            <a:ext cx="16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8994600" y="4971600"/>
            <a:ext cx="160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994600" y="4642920"/>
            <a:ext cx="160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-642600" y="1876320"/>
            <a:ext cx="225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Grosser Turm 1 (2x druck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413160" y="2274840"/>
            <a:ext cx="3240000" cy="323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13160" y="1790640"/>
            <a:ext cx="3240000" cy="48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25720" y="2274840"/>
            <a:ext cx="487440" cy="323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13160" y="5513400"/>
            <a:ext cx="3240000" cy="48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53160" y="2274840"/>
            <a:ext cx="484200" cy="323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13160" y="1467000"/>
            <a:ext cx="48240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22800" y="1467000"/>
            <a:ext cx="32364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18080" y="1467000"/>
            <a:ext cx="32400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67520" y="1467000"/>
            <a:ext cx="48420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70440" y="1467000"/>
            <a:ext cx="32400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02080" y="2274840"/>
            <a:ext cx="323640" cy="48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02080" y="3086280"/>
            <a:ext cx="323640" cy="32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02080" y="3733920"/>
            <a:ext cx="32364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02080" y="5027760"/>
            <a:ext cx="323640" cy="48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4381560"/>
            <a:ext cx="32364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37360" y="2274840"/>
            <a:ext cx="324000" cy="48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37360" y="3086280"/>
            <a:ext cx="32400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137360" y="3733920"/>
            <a:ext cx="32400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37360" y="4381560"/>
            <a:ext cx="324000" cy="32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37360" y="5027760"/>
            <a:ext cx="324000" cy="48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13160" y="5999040"/>
            <a:ext cx="48420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22800" y="5999040"/>
            <a:ext cx="32364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70440" y="5999040"/>
            <a:ext cx="324000" cy="32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18080" y="5999040"/>
            <a:ext cx="32400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67520" y="5999040"/>
            <a:ext cx="48564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25720" y="2274840"/>
            <a:ext cx="16344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89160" y="2274840"/>
            <a:ext cx="16056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49720" y="2274840"/>
            <a:ext cx="16344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13160" y="179064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13160" y="1951200"/>
            <a:ext cx="1602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13160" y="2114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329520" y="1790640"/>
            <a:ext cx="323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91160" y="1951200"/>
            <a:ext cx="162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9520" y="2114640"/>
            <a:ext cx="323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53160" y="2274840"/>
            <a:ext cx="16200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15160" y="227484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78600" y="2274840"/>
            <a:ext cx="15876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25720" y="5189400"/>
            <a:ext cx="16344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9160" y="5351400"/>
            <a:ext cx="16056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49720" y="5189400"/>
            <a:ext cx="16344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131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13160" y="5675400"/>
            <a:ext cx="1602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131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2952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1160" y="567540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952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53160" y="5189400"/>
            <a:ext cx="16200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15160" y="535140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78600" y="5189400"/>
            <a:ext cx="158760" cy="3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02080" y="551340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63720" y="5675400"/>
            <a:ext cx="4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249720" y="5513400"/>
            <a:ext cx="1634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53160" y="551340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15160" y="5675400"/>
            <a:ext cx="48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7300800" y="5513400"/>
            <a:ext cx="16056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602080" y="2114280"/>
            <a:ext cx="1616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63720" y="2114640"/>
            <a:ext cx="4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49720" y="2114640"/>
            <a:ext cx="16344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653160" y="2114280"/>
            <a:ext cx="16200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15160" y="2114640"/>
            <a:ext cx="48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00800" y="2114640"/>
            <a:ext cx="160560" cy="16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16080" y="289080"/>
            <a:ext cx="2103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Grosser Turm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7920" y="7920"/>
            <a:ext cx="9621720" cy="6797520"/>
            <a:chOff x="7920" y="7920"/>
            <a:chExt cx="9621720" cy="6797520"/>
          </a:xfrm>
        </p:grpSpPr>
        <p:sp>
          <p:nvSpPr>
            <p:cNvPr id="612" name=""/>
            <p:cNvSpPr/>
            <p:nvPr/>
          </p:nvSpPr>
          <p:spPr>
            <a:xfrm>
              <a:off x="7920" y="7920"/>
              <a:ext cx="9621720" cy="67975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5560" y="819000"/>
              <a:ext cx="7937640" cy="566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95360" y="817560"/>
              <a:ext cx="16200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5360" y="979560"/>
              <a:ext cx="1440" cy="534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360" y="6323040"/>
              <a:ext cx="16200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7360" y="6485040"/>
              <a:ext cx="16164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000" y="6647040"/>
              <a:ext cx="761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434440" y="6485040"/>
              <a:ext cx="16200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72440" y="227484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34440" y="2438280"/>
              <a:ext cx="16200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72440" y="259884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34440" y="276228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72440" y="2922480"/>
              <a:ext cx="32400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34440" y="308628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72440" y="324648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34440" y="340992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72440" y="3570120"/>
              <a:ext cx="32400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34440" y="373392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72440" y="389412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34440" y="4057560"/>
              <a:ext cx="16200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72440" y="421812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34440" y="438156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72440" y="4541760"/>
              <a:ext cx="324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34440" y="4703760"/>
              <a:ext cx="162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72440" y="4865760"/>
              <a:ext cx="324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34440" y="5027760"/>
              <a:ext cx="162000" cy="16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2440" y="5189400"/>
              <a:ext cx="324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34440" y="5351400"/>
              <a:ext cx="162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72440" y="5513400"/>
              <a:ext cx="324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34440" y="5675400"/>
              <a:ext cx="162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272440" y="5837400"/>
              <a:ext cx="324000" cy="16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434440" y="5999040"/>
              <a:ext cx="162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72440" y="6161040"/>
              <a:ext cx="324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34440" y="6323040"/>
              <a:ext cx="16200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7360" y="632304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7360" y="616104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7360" y="599904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7360" y="5837400"/>
              <a:ext cx="323640" cy="16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7360" y="567540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360" y="551340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7360" y="535140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7360" y="518940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7360" y="5027760"/>
              <a:ext cx="161640" cy="16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7360" y="486576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7360" y="470376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7360" y="454176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7360" y="438156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7360" y="421812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7360" y="4057560"/>
              <a:ext cx="16164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7360" y="389412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7360" y="373392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7360" y="3570120"/>
              <a:ext cx="32364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7360" y="340992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7360" y="324648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7360" y="308628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7360" y="2922480"/>
              <a:ext cx="32364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7360" y="276228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7360" y="259884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7360" y="2438280"/>
              <a:ext cx="16164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360" y="2274840"/>
              <a:ext cx="323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92240" y="127080"/>
              <a:ext cx="785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Hau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05440" y="4334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57360" y="655560"/>
              <a:ext cx="16164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9000" y="655560"/>
              <a:ext cx="7615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34440" y="655560"/>
              <a:ext cx="16200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596440" y="819000"/>
              <a:ext cx="16164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758080" y="979560"/>
              <a:ext cx="1800" cy="534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596080" y="6323040"/>
              <a:ext cx="16164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00800" y="1579680"/>
              <a:ext cx="10980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2" y="87"/>
                  </a:lnTo>
                  <a:lnTo>
                    <a:pt x="60" y="74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8" y="42"/>
                  </a:lnTo>
                  <a:lnTo>
                    <a:pt x="43" y="32"/>
                  </a:lnTo>
                  <a:lnTo>
                    <a:pt x="37" y="24"/>
                  </a:lnTo>
                  <a:lnTo>
                    <a:pt x="32" y="17"/>
                  </a:lnTo>
                  <a:lnTo>
                    <a:pt x="26" y="11"/>
                  </a:lnTo>
                  <a:lnTo>
                    <a:pt x="19" y="7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9280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0" y="0"/>
                  </a:lnTo>
                  <a:lnTo>
                    <a:pt x="54" y="2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30" y="24"/>
                  </a:lnTo>
                  <a:lnTo>
                    <a:pt x="24" y="32"/>
                  </a:lnTo>
                  <a:lnTo>
                    <a:pt x="19" y="42"/>
                  </a:lnTo>
                  <a:lnTo>
                    <a:pt x="15" y="52"/>
                  </a:lnTo>
                  <a:lnTo>
                    <a:pt x="10" y="63"/>
                  </a:lnTo>
                  <a:lnTo>
                    <a:pt x="7" y="74"/>
                  </a:lnTo>
                  <a:lnTo>
                    <a:pt x="5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92800" y="1808280"/>
              <a:ext cx="180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189560" y="2486160"/>
              <a:ext cx="220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39160" y="1808280"/>
              <a:ext cx="144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3916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0260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213"/>
                  </a:moveTo>
                  <a:lnTo>
                    <a:pt x="101" y="191"/>
                  </a:lnTo>
                  <a:lnTo>
                    <a:pt x="100" y="170"/>
                  </a:lnTo>
                  <a:lnTo>
                    <a:pt x="97" y="150"/>
                  </a:lnTo>
                  <a:lnTo>
                    <a:pt x="94" y="130"/>
                  </a:lnTo>
                  <a:lnTo>
                    <a:pt x="89" y="111"/>
                  </a:lnTo>
                  <a:lnTo>
                    <a:pt x="84" y="94"/>
                  </a:lnTo>
                  <a:lnTo>
                    <a:pt x="79" y="78"/>
                  </a:lnTo>
                  <a:lnTo>
                    <a:pt x="72" y="62"/>
                  </a:lnTo>
                  <a:lnTo>
                    <a:pt x="65" y="48"/>
                  </a:lnTo>
                  <a:lnTo>
                    <a:pt x="56" y="35"/>
                  </a:lnTo>
                  <a:lnTo>
                    <a:pt x="48" y="25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3916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8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10600" y="1920960"/>
              <a:ext cx="14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64600" y="1804680"/>
              <a:ext cx="14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10600" y="1805040"/>
              <a:ext cx="1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7860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144"/>
                  </a:moveTo>
                  <a:lnTo>
                    <a:pt x="67" y="128"/>
                  </a:lnTo>
                  <a:lnTo>
                    <a:pt x="65" y="114"/>
                  </a:lnTo>
                  <a:lnTo>
                    <a:pt x="64" y="100"/>
                  </a:lnTo>
                  <a:lnTo>
                    <a:pt x="61" y="87"/>
                  </a:lnTo>
                  <a:lnTo>
                    <a:pt x="59" y="74"/>
                  </a:lnTo>
                  <a:lnTo>
                    <a:pt x="56" y="63"/>
                  </a:lnTo>
                  <a:lnTo>
                    <a:pt x="51" y="52"/>
                  </a:lnTo>
                  <a:lnTo>
                    <a:pt x="47" y="42"/>
                  </a:lnTo>
                  <a:lnTo>
                    <a:pt x="42" y="32"/>
                  </a:lnTo>
                  <a:lnTo>
                    <a:pt x="36" y="24"/>
                  </a:lnTo>
                  <a:lnTo>
                    <a:pt x="31" y="17"/>
                  </a:lnTo>
                  <a:lnTo>
                    <a:pt x="25" y="11"/>
                  </a:lnTo>
                  <a:lnTo>
                    <a:pt x="19" y="7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69160" y="157968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36" y="17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20" y="42"/>
                  </a:lnTo>
                  <a:lnTo>
                    <a:pt x="16" y="52"/>
                  </a:lnTo>
                  <a:lnTo>
                    <a:pt x="11" y="63"/>
                  </a:lnTo>
                  <a:lnTo>
                    <a:pt x="8" y="74"/>
                  </a:lnTo>
                  <a:lnTo>
                    <a:pt x="6" y="87"/>
                  </a:lnTo>
                  <a:lnTo>
                    <a:pt x="3" y="100"/>
                  </a:lnTo>
                  <a:lnTo>
                    <a:pt x="2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69160" y="1808280"/>
              <a:ext cx="144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867000" y="2486160"/>
              <a:ext cx="219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16600" y="1808280"/>
              <a:ext cx="1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16600" y="2598840"/>
              <a:ext cx="324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80400" y="1467000"/>
              <a:ext cx="160200" cy="338040"/>
            </a:xfrm>
            <a:custGeom>
              <a:avLst/>
              <a:gdLst/>
              <a:ahLst/>
              <a:rect l="l" t="t" r="r" b="b"/>
              <a:pathLst>
                <a:path w="101" h="213">
                  <a:moveTo>
                    <a:pt x="101" y="213"/>
                  </a:moveTo>
                  <a:lnTo>
                    <a:pt x="100" y="191"/>
                  </a:lnTo>
                  <a:lnTo>
                    <a:pt x="99" y="170"/>
                  </a:lnTo>
                  <a:lnTo>
                    <a:pt x="96" y="150"/>
                  </a:lnTo>
                  <a:lnTo>
                    <a:pt x="93" y="130"/>
                  </a:lnTo>
                  <a:lnTo>
                    <a:pt x="88" y="111"/>
                  </a:lnTo>
                  <a:lnTo>
                    <a:pt x="83" y="94"/>
                  </a:lnTo>
                  <a:lnTo>
                    <a:pt x="77" y="78"/>
                  </a:lnTo>
                  <a:lnTo>
                    <a:pt x="71" y="62"/>
                  </a:lnTo>
                  <a:lnTo>
                    <a:pt x="63" y="48"/>
                  </a:lnTo>
                  <a:lnTo>
                    <a:pt x="56" y="35"/>
                  </a:lnTo>
                  <a:lnTo>
                    <a:pt x="47" y="25"/>
                  </a:lnTo>
                  <a:lnTo>
                    <a:pt x="39" y="16"/>
                  </a:lnTo>
                  <a:lnTo>
                    <a:pt x="29" y="8"/>
                  </a:lnTo>
                  <a:lnTo>
                    <a:pt x="19" y="4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16600" y="1467000"/>
              <a:ext cx="16380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8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86600" y="1920960"/>
              <a:ext cx="14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140600" y="1804680"/>
              <a:ext cx="14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086600" y="1805040"/>
              <a:ext cx="1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653160" y="1579680"/>
              <a:ext cx="111240" cy="22860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3" y="87"/>
                  </a:lnTo>
                  <a:lnTo>
                    <a:pt x="61" y="74"/>
                  </a:lnTo>
                  <a:lnTo>
                    <a:pt x="57" y="63"/>
                  </a:lnTo>
                  <a:lnTo>
                    <a:pt x="53" y="52"/>
                  </a:lnTo>
                  <a:lnTo>
                    <a:pt x="49" y="42"/>
                  </a:lnTo>
                  <a:lnTo>
                    <a:pt x="44" y="32"/>
                  </a:lnTo>
                  <a:lnTo>
                    <a:pt x="38" y="24"/>
                  </a:lnTo>
                  <a:lnTo>
                    <a:pt x="33" y="17"/>
                  </a:lnTo>
                  <a:lnTo>
                    <a:pt x="26" y="11"/>
                  </a:lnTo>
                  <a:lnTo>
                    <a:pt x="20" y="7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4516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20" y="42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8" y="74"/>
                  </a:lnTo>
                  <a:lnTo>
                    <a:pt x="6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5160" y="1808280"/>
              <a:ext cx="180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543360" y="2486160"/>
              <a:ext cx="220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92960" y="1808280"/>
              <a:ext cx="144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9296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5496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213"/>
                  </a:moveTo>
                  <a:lnTo>
                    <a:pt x="102" y="191"/>
                  </a:lnTo>
                  <a:lnTo>
                    <a:pt x="101" y="170"/>
                  </a:lnTo>
                  <a:lnTo>
                    <a:pt x="98" y="150"/>
                  </a:lnTo>
                  <a:lnTo>
                    <a:pt x="94" y="130"/>
                  </a:lnTo>
                  <a:lnTo>
                    <a:pt x="90" y="111"/>
                  </a:lnTo>
                  <a:lnTo>
                    <a:pt x="85" y="94"/>
                  </a:lnTo>
                  <a:lnTo>
                    <a:pt x="79" y="78"/>
                  </a:lnTo>
                  <a:lnTo>
                    <a:pt x="73" y="62"/>
                  </a:lnTo>
                  <a:lnTo>
                    <a:pt x="65" y="48"/>
                  </a:lnTo>
                  <a:lnTo>
                    <a:pt x="57" y="35"/>
                  </a:lnTo>
                  <a:lnTo>
                    <a:pt x="49" y="25"/>
                  </a:lnTo>
                  <a:lnTo>
                    <a:pt x="39" y="16"/>
                  </a:lnTo>
                  <a:lnTo>
                    <a:pt x="31" y="8"/>
                  </a:lnTo>
                  <a:lnTo>
                    <a:pt x="21" y="4"/>
                  </a:lnTo>
                  <a:lnTo>
                    <a:pt x="1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9296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2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7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64400" y="1920960"/>
              <a:ext cx="14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818400" y="1804680"/>
              <a:ext cx="14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6764400" y="1805040"/>
              <a:ext cx="1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0640" y="1579680"/>
              <a:ext cx="111240" cy="22860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70" y="144"/>
                  </a:moveTo>
                  <a:lnTo>
                    <a:pt x="69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3" y="87"/>
                  </a:lnTo>
                  <a:lnTo>
                    <a:pt x="61" y="74"/>
                  </a:lnTo>
                  <a:lnTo>
                    <a:pt x="57" y="63"/>
                  </a:lnTo>
                  <a:lnTo>
                    <a:pt x="53" y="52"/>
                  </a:lnTo>
                  <a:lnTo>
                    <a:pt x="49" y="42"/>
                  </a:lnTo>
                  <a:lnTo>
                    <a:pt x="44" y="32"/>
                  </a:lnTo>
                  <a:lnTo>
                    <a:pt x="38" y="24"/>
                  </a:lnTo>
                  <a:lnTo>
                    <a:pt x="33" y="17"/>
                  </a:lnTo>
                  <a:lnTo>
                    <a:pt x="26" y="11"/>
                  </a:lnTo>
                  <a:lnTo>
                    <a:pt x="20" y="7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23000" y="1579680"/>
              <a:ext cx="10764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1" y="24"/>
                  </a:lnTo>
                  <a:lnTo>
                    <a:pt x="25" y="32"/>
                  </a:lnTo>
                  <a:lnTo>
                    <a:pt x="20" y="42"/>
                  </a:lnTo>
                  <a:lnTo>
                    <a:pt x="16" y="52"/>
                  </a:lnTo>
                  <a:lnTo>
                    <a:pt x="11" y="63"/>
                  </a:lnTo>
                  <a:lnTo>
                    <a:pt x="8" y="74"/>
                  </a:lnTo>
                  <a:lnTo>
                    <a:pt x="6" y="87"/>
                  </a:lnTo>
                  <a:lnTo>
                    <a:pt x="3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3000" y="1808280"/>
              <a:ext cx="144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920840" y="2486160"/>
              <a:ext cx="220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70440" y="1808280"/>
              <a:ext cx="144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7044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3388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213"/>
                  </a:moveTo>
                  <a:lnTo>
                    <a:pt x="101" y="191"/>
                  </a:lnTo>
                  <a:lnTo>
                    <a:pt x="100" y="170"/>
                  </a:lnTo>
                  <a:lnTo>
                    <a:pt x="97" y="150"/>
                  </a:lnTo>
                  <a:lnTo>
                    <a:pt x="94" y="130"/>
                  </a:lnTo>
                  <a:lnTo>
                    <a:pt x="89" y="111"/>
                  </a:lnTo>
                  <a:lnTo>
                    <a:pt x="84" y="94"/>
                  </a:lnTo>
                  <a:lnTo>
                    <a:pt x="78" y="78"/>
                  </a:lnTo>
                  <a:lnTo>
                    <a:pt x="72" y="62"/>
                  </a:lnTo>
                  <a:lnTo>
                    <a:pt x="64" y="48"/>
                  </a:lnTo>
                  <a:lnTo>
                    <a:pt x="56" y="35"/>
                  </a:lnTo>
                  <a:lnTo>
                    <a:pt x="48" y="25"/>
                  </a:lnTo>
                  <a:lnTo>
                    <a:pt x="38" y="16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7044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7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41880" y="1920960"/>
              <a:ext cx="180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195880" y="1804680"/>
              <a:ext cx="14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141880" y="1805040"/>
              <a:ext cx="180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07000" y="157968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3" y="87"/>
                  </a:lnTo>
                  <a:lnTo>
                    <a:pt x="61" y="74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9" y="42"/>
                  </a:lnTo>
                  <a:lnTo>
                    <a:pt x="43" y="32"/>
                  </a:lnTo>
                  <a:lnTo>
                    <a:pt x="38" y="24"/>
                  </a:lnTo>
                  <a:lnTo>
                    <a:pt x="33" y="17"/>
                  </a:lnTo>
                  <a:lnTo>
                    <a:pt x="26" y="11"/>
                  </a:lnTo>
                  <a:lnTo>
                    <a:pt x="20" y="7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9900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20" y="42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8" y="74"/>
                  </a:lnTo>
                  <a:lnTo>
                    <a:pt x="6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99000" y="1808280"/>
              <a:ext cx="144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597560" y="2486160"/>
              <a:ext cx="218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46440" y="1808280"/>
              <a:ext cx="1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4644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0844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213"/>
                  </a:moveTo>
                  <a:lnTo>
                    <a:pt x="102" y="191"/>
                  </a:lnTo>
                  <a:lnTo>
                    <a:pt x="101" y="170"/>
                  </a:lnTo>
                  <a:lnTo>
                    <a:pt x="98" y="150"/>
                  </a:lnTo>
                  <a:lnTo>
                    <a:pt x="94" y="130"/>
                  </a:lnTo>
                  <a:lnTo>
                    <a:pt x="90" y="111"/>
                  </a:lnTo>
                  <a:lnTo>
                    <a:pt x="85" y="94"/>
                  </a:lnTo>
                  <a:lnTo>
                    <a:pt x="79" y="78"/>
                  </a:lnTo>
                  <a:lnTo>
                    <a:pt x="73" y="62"/>
                  </a:lnTo>
                  <a:lnTo>
                    <a:pt x="65" y="48"/>
                  </a:lnTo>
                  <a:lnTo>
                    <a:pt x="57" y="35"/>
                  </a:lnTo>
                  <a:lnTo>
                    <a:pt x="49" y="25"/>
                  </a:lnTo>
                  <a:lnTo>
                    <a:pt x="39" y="16"/>
                  </a:lnTo>
                  <a:lnTo>
                    <a:pt x="31" y="8"/>
                  </a:lnTo>
                  <a:lnTo>
                    <a:pt x="21" y="4"/>
                  </a:lnTo>
                  <a:lnTo>
                    <a:pt x="1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4644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2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6" y="48"/>
                  </a:lnTo>
                  <a:lnTo>
                    <a:pt x="30" y="62"/>
                  </a:lnTo>
                  <a:lnTo>
                    <a:pt x="22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7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16440" y="1920960"/>
              <a:ext cx="180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4871880" y="1804680"/>
              <a:ext cx="180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4816440" y="1805040"/>
              <a:ext cx="180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84800" y="157968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3" y="87"/>
                  </a:lnTo>
                  <a:lnTo>
                    <a:pt x="61" y="74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9" y="42"/>
                  </a:lnTo>
                  <a:lnTo>
                    <a:pt x="43" y="32"/>
                  </a:lnTo>
                  <a:lnTo>
                    <a:pt x="38" y="24"/>
                  </a:lnTo>
                  <a:lnTo>
                    <a:pt x="33" y="17"/>
                  </a:lnTo>
                  <a:lnTo>
                    <a:pt x="26" y="11"/>
                  </a:lnTo>
                  <a:lnTo>
                    <a:pt x="20" y="7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7680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1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20" y="42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8" y="74"/>
                  </a:lnTo>
                  <a:lnTo>
                    <a:pt x="6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76800" y="1808280"/>
              <a:ext cx="144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274640" y="2486160"/>
              <a:ext cx="219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24240" y="1808280"/>
              <a:ext cx="1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2424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624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213"/>
                  </a:moveTo>
                  <a:lnTo>
                    <a:pt x="102" y="191"/>
                  </a:lnTo>
                  <a:lnTo>
                    <a:pt x="101" y="170"/>
                  </a:lnTo>
                  <a:lnTo>
                    <a:pt x="97" y="150"/>
                  </a:lnTo>
                  <a:lnTo>
                    <a:pt x="94" y="130"/>
                  </a:lnTo>
                  <a:lnTo>
                    <a:pt x="90" y="111"/>
                  </a:lnTo>
                  <a:lnTo>
                    <a:pt x="85" y="94"/>
                  </a:lnTo>
                  <a:lnTo>
                    <a:pt x="79" y="78"/>
                  </a:lnTo>
                  <a:lnTo>
                    <a:pt x="73" y="62"/>
                  </a:lnTo>
                  <a:lnTo>
                    <a:pt x="65" y="48"/>
                  </a:lnTo>
                  <a:lnTo>
                    <a:pt x="56" y="35"/>
                  </a:lnTo>
                  <a:lnTo>
                    <a:pt x="49" y="25"/>
                  </a:lnTo>
                  <a:lnTo>
                    <a:pt x="39" y="16"/>
                  </a:lnTo>
                  <a:lnTo>
                    <a:pt x="31" y="8"/>
                  </a:lnTo>
                  <a:lnTo>
                    <a:pt x="21" y="4"/>
                  </a:lnTo>
                  <a:lnTo>
                    <a:pt x="1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2424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0"/>
                  </a:moveTo>
                  <a:lnTo>
                    <a:pt x="91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2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6" y="48"/>
                  </a:lnTo>
                  <a:lnTo>
                    <a:pt x="30" y="62"/>
                  </a:lnTo>
                  <a:lnTo>
                    <a:pt x="22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7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94240" y="1920960"/>
              <a:ext cx="14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549680" y="1804680"/>
              <a:ext cx="180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494240" y="1805040"/>
              <a:ext cx="1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02080" y="157968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6" y="100"/>
                  </a:lnTo>
                  <a:lnTo>
                    <a:pt x="62" y="87"/>
                  </a:lnTo>
                  <a:lnTo>
                    <a:pt x="60" y="74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8" y="42"/>
                  </a:lnTo>
                  <a:lnTo>
                    <a:pt x="43" y="32"/>
                  </a:lnTo>
                  <a:lnTo>
                    <a:pt x="38" y="24"/>
                  </a:lnTo>
                  <a:lnTo>
                    <a:pt x="32" y="17"/>
                  </a:lnTo>
                  <a:lnTo>
                    <a:pt x="26" y="11"/>
                  </a:lnTo>
                  <a:lnTo>
                    <a:pt x="19" y="7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9408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0" y="0"/>
                  </a:lnTo>
                  <a:lnTo>
                    <a:pt x="54" y="2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19" y="42"/>
                  </a:lnTo>
                  <a:lnTo>
                    <a:pt x="15" y="52"/>
                  </a:lnTo>
                  <a:lnTo>
                    <a:pt x="10" y="63"/>
                  </a:lnTo>
                  <a:lnTo>
                    <a:pt x="7" y="74"/>
                  </a:lnTo>
                  <a:lnTo>
                    <a:pt x="5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94080" y="1808280"/>
              <a:ext cx="144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2491920" y="2486160"/>
              <a:ext cx="219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40080" y="1808280"/>
              <a:ext cx="144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4008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0352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213"/>
                  </a:moveTo>
                  <a:lnTo>
                    <a:pt x="101" y="191"/>
                  </a:lnTo>
                  <a:lnTo>
                    <a:pt x="100" y="170"/>
                  </a:lnTo>
                  <a:lnTo>
                    <a:pt x="97" y="150"/>
                  </a:lnTo>
                  <a:lnTo>
                    <a:pt x="94" y="130"/>
                  </a:lnTo>
                  <a:lnTo>
                    <a:pt x="89" y="111"/>
                  </a:lnTo>
                  <a:lnTo>
                    <a:pt x="84" y="94"/>
                  </a:lnTo>
                  <a:lnTo>
                    <a:pt x="79" y="78"/>
                  </a:lnTo>
                  <a:lnTo>
                    <a:pt x="72" y="62"/>
                  </a:lnTo>
                  <a:lnTo>
                    <a:pt x="65" y="48"/>
                  </a:lnTo>
                  <a:lnTo>
                    <a:pt x="56" y="35"/>
                  </a:lnTo>
                  <a:lnTo>
                    <a:pt x="48" y="25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4008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6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8" y="130"/>
                  </a:lnTo>
                  <a:lnTo>
                    <a:pt x="5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11520" y="1920960"/>
              <a:ext cx="14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765520" y="1804680"/>
              <a:ext cx="14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711520" y="1805040"/>
              <a:ext cx="144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78080" y="157968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8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2" y="87"/>
                  </a:lnTo>
                  <a:lnTo>
                    <a:pt x="60" y="74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8" y="42"/>
                  </a:lnTo>
                  <a:lnTo>
                    <a:pt x="43" y="32"/>
                  </a:lnTo>
                  <a:lnTo>
                    <a:pt x="37" y="24"/>
                  </a:lnTo>
                  <a:lnTo>
                    <a:pt x="32" y="17"/>
                  </a:lnTo>
                  <a:lnTo>
                    <a:pt x="25" y="11"/>
                  </a:lnTo>
                  <a:lnTo>
                    <a:pt x="19" y="7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70080" y="157968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0" y="0"/>
                  </a:lnTo>
                  <a:lnTo>
                    <a:pt x="54" y="2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30" y="24"/>
                  </a:lnTo>
                  <a:lnTo>
                    <a:pt x="24" y="32"/>
                  </a:lnTo>
                  <a:lnTo>
                    <a:pt x="19" y="42"/>
                  </a:lnTo>
                  <a:lnTo>
                    <a:pt x="15" y="52"/>
                  </a:lnTo>
                  <a:lnTo>
                    <a:pt x="10" y="63"/>
                  </a:lnTo>
                  <a:lnTo>
                    <a:pt x="7" y="74"/>
                  </a:lnTo>
                  <a:lnTo>
                    <a:pt x="5" y="87"/>
                  </a:lnTo>
                  <a:lnTo>
                    <a:pt x="2" y="100"/>
                  </a:lnTo>
                  <a:lnTo>
                    <a:pt x="1" y="114"/>
                  </a:lnTo>
                  <a:lnTo>
                    <a:pt x="0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70080" y="1808280"/>
              <a:ext cx="180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166480" y="2486160"/>
              <a:ext cx="220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16080" y="1808280"/>
              <a:ext cx="1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16080" y="2598840"/>
              <a:ext cx="325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79520" y="1467000"/>
              <a:ext cx="162000" cy="338040"/>
            </a:xfrm>
            <a:custGeom>
              <a:avLst/>
              <a:gdLst/>
              <a:ahLst/>
              <a:rect l="l" t="t" r="r" b="b"/>
              <a:pathLst>
                <a:path w="102" h="213">
                  <a:moveTo>
                    <a:pt x="102" y="213"/>
                  </a:moveTo>
                  <a:lnTo>
                    <a:pt x="101" y="191"/>
                  </a:lnTo>
                  <a:lnTo>
                    <a:pt x="100" y="170"/>
                  </a:lnTo>
                  <a:lnTo>
                    <a:pt x="97" y="150"/>
                  </a:lnTo>
                  <a:lnTo>
                    <a:pt x="94" y="130"/>
                  </a:lnTo>
                  <a:lnTo>
                    <a:pt x="89" y="111"/>
                  </a:lnTo>
                  <a:lnTo>
                    <a:pt x="84" y="94"/>
                  </a:lnTo>
                  <a:lnTo>
                    <a:pt x="79" y="78"/>
                  </a:lnTo>
                  <a:lnTo>
                    <a:pt x="72" y="62"/>
                  </a:lnTo>
                  <a:lnTo>
                    <a:pt x="64" y="48"/>
                  </a:lnTo>
                  <a:lnTo>
                    <a:pt x="56" y="35"/>
                  </a:lnTo>
                  <a:lnTo>
                    <a:pt x="48" y="25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16080" y="1467000"/>
              <a:ext cx="163440" cy="338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103" y="0"/>
                  </a:moveTo>
                  <a:lnTo>
                    <a:pt x="92" y="1"/>
                  </a:lnTo>
                  <a:lnTo>
                    <a:pt x="81" y="4"/>
                  </a:lnTo>
                  <a:lnTo>
                    <a:pt x="71" y="8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37" y="48"/>
                  </a:lnTo>
                  <a:lnTo>
                    <a:pt x="30" y="62"/>
                  </a:lnTo>
                  <a:lnTo>
                    <a:pt x="23" y="78"/>
                  </a:lnTo>
                  <a:lnTo>
                    <a:pt x="17" y="94"/>
                  </a:lnTo>
                  <a:lnTo>
                    <a:pt x="12" y="111"/>
                  </a:lnTo>
                  <a:lnTo>
                    <a:pt x="8" y="130"/>
                  </a:lnTo>
                  <a:lnTo>
                    <a:pt x="4" y="150"/>
                  </a:lnTo>
                  <a:lnTo>
                    <a:pt x="1" y="170"/>
                  </a:lnTo>
                  <a:lnTo>
                    <a:pt x="0" y="191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87520" y="1920960"/>
              <a:ext cx="180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2441520" y="1804680"/>
              <a:ext cx="180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387520" y="1805040"/>
              <a:ext cx="180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68400" y="5025960"/>
              <a:ext cx="271440" cy="324000"/>
            </a:xfrm>
            <a:custGeom>
              <a:avLst/>
              <a:gdLst/>
              <a:ahLst/>
              <a:rect l="l" t="t" r="r" b="b"/>
              <a:pathLst>
                <a:path w="171" h="204">
                  <a:moveTo>
                    <a:pt x="171" y="204"/>
                  </a:moveTo>
                  <a:lnTo>
                    <a:pt x="170" y="183"/>
                  </a:lnTo>
                  <a:lnTo>
                    <a:pt x="167" y="163"/>
                  </a:lnTo>
                  <a:lnTo>
                    <a:pt x="163" y="144"/>
                  </a:lnTo>
                  <a:lnTo>
                    <a:pt x="157" y="126"/>
                  </a:lnTo>
                  <a:lnTo>
                    <a:pt x="150" y="107"/>
                  </a:lnTo>
                  <a:lnTo>
                    <a:pt x="141" y="90"/>
                  </a:lnTo>
                  <a:lnTo>
                    <a:pt x="131" y="75"/>
                  </a:lnTo>
                  <a:lnTo>
                    <a:pt x="120" y="60"/>
                  </a:lnTo>
                  <a:lnTo>
                    <a:pt x="107" y="47"/>
                  </a:lnTo>
                  <a:lnTo>
                    <a:pt x="94" y="35"/>
                  </a:lnTo>
                  <a:lnTo>
                    <a:pt x="80" y="25"/>
                  </a:lnTo>
                  <a:lnTo>
                    <a:pt x="65" y="17"/>
                  </a:lnTo>
                  <a:lnTo>
                    <a:pt x="50" y="9"/>
                  </a:lnTo>
                  <a:lnTo>
                    <a:pt x="34" y="4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00200" y="5025960"/>
              <a:ext cx="26820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69" y="0"/>
                  </a:moveTo>
                  <a:lnTo>
                    <a:pt x="152" y="0"/>
                  </a:lnTo>
                  <a:lnTo>
                    <a:pt x="135" y="4"/>
                  </a:lnTo>
                  <a:lnTo>
                    <a:pt x="119" y="9"/>
                  </a:lnTo>
                  <a:lnTo>
                    <a:pt x="104" y="17"/>
                  </a:lnTo>
                  <a:lnTo>
                    <a:pt x="88" y="25"/>
                  </a:lnTo>
                  <a:lnTo>
                    <a:pt x="74" y="35"/>
                  </a:lnTo>
                  <a:lnTo>
                    <a:pt x="61" y="47"/>
                  </a:lnTo>
                  <a:lnTo>
                    <a:pt x="50" y="60"/>
                  </a:lnTo>
                  <a:lnTo>
                    <a:pt x="39" y="75"/>
                  </a:lnTo>
                  <a:lnTo>
                    <a:pt x="29" y="90"/>
                  </a:lnTo>
                  <a:lnTo>
                    <a:pt x="20" y="107"/>
                  </a:lnTo>
                  <a:lnTo>
                    <a:pt x="13" y="126"/>
                  </a:lnTo>
                  <a:lnTo>
                    <a:pt x="7" y="144"/>
                  </a:lnTo>
                  <a:lnTo>
                    <a:pt x="3" y="163"/>
                  </a:lnTo>
                  <a:lnTo>
                    <a:pt x="0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00200" y="5351400"/>
              <a:ext cx="144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598400" y="6321600"/>
              <a:ext cx="541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68440" y="5351400"/>
              <a:ext cx="1440" cy="11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68440" y="6485040"/>
              <a:ext cx="80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1640" y="486576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256" y="305"/>
                  </a:moveTo>
                  <a:lnTo>
                    <a:pt x="253" y="274"/>
                  </a:lnTo>
                  <a:lnTo>
                    <a:pt x="250" y="244"/>
                  </a:lnTo>
                  <a:lnTo>
                    <a:pt x="244" y="215"/>
                  </a:lnTo>
                  <a:lnTo>
                    <a:pt x="235" y="187"/>
                  </a:lnTo>
                  <a:lnTo>
                    <a:pt x="224" y="160"/>
                  </a:lnTo>
                  <a:lnTo>
                    <a:pt x="211" y="135"/>
                  </a:lnTo>
                  <a:lnTo>
                    <a:pt x="196" y="111"/>
                  </a:lnTo>
                  <a:lnTo>
                    <a:pt x="180" y="90"/>
                  </a:lnTo>
                  <a:lnTo>
                    <a:pt x="162" y="70"/>
                  </a:lnTo>
                  <a:lnTo>
                    <a:pt x="142" y="52"/>
                  </a:lnTo>
                  <a:lnTo>
                    <a:pt x="121" y="37"/>
                  </a:lnTo>
                  <a:lnTo>
                    <a:pt x="98" y="24"/>
                  </a:lnTo>
                  <a:lnTo>
                    <a:pt x="75" y="13"/>
                  </a:lnTo>
                  <a:lnTo>
                    <a:pt x="50" y="5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68440" y="4865760"/>
              <a:ext cx="403200" cy="484200"/>
            </a:xfrm>
            <a:custGeom>
              <a:avLst/>
              <a:gdLst/>
              <a:ahLst/>
              <a:rect l="l" t="t" r="r" b="b"/>
              <a:pathLst>
                <a:path w="254" h="305">
                  <a:moveTo>
                    <a:pt x="254" y="0"/>
                  </a:moveTo>
                  <a:lnTo>
                    <a:pt x="228" y="1"/>
                  </a:lnTo>
                  <a:lnTo>
                    <a:pt x="202" y="5"/>
                  </a:lnTo>
                  <a:lnTo>
                    <a:pt x="178" y="13"/>
                  </a:lnTo>
                  <a:lnTo>
                    <a:pt x="154" y="24"/>
                  </a:lnTo>
                  <a:lnTo>
                    <a:pt x="133" y="37"/>
                  </a:lnTo>
                  <a:lnTo>
                    <a:pt x="111" y="52"/>
                  </a:lnTo>
                  <a:lnTo>
                    <a:pt x="92" y="70"/>
                  </a:lnTo>
                  <a:lnTo>
                    <a:pt x="74" y="90"/>
                  </a:lnTo>
                  <a:lnTo>
                    <a:pt x="57" y="111"/>
                  </a:lnTo>
                  <a:lnTo>
                    <a:pt x="43" y="135"/>
                  </a:lnTo>
                  <a:lnTo>
                    <a:pt x="30" y="160"/>
                  </a:lnTo>
                  <a:lnTo>
                    <a:pt x="19" y="187"/>
                  </a:lnTo>
                  <a:lnTo>
                    <a:pt x="10" y="215"/>
                  </a:lnTo>
                  <a:lnTo>
                    <a:pt x="4" y="244"/>
                  </a:lnTo>
                  <a:lnTo>
                    <a:pt x="1" y="274"/>
                  </a:lnTo>
                  <a:lnTo>
                    <a:pt x="0" y="30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39840" y="5514840"/>
              <a:ext cx="1800" cy="80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278080" y="5349600"/>
              <a:ext cx="144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139840" y="5351400"/>
              <a:ext cx="180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60800" y="4654440"/>
              <a:ext cx="109440" cy="228600"/>
            </a:xfrm>
            <a:custGeom>
              <a:avLst/>
              <a:gdLst/>
              <a:ahLst/>
              <a:rect l="l" t="t" r="r" b="b"/>
              <a:pathLst>
                <a:path w="69" h="144">
                  <a:moveTo>
                    <a:pt x="69" y="144"/>
                  </a:moveTo>
                  <a:lnTo>
                    <a:pt x="68" y="129"/>
                  </a:lnTo>
                  <a:lnTo>
                    <a:pt x="67" y="115"/>
                  </a:lnTo>
                  <a:lnTo>
                    <a:pt x="66" y="101"/>
                  </a:lnTo>
                  <a:lnTo>
                    <a:pt x="63" y="88"/>
                  </a:lnTo>
                  <a:lnTo>
                    <a:pt x="61" y="75"/>
                  </a:lnTo>
                  <a:lnTo>
                    <a:pt x="56" y="63"/>
                  </a:lnTo>
                  <a:lnTo>
                    <a:pt x="53" y="52"/>
                  </a:lnTo>
                  <a:lnTo>
                    <a:pt x="49" y="42"/>
                  </a:lnTo>
                  <a:lnTo>
                    <a:pt x="43" y="33"/>
                  </a:lnTo>
                  <a:lnTo>
                    <a:pt x="38" y="24"/>
                  </a:lnTo>
                  <a:lnTo>
                    <a:pt x="32" y="17"/>
                  </a:lnTo>
                  <a:lnTo>
                    <a:pt x="26" y="11"/>
                  </a:lnTo>
                  <a:lnTo>
                    <a:pt x="19" y="7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52800" y="4654440"/>
              <a:ext cx="108000" cy="228600"/>
            </a:xfrm>
            <a:custGeom>
              <a:avLst/>
              <a:gdLst/>
              <a:ahLst/>
              <a:rect l="l" t="t" r="r" b="b"/>
              <a:pathLst>
                <a:path w="68" h="144">
                  <a:moveTo>
                    <a:pt x="68" y="0"/>
                  </a:moveTo>
                  <a:lnTo>
                    <a:pt x="60" y="0"/>
                  </a:lnTo>
                  <a:lnTo>
                    <a:pt x="54" y="2"/>
                  </a:lnTo>
                  <a:lnTo>
                    <a:pt x="48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4"/>
                  </a:lnTo>
                  <a:lnTo>
                    <a:pt x="25" y="33"/>
                  </a:lnTo>
                  <a:lnTo>
                    <a:pt x="19" y="42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8" y="75"/>
                  </a:lnTo>
                  <a:lnTo>
                    <a:pt x="5" y="88"/>
                  </a:lnTo>
                  <a:lnTo>
                    <a:pt x="2" y="101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52800" y="4883040"/>
              <a:ext cx="180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951360" y="5560920"/>
              <a:ext cx="218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98800" y="4883040"/>
              <a:ext cx="1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98800" y="5673600"/>
              <a:ext cx="327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62240" y="4541760"/>
              <a:ext cx="163800" cy="339840"/>
            </a:xfrm>
            <a:custGeom>
              <a:avLst/>
              <a:gdLst/>
              <a:ahLst/>
              <a:rect l="l" t="t" r="r" b="b"/>
              <a:pathLst>
                <a:path w="103" h="214">
                  <a:moveTo>
                    <a:pt x="103" y="214"/>
                  </a:moveTo>
                  <a:lnTo>
                    <a:pt x="102" y="191"/>
                  </a:lnTo>
                  <a:lnTo>
                    <a:pt x="101" y="170"/>
                  </a:lnTo>
                  <a:lnTo>
                    <a:pt x="97" y="150"/>
                  </a:lnTo>
                  <a:lnTo>
                    <a:pt x="94" y="131"/>
                  </a:lnTo>
                  <a:lnTo>
                    <a:pt x="90" y="111"/>
                  </a:lnTo>
                  <a:lnTo>
                    <a:pt x="84" y="94"/>
                  </a:lnTo>
                  <a:lnTo>
                    <a:pt x="79" y="78"/>
                  </a:lnTo>
                  <a:lnTo>
                    <a:pt x="72" y="63"/>
                  </a:lnTo>
                  <a:lnTo>
                    <a:pt x="65" y="49"/>
                  </a:lnTo>
                  <a:lnTo>
                    <a:pt x="56" y="36"/>
                  </a:lnTo>
                  <a:lnTo>
                    <a:pt x="49" y="25"/>
                  </a:lnTo>
                  <a:lnTo>
                    <a:pt x="39" y="16"/>
                  </a:lnTo>
                  <a:lnTo>
                    <a:pt x="30" y="9"/>
                  </a:lnTo>
                  <a:lnTo>
                    <a:pt x="21" y="4"/>
                  </a:lnTo>
                  <a:lnTo>
                    <a:pt x="1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98800" y="4541760"/>
              <a:ext cx="163440" cy="339840"/>
            </a:xfrm>
            <a:custGeom>
              <a:avLst/>
              <a:gdLst/>
              <a:ahLst/>
              <a:rect l="l" t="t" r="r" b="b"/>
              <a:pathLst>
                <a:path w="103" h="214">
                  <a:moveTo>
                    <a:pt x="103" y="0"/>
                  </a:moveTo>
                  <a:lnTo>
                    <a:pt x="92" y="1"/>
                  </a:lnTo>
                  <a:lnTo>
                    <a:pt x="82" y="4"/>
                  </a:lnTo>
                  <a:lnTo>
                    <a:pt x="72" y="9"/>
                  </a:lnTo>
                  <a:lnTo>
                    <a:pt x="63" y="16"/>
                  </a:lnTo>
                  <a:lnTo>
                    <a:pt x="53" y="25"/>
                  </a:lnTo>
                  <a:lnTo>
                    <a:pt x="46" y="36"/>
                  </a:lnTo>
                  <a:lnTo>
                    <a:pt x="37" y="49"/>
                  </a:lnTo>
                  <a:lnTo>
                    <a:pt x="31" y="63"/>
                  </a:lnTo>
                  <a:lnTo>
                    <a:pt x="23" y="78"/>
                  </a:lnTo>
                  <a:lnTo>
                    <a:pt x="18" y="94"/>
                  </a:lnTo>
                  <a:lnTo>
                    <a:pt x="12" y="111"/>
                  </a:lnTo>
                  <a:lnTo>
                    <a:pt x="8" y="131"/>
                  </a:lnTo>
                  <a:lnTo>
                    <a:pt x="5" y="150"/>
                  </a:lnTo>
                  <a:lnTo>
                    <a:pt x="2" y="170"/>
                  </a:lnTo>
                  <a:lnTo>
                    <a:pt x="0" y="191"/>
                  </a:lnTo>
                  <a:lnTo>
                    <a:pt x="0" y="2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70240" y="4995720"/>
              <a:ext cx="180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226040" y="4881600"/>
              <a:ext cx="144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170240" y="4881240"/>
              <a:ext cx="180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7360" y="211464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7360" y="195120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7360" y="1790640"/>
              <a:ext cx="16164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7360" y="162720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7360" y="146700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360" y="1303200"/>
              <a:ext cx="32364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7360" y="1143000"/>
              <a:ext cx="16164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7360" y="979560"/>
              <a:ext cx="32364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434440" y="211464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272440" y="195120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434440" y="1790640"/>
              <a:ext cx="16200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72440" y="162720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434440" y="146700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72440" y="1303200"/>
              <a:ext cx="324000" cy="1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434440" y="1143000"/>
              <a:ext cx="162000" cy="16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72440" y="979560"/>
              <a:ext cx="324000" cy="163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434440" y="819000"/>
              <a:ext cx="162000" cy="16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7360" y="819000"/>
              <a:ext cx="161640" cy="16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55560" y="819000"/>
            <a:ext cx="7937640" cy="5662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95360" y="81756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360" y="979560"/>
            <a:ext cx="1440" cy="53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360" y="6323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7360" y="6485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19000" y="6647040"/>
            <a:ext cx="761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8434440" y="6485040"/>
            <a:ext cx="16200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272440" y="2274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34440" y="243828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272440" y="25988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434440" y="2762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272440" y="29224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434440" y="308628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272440" y="324648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434440" y="340992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272440" y="357012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434440" y="373392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272440" y="389412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434440" y="405756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272440" y="421812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34440" y="438156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272440" y="4541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434440" y="470376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272440" y="486576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434440" y="5027760"/>
            <a:ext cx="162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272440" y="518940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34440" y="535140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272440" y="551340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34440" y="567540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272440" y="5837400"/>
            <a:ext cx="32400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34440" y="599904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72440" y="6161040"/>
            <a:ext cx="324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34440" y="6323040"/>
            <a:ext cx="16200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57360" y="6323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57360" y="61610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7360" y="599904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7360" y="5837400"/>
            <a:ext cx="323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7360" y="5675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7360" y="5513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7360" y="53514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57360" y="518940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7360" y="5027760"/>
            <a:ext cx="1616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7360" y="4865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7360" y="470376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7360" y="454176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7360" y="438156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57360" y="4218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57360" y="405756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7360" y="389412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7360" y="3733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57360" y="357012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57360" y="340992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360" y="324648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7360" y="3086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7360" y="292248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7360" y="276228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7360" y="259884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7360" y="243828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7360" y="2274840"/>
            <a:ext cx="323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63880" y="127080"/>
            <a:ext cx="78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u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678520" y="43344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57360" y="655560"/>
            <a:ext cx="1616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19000" y="655560"/>
            <a:ext cx="761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434440" y="655560"/>
            <a:ext cx="16200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596440" y="819000"/>
            <a:ext cx="16164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758080" y="979560"/>
            <a:ext cx="1800" cy="534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596080" y="6323040"/>
            <a:ext cx="1616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300800" y="157968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2"/>
                </a:lnTo>
                <a:lnTo>
                  <a:pt x="37" y="24"/>
                </a:lnTo>
                <a:lnTo>
                  <a:pt x="32" y="17"/>
                </a:lnTo>
                <a:lnTo>
                  <a:pt x="26" y="11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9280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7"/>
                </a:lnTo>
                <a:lnTo>
                  <a:pt x="41" y="11"/>
                </a:lnTo>
                <a:lnTo>
                  <a:pt x="35" y="17"/>
                </a:lnTo>
                <a:lnTo>
                  <a:pt x="30" y="24"/>
                </a:lnTo>
                <a:lnTo>
                  <a:pt x="24" y="32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192800" y="180828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189560" y="248616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39160" y="1808280"/>
            <a:ext cx="144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3916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30260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2"/>
                </a:lnTo>
                <a:lnTo>
                  <a:pt x="65" y="48"/>
                </a:lnTo>
                <a:lnTo>
                  <a:pt x="56" y="35"/>
                </a:lnTo>
                <a:lnTo>
                  <a:pt x="48" y="25"/>
                </a:lnTo>
                <a:lnTo>
                  <a:pt x="39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3916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0600" y="192096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464600" y="180468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7410600" y="180504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7860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144"/>
                </a:moveTo>
                <a:lnTo>
                  <a:pt x="67" y="128"/>
                </a:lnTo>
                <a:lnTo>
                  <a:pt x="65" y="114"/>
                </a:lnTo>
                <a:lnTo>
                  <a:pt x="64" y="100"/>
                </a:lnTo>
                <a:lnTo>
                  <a:pt x="61" y="87"/>
                </a:lnTo>
                <a:lnTo>
                  <a:pt x="59" y="74"/>
                </a:lnTo>
                <a:lnTo>
                  <a:pt x="56" y="63"/>
                </a:lnTo>
                <a:lnTo>
                  <a:pt x="51" y="52"/>
                </a:lnTo>
                <a:lnTo>
                  <a:pt x="47" y="42"/>
                </a:lnTo>
                <a:lnTo>
                  <a:pt x="42" y="32"/>
                </a:lnTo>
                <a:lnTo>
                  <a:pt x="36" y="24"/>
                </a:lnTo>
                <a:lnTo>
                  <a:pt x="31" y="17"/>
                </a:lnTo>
                <a:lnTo>
                  <a:pt x="25" y="11"/>
                </a:lnTo>
                <a:lnTo>
                  <a:pt x="19" y="7"/>
                </a:lnTo>
                <a:lnTo>
                  <a:pt x="12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9160" y="157968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0"/>
                </a:moveTo>
                <a:lnTo>
                  <a:pt x="61" y="0"/>
                </a:lnTo>
                <a:lnTo>
                  <a:pt x="54" y="2"/>
                </a:lnTo>
                <a:lnTo>
                  <a:pt x="48" y="7"/>
                </a:lnTo>
                <a:lnTo>
                  <a:pt x="42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2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69160" y="18082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867000" y="248616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16600" y="1808280"/>
            <a:ext cx="180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16600" y="259884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80400" y="1467000"/>
            <a:ext cx="160200" cy="338040"/>
          </a:xfrm>
          <a:custGeom>
            <a:avLst/>
            <a:gdLst/>
            <a:ahLst/>
            <a:rect l="l" t="t" r="r" b="b"/>
            <a:pathLst>
              <a:path w="101" h="213">
                <a:moveTo>
                  <a:pt x="101" y="213"/>
                </a:moveTo>
                <a:lnTo>
                  <a:pt x="100" y="191"/>
                </a:lnTo>
                <a:lnTo>
                  <a:pt x="99" y="170"/>
                </a:lnTo>
                <a:lnTo>
                  <a:pt x="96" y="150"/>
                </a:lnTo>
                <a:lnTo>
                  <a:pt x="93" y="130"/>
                </a:lnTo>
                <a:lnTo>
                  <a:pt x="88" y="111"/>
                </a:lnTo>
                <a:lnTo>
                  <a:pt x="83" y="94"/>
                </a:lnTo>
                <a:lnTo>
                  <a:pt x="77" y="78"/>
                </a:lnTo>
                <a:lnTo>
                  <a:pt x="71" y="62"/>
                </a:lnTo>
                <a:lnTo>
                  <a:pt x="63" y="48"/>
                </a:lnTo>
                <a:lnTo>
                  <a:pt x="56" y="35"/>
                </a:lnTo>
                <a:lnTo>
                  <a:pt x="47" y="25"/>
                </a:lnTo>
                <a:lnTo>
                  <a:pt x="39" y="16"/>
                </a:lnTo>
                <a:lnTo>
                  <a:pt x="29" y="8"/>
                </a:lnTo>
                <a:lnTo>
                  <a:pt x="19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16600" y="1467000"/>
            <a:ext cx="16380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86600" y="192096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7140600" y="180468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086600" y="180504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53160" y="157968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3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4516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7"/>
                </a:lnTo>
                <a:lnTo>
                  <a:pt x="41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545160" y="180828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543360" y="248616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92960" y="1808280"/>
            <a:ext cx="144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9296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65496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213"/>
                </a:moveTo>
                <a:lnTo>
                  <a:pt x="102" y="191"/>
                </a:lnTo>
                <a:lnTo>
                  <a:pt x="101" y="170"/>
                </a:lnTo>
                <a:lnTo>
                  <a:pt x="98" y="150"/>
                </a:lnTo>
                <a:lnTo>
                  <a:pt x="94" y="130"/>
                </a:lnTo>
                <a:lnTo>
                  <a:pt x="90" y="111"/>
                </a:lnTo>
                <a:lnTo>
                  <a:pt x="85" y="94"/>
                </a:lnTo>
                <a:lnTo>
                  <a:pt x="79" y="78"/>
                </a:lnTo>
                <a:lnTo>
                  <a:pt x="73" y="62"/>
                </a:lnTo>
                <a:lnTo>
                  <a:pt x="65" y="48"/>
                </a:lnTo>
                <a:lnTo>
                  <a:pt x="57" y="35"/>
                </a:lnTo>
                <a:lnTo>
                  <a:pt x="49" y="25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9296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64400" y="192096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818400" y="180468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764400" y="180504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030640" y="157968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3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23000" y="1579680"/>
            <a:ext cx="10764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7"/>
                </a:lnTo>
                <a:lnTo>
                  <a:pt x="41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23000" y="18082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920840" y="248616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70440" y="1808280"/>
            <a:ext cx="144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7044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3388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8" y="78"/>
                </a:lnTo>
                <a:lnTo>
                  <a:pt x="72" y="62"/>
                </a:lnTo>
                <a:lnTo>
                  <a:pt x="64" y="48"/>
                </a:lnTo>
                <a:lnTo>
                  <a:pt x="56" y="35"/>
                </a:lnTo>
                <a:lnTo>
                  <a:pt x="48" y="25"/>
                </a:lnTo>
                <a:lnTo>
                  <a:pt x="38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7044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141880" y="192096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5195880" y="180468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141880" y="1805040"/>
            <a:ext cx="180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83000" y="465624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3" y="88"/>
                </a:lnTo>
                <a:lnTo>
                  <a:pt x="61" y="75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3"/>
                </a:lnTo>
                <a:lnTo>
                  <a:pt x="38" y="24"/>
                </a:lnTo>
                <a:lnTo>
                  <a:pt x="33" y="18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75000" y="46562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7"/>
                </a:lnTo>
                <a:lnTo>
                  <a:pt x="41" y="11"/>
                </a:lnTo>
                <a:lnTo>
                  <a:pt x="36" y="18"/>
                </a:lnTo>
                <a:lnTo>
                  <a:pt x="30" y="24"/>
                </a:lnTo>
                <a:lnTo>
                  <a:pt x="25" y="33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75000" y="488484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73200" y="556272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22800" y="4884840"/>
            <a:ext cx="144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22800" y="567540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84800" y="4543560"/>
            <a:ext cx="163440" cy="33948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1"/>
                </a:lnTo>
                <a:lnTo>
                  <a:pt x="97" y="150"/>
                </a:lnTo>
                <a:lnTo>
                  <a:pt x="94" y="131"/>
                </a:lnTo>
                <a:lnTo>
                  <a:pt x="90" y="111"/>
                </a:lnTo>
                <a:lnTo>
                  <a:pt x="84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22800" y="4543560"/>
            <a:ext cx="162000" cy="33948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9"/>
                </a:lnTo>
                <a:lnTo>
                  <a:pt x="62" y="16"/>
                </a:lnTo>
                <a:lnTo>
                  <a:pt x="53" y="25"/>
                </a:lnTo>
                <a:lnTo>
                  <a:pt x="45" y="36"/>
                </a:lnTo>
                <a:lnTo>
                  <a:pt x="36" y="49"/>
                </a:lnTo>
                <a:lnTo>
                  <a:pt x="30" y="63"/>
                </a:lnTo>
                <a:lnTo>
                  <a:pt x="22" y="78"/>
                </a:lnTo>
                <a:lnTo>
                  <a:pt x="17" y="94"/>
                </a:lnTo>
                <a:lnTo>
                  <a:pt x="11" y="111"/>
                </a:lnTo>
                <a:lnTo>
                  <a:pt x="7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92800" y="499752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548240" y="488268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492800" y="4883040"/>
            <a:ext cx="144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84800" y="157968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27680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7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76800" y="18082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4274640" y="248616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24240" y="1808280"/>
            <a:ext cx="180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2424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8624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213"/>
                </a:moveTo>
                <a:lnTo>
                  <a:pt x="102" y="191"/>
                </a:lnTo>
                <a:lnTo>
                  <a:pt x="101" y="170"/>
                </a:lnTo>
                <a:lnTo>
                  <a:pt x="97" y="150"/>
                </a:lnTo>
                <a:lnTo>
                  <a:pt x="94" y="130"/>
                </a:lnTo>
                <a:lnTo>
                  <a:pt x="90" y="111"/>
                </a:lnTo>
                <a:lnTo>
                  <a:pt x="85" y="94"/>
                </a:lnTo>
                <a:lnTo>
                  <a:pt x="79" y="78"/>
                </a:lnTo>
                <a:lnTo>
                  <a:pt x="73" y="62"/>
                </a:lnTo>
                <a:lnTo>
                  <a:pt x="65" y="48"/>
                </a:lnTo>
                <a:lnTo>
                  <a:pt x="56" y="35"/>
                </a:lnTo>
                <a:lnTo>
                  <a:pt x="49" y="25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2424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3" y="25"/>
                </a:lnTo>
                <a:lnTo>
                  <a:pt x="45" y="35"/>
                </a:lnTo>
                <a:lnTo>
                  <a:pt x="36" y="48"/>
                </a:lnTo>
                <a:lnTo>
                  <a:pt x="30" y="62"/>
                </a:lnTo>
                <a:lnTo>
                  <a:pt x="22" y="78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94240" y="192096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49680" y="180468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494240" y="180504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602080" y="157968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2"/>
                </a:lnTo>
                <a:lnTo>
                  <a:pt x="38" y="24"/>
                </a:lnTo>
                <a:lnTo>
                  <a:pt x="32" y="17"/>
                </a:lnTo>
                <a:lnTo>
                  <a:pt x="26" y="11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9408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7"/>
                </a:lnTo>
                <a:lnTo>
                  <a:pt x="41" y="11"/>
                </a:lnTo>
                <a:lnTo>
                  <a:pt x="35" y="17"/>
                </a:lnTo>
                <a:lnTo>
                  <a:pt x="30" y="24"/>
                </a:lnTo>
                <a:lnTo>
                  <a:pt x="25" y="32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94080" y="1808280"/>
            <a:ext cx="144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491920" y="2486160"/>
            <a:ext cx="219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440080" y="1808280"/>
            <a:ext cx="144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44008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60352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2"/>
                </a:lnTo>
                <a:lnTo>
                  <a:pt x="65" y="48"/>
                </a:lnTo>
                <a:lnTo>
                  <a:pt x="56" y="35"/>
                </a:lnTo>
                <a:lnTo>
                  <a:pt x="48" y="25"/>
                </a:lnTo>
                <a:lnTo>
                  <a:pt x="39" y="16"/>
                </a:lnTo>
                <a:lnTo>
                  <a:pt x="30" y="8"/>
                </a:lnTo>
                <a:lnTo>
                  <a:pt x="20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44008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6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5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11520" y="1920960"/>
            <a:ext cx="144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765520" y="1804680"/>
            <a:ext cx="14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711520" y="1805040"/>
            <a:ext cx="144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78080" y="157968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8"/>
                </a:lnTo>
                <a:lnTo>
                  <a:pt x="67" y="114"/>
                </a:lnTo>
                <a:lnTo>
                  <a:pt x="65" y="100"/>
                </a:lnTo>
                <a:lnTo>
                  <a:pt x="62" y="87"/>
                </a:lnTo>
                <a:lnTo>
                  <a:pt x="60" y="74"/>
                </a:lnTo>
                <a:lnTo>
                  <a:pt x="56" y="63"/>
                </a:lnTo>
                <a:lnTo>
                  <a:pt x="53" y="52"/>
                </a:lnTo>
                <a:lnTo>
                  <a:pt x="48" y="42"/>
                </a:lnTo>
                <a:lnTo>
                  <a:pt x="43" y="32"/>
                </a:lnTo>
                <a:lnTo>
                  <a:pt x="37" y="24"/>
                </a:lnTo>
                <a:lnTo>
                  <a:pt x="32" y="17"/>
                </a:lnTo>
                <a:lnTo>
                  <a:pt x="25" y="11"/>
                </a:lnTo>
                <a:lnTo>
                  <a:pt x="19" y="7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70080" y="15796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7" y="7"/>
                </a:lnTo>
                <a:lnTo>
                  <a:pt x="41" y="11"/>
                </a:lnTo>
                <a:lnTo>
                  <a:pt x="35" y="17"/>
                </a:lnTo>
                <a:lnTo>
                  <a:pt x="30" y="24"/>
                </a:lnTo>
                <a:lnTo>
                  <a:pt x="24" y="32"/>
                </a:lnTo>
                <a:lnTo>
                  <a:pt x="19" y="42"/>
                </a:lnTo>
                <a:lnTo>
                  <a:pt x="15" y="52"/>
                </a:lnTo>
                <a:lnTo>
                  <a:pt x="10" y="63"/>
                </a:lnTo>
                <a:lnTo>
                  <a:pt x="7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180828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166480" y="2486160"/>
            <a:ext cx="220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16080" y="1808280"/>
            <a:ext cx="180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16080" y="2598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79520" y="1467000"/>
            <a:ext cx="162000" cy="33804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102" y="213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2"/>
                </a:lnTo>
                <a:lnTo>
                  <a:pt x="64" y="48"/>
                </a:lnTo>
                <a:lnTo>
                  <a:pt x="56" y="35"/>
                </a:lnTo>
                <a:lnTo>
                  <a:pt x="48" y="25"/>
                </a:lnTo>
                <a:lnTo>
                  <a:pt x="39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16080" y="1467000"/>
            <a:ext cx="163440" cy="338040"/>
          </a:xfrm>
          <a:custGeom>
            <a:avLst/>
            <a:gdLst/>
            <a:ahLst/>
            <a:rect l="l" t="t" r="r" b="b"/>
            <a:pathLst>
              <a:path w="103" h="213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5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8"/>
                </a:lnTo>
                <a:lnTo>
                  <a:pt x="17" y="94"/>
                </a:lnTo>
                <a:lnTo>
                  <a:pt x="12" y="111"/>
                </a:lnTo>
                <a:lnTo>
                  <a:pt x="8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387520" y="192096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441520" y="1804680"/>
            <a:ext cx="180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387520" y="1805040"/>
            <a:ext cx="180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60800" y="465444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3" y="88"/>
                </a:lnTo>
                <a:lnTo>
                  <a:pt x="61" y="75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3"/>
                </a:lnTo>
                <a:lnTo>
                  <a:pt x="38" y="24"/>
                </a:lnTo>
                <a:lnTo>
                  <a:pt x="32" y="17"/>
                </a:lnTo>
                <a:lnTo>
                  <a:pt x="26" y="11"/>
                </a:lnTo>
                <a:lnTo>
                  <a:pt x="19" y="7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52800" y="46544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8" y="7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3"/>
                </a:lnTo>
                <a:lnTo>
                  <a:pt x="19" y="42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52800" y="4883040"/>
            <a:ext cx="1800" cy="67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951360" y="5560920"/>
            <a:ext cx="218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98800" y="4883040"/>
            <a:ext cx="1800" cy="7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98800" y="5673600"/>
            <a:ext cx="32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062240" y="4541760"/>
            <a:ext cx="16380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0"/>
                </a:lnTo>
                <a:lnTo>
                  <a:pt x="97" y="150"/>
                </a:lnTo>
                <a:lnTo>
                  <a:pt x="94" y="131"/>
                </a:lnTo>
                <a:lnTo>
                  <a:pt x="90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98800" y="454176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2" y="4"/>
                </a:lnTo>
                <a:lnTo>
                  <a:pt x="72" y="9"/>
                </a:lnTo>
                <a:lnTo>
                  <a:pt x="63" y="16"/>
                </a:lnTo>
                <a:lnTo>
                  <a:pt x="53" y="25"/>
                </a:lnTo>
                <a:lnTo>
                  <a:pt x="46" y="36"/>
                </a:lnTo>
                <a:lnTo>
                  <a:pt x="37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1"/>
                </a:lnTo>
                <a:lnTo>
                  <a:pt x="8" y="131"/>
                </a:lnTo>
                <a:lnTo>
                  <a:pt x="5" y="150"/>
                </a:lnTo>
                <a:lnTo>
                  <a:pt x="2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70240" y="4995720"/>
            <a:ext cx="1800" cy="56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226040" y="4881600"/>
            <a:ext cx="144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70240" y="4881240"/>
            <a:ext cx="180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7360" y="211464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57360" y="1951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7360" y="1790640"/>
            <a:ext cx="1616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7360" y="162720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7360" y="146700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57360" y="1303200"/>
            <a:ext cx="32364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7360" y="1143000"/>
            <a:ext cx="1616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7360" y="979560"/>
            <a:ext cx="3236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34440" y="211464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272440" y="1951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434440" y="179064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272440" y="162720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434440" y="1467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272440" y="13032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434440" y="1143000"/>
            <a:ext cx="162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272440" y="9795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434440" y="819000"/>
            <a:ext cx="16200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57360" y="819000"/>
            <a:ext cx="1616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 flipV="1">
            <a:off x="9020160" y="606744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9182160" y="1531440"/>
            <a:ext cx="1440" cy="45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9020160" y="136692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2356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49654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6200000">
            <a:off x="504720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52894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6200000">
            <a:off x="537120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16200000">
            <a:off x="561420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56966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593892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60206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626256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634428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658728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rot="16200000">
            <a:off x="66697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6200000">
            <a:off x="691200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16200000">
            <a:off x="69937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16200000">
            <a:off x="723564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731736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rot="16200000">
            <a:off x="7560360" y="13676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rot="16200000">
            <a:off x="764280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rot="16200000">
            <a:off x="78850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96680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rot="16200000">
            <a:off x="820872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rot="16200000">
            <a:off x="829044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6200000">
            <a:off x="8533440" y="13676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6200000">
            <a:off x="861588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rot="16200000">
            <a:off x="885816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885816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861588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16200000">
            <a:off x="8533440" y="60681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6200000">
            <a:off x="829044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16200000">
            <a:off x="820872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6200000">
            <a:off x="796680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16200000">
            <a:off x="78850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6200000">
            <a:off x="764280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6200000">
            <a:off x="7560360" y="60681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16200000">
            <a:off x="731736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723564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6200000">
            <a:off x="69937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16200000">
            <a:off x="691200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16200000">
            <a:off x="66697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6200000">
            <a:off x="658728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6200000">
            <a:off x="634428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16200000">
            <a:off x="626256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6200000">
            <a:off x="60206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593892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6200000">
            <a:off x="56966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6200000">
            <a:off x="561420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6200000">
            <a:off x="537120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6200000">
            <a:off x="52894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504720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6200000">
            <a:off x="49654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6200000">
            <a:off x="4721760" y="599040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6200000">
            <a:off x="173880" y="1241640"/>
            <a:ext cx="78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u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6200000">
            <a:off x="796680" y="124056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6200000">
            <a:off x="7248240" y="330948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0" y="74"/>
                </a:lnTo>
                <a:lnTo>
                  <a:pt x="56" y="62"/>
                </a:lnTo>
                <a:lnTo>
                  <a:pt x="53" y="51"/>
                </a:lnTo>
                <a:lnTo>
                  <a:pt x="49" y="42"/>
                </a:lnTo>
                <a:lnTo>
                  <a:pt x="43" y="32"/>
                </a:lnTo>
                <a:lnTo>
                  <a:pt x="38" y="23"/>
                </a:lnTo>
                <a:lnTo>
                  <a:pt x="32" y="17"/>
                </a:lnTo>
                <a:lnTo>
                  <a:pt x="26" y="10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6200000">
            <a:off x="7250040" y="3417480"/>
            <a:ext cx="106200" cy="226800"/>
          </a:xfrm>
          <a:custGeom>
            <a:avLst/>
            <a:gdLst/>
            <a:ahLst/>
            <a:rect l="l" t="t" r="r" b="b"/>
            <a:pathLst>
              <a:path w="67" h="143">
                <a:moveTo>
                  <a:pt x="67" y="0"/>
                </a:moveTo>
                <a:lnTo>
                  <a:pt x="59" y="0"/>
                </a:lnTo>
                <a:lnTo>
                  <a:pt x="53" y="2"/>
                </a:lnTo>
                <a:lnTo>
                  <a:pt x="48" y="6"/>
                </a:lnTo>
                <a:lnTo>
                  <a:pt x="41" y="10"/>
                </a:lnTo>
                <a:lnTo>
                  <a:pt x="35" y="17"/>
                </a:lnTo>
                <a:lnTo>
                  <a:pt x="29" y="23"/>
                </a:lnTo>
                <a:lnTo>
                  <a:pt x="25" y="32"/>
                </a:lnTo>
                <a:lnTo>
                  <a:pt x="19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416720" y="3583080"/>
            <a:ext cx="681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097840" y="3368520"/>
            <a:ext cx="1440" cy="21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7416720" y="3634920"/>
            <a:ext cx="7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8210520" y="331452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7163640" y="32248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7" y="151"/>
                </a:lnTo>
                <a:lnTo>
                  <a:pt x="94" y="131"/>
                </a:lnTo>
                <a:lnTo>
                  <a:pt x="90" y="112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6200000">
            <a:off x="7165080" y="3386880"/>
            <a:ext cx="160560" cy="339840"/>
          </a:xfrm>
          <a:custGeom>
            <a:avLst/>
            <a:gdLst/>
            <a:ahLst/>
            <a:rect l="l" t="t" r="r" b="b"/>
            <a:pathLst>
              <a:path w="101" h="214">
                <a:moveTo>
                  <a:pt x="101" y="0"/>
                </a:moveTo>
                <a:lnTo>
                  <a:pt x="90" y="1"/>
                </a:lnTo>
                <a:lnTo>
                  <a:pt x="81" y="5"/>
                </a:lnTo>
                <a:lnTo>
                  <a:pt x="71" y="9"/>
                </a:lnTo>
                <a:lnTo>
                  <a:pt x="61" y="16"/>
                </a:lnTo>
                <a:lnTo>
                  <a:pt x="52" y="25"/>
                </a:lnTo>
                <a:lnTo>
                  <a:pt x="44" y="36"/>
                </a:lnTo>
                <a:lnTo>
                  <a:pt x="36" y="49"/>
                </a:lnTo>
                <a:lnTo>
                  <a:pt x="29" y="63"/>
                </a:lnTo>
                <a:lnTo>
                  <a:pt x="22" y="78"/>
                </a:lnTo>
                <a:lnTo>
                  <a:pt x="17" y="94"/>
                </a:lnTo>
                <a:lnTo>
                  <a:pt x="11" y="112"/>
                </a:lnTo>
                <a:lnTo>
                  <a:pt x="7" y="131"/>
                </a:lnTo>
                <a:lnTo>
                  <a:pt x="4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7531200" y="336708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7414920" y="331164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7415280" y="336708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16200000">
            <a:off x="4165560" y="37922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3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16200000">
            <a:off x="4167000" y="39020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335480" y="40672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14080" y="3849840"/>
            <a:ext cx="180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335480" y="411912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5127480" y="379584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16200000">
            <a:off x="4083120" y="370836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8" y="77"/>
                </a:lnTo>
                <a:lnTo>
                  <a:pt x="72" y="62"/>
                </a:lnTo>
                <a:lnTo>
                  <a:pt x="64" y="48"/>
                </a:lnTo>
                <a:lnTo>
                  <a:pt x="56" y="35"/>
                </a:lnTo>
                <a:lnTo>
                  <a:pt x="48" y="24"/>
                </a:lnTo>
                <a:lnTo>
                  <a:pt x="38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16200000">
            <a:off x="4082040" y="3868920"/>
            <a:ext cx="16380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4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7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448160" y="3847680"/>
            <a:ext cx="566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4334040" y="3793680"/>
            <a:ext cx="793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4333680" y="3847680"/>
            <a:ext cx="114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16200000">
            <a:off x="4166280" y="4116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6200000">
            <a:off x="4167000" y="42274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335480" y="439272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14080" y="4178160"/>
            <a:ext cx="180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335480" y="444456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127480" y="412128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4082400" y="40330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0"/>
                </a:lnTo>
                <a:lnTo>
                  <a:pt x="98" y="150"/>
                </a:lnTo>
                <a:lnTo>
                  <a:pt x="94" y="130"/>
                </a:lnTo>
                <a:lnTo>
                  <a:pt x="90" y="111"/>
                </a:lnTo>
                <a:lnTo>
                  <a:pt x="85" y="94"/>
                </a:lnTo>
                <a:lnTo>
                  <a:pt x="79" y="77"/>
                </a:lnTo>
                <a:lnTo>
                  <a:pt x="73" y="62"/>
                </a:lnTo>
                <a:lnTo>
                  <a:pt x="65" y="48"/>
                </a:lnTo>
                <a:lnTo>
                  <a:pt x="56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16200000">
            <a:off x="4083120" y="419724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3" y="24"/>
                </a:lnTo>
                <a:lnTo>
                  <a:pt x="45" y="35"/>
                </a:lnTo>
                <a:lnTo>
                  <a:pt x="36" y="48"/>
                </a:lnTo>
                <a:lnTo>
                  <a:pt x="30" y="62"/>
                </a:lnTo>
                <a:lnTo>
                  <a:pt x="22" y="77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448160" y="417528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4334040" y="4119120"/>
            <a:ext cx="793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4333680" y="4175280"/>
            <a:ext cx="11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16200000">
            <a:off x="4166280" y="4440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2"/>
                </a:lnTo>
                <a:lnTo>
                  <a:pt x="38" y="24"/>
                </a:lnTo>
                <a:lnTo>
                  <a:pt x="32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6200000">
            <a:off x="4167000" y="455112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2"/>
                </a:lnTo>
                <a:lnTo>
                  <a:pt x="19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335480" y="471600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14080" y="4502160"/>
            <a:ext cx="180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335480" y="47689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127480" y="444492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16200000">
            <a:off x="4082400" y="435672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0"/>
                </a:lnTo>
                <a:lnTo>
                  <a:pt x="97" y="150"/>
                </a:lnTo>
                <a:lnTo>
                  <a:pt x="94" y="130"/>
                </a:lnTo>
                <a:lnTo>
                  <a:pt x="90" y="111"/>
                </a:lnTo>
                <a:lnTo>
                  <a:pt x="84" y="94"/>
                </a:lnTo>
                <a:lnTo>
                  <a:pt x="79" y="77"/>
                </a:lnTo>
                <a:lnTo>
                  <a:pt x="73" y="62"/>
                </a:lnTo>
                <a:lnTo>
                  <a:pt x="65" y="48"/>
                </a:lnTo>
                <a:lnTo>
                  <a:pt x="56" y="35"/>
                </a:lnTo>
                <a:lnTo>
                  <a:pt x="49" y="24"/>
                </a:lnTo>
                <a:lnTo>
                  <a:pt x="39" y="16"/>
                </a:lnTo>
                <a:lnTo>
                  <a:pt x="30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6200000">
            <a:off x="4083120" y="452124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2" y="24"/>
                </a:lnTo>
                <a:lnTo>
                  <a:pt x="45" y="35"/>
                </a:lnTo>
                <a:lnTo>
                  <a:pt x="36" y="48"/>
                </a:lnTo>
                <a:lnTo>
                  <a:pt x="30" y="62"/>
                </a:lnTo>
                <a:lnTo>
                  <a:pt x="22" y="77"/>
                </a:lnTo>
                <a:lnTo>
                  <a:pt x="17" y="94"/>
                </a:lnTo>
                <a:lnTo>
                  <a:pt x="11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448160" y="4498560"/>
            <a:ext cx="566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flipV="1">
            <a:off x="4334040" y="4443480"/>
            <a:ext cx="79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4333680" y="4498560"/>
            <a:ext cx="114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6200000">
            <a:off x="7246080" y="2661120"/>
            <a:ext cx="111240" cy="227160"/>
          </a:xfrm>
          <a:custGeom>
            <a:avLst/>
            <a:gdLst/>
            <a:ahLst/>
            <a:rect l="l" t="t" r="r" b="b"/>
            <a:pathLst>
              <a:path w="70" h="143">
                <a:moveTo>
                  <a:pt x="70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2"/>
                </a:lnTo>
                <a:lnTo>
                  <a:pt x="53" y="51"/>
                </a:lnTo>
                <a:lnTo>
                  <a:pt x="49" y="42"/>
                </a:lnTo>
                <a:lnTo>
                  <a:pt x="44" y="32"/>
                </a:lnTo>
                <a:lnTo>
                  <a:pt x="38" y="23"/>
                </a:lnTo>
                <a:lnTo>
                  <a:pt x="33" y="17"/>
                </a:lnTo>
                <a:lnTo>
                  <a:pt x="26" y="10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16200000">
            <a:off x="7247880" y="2770560"/>
            <a:ext cx="107640" cy="22716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0"/>
                </a:lnTo>
                <a:lnTo>
                  <a:pt x="36" y="17"/>
                </a:lnTo>
                <a:lnTo>
                  <a:pt x="31" y="23"/>
                </a:lnTo>
                <a:lnTo>
                  <a:pt x="25" y="32"/>
                </a:lnTo>
                <a:lnTo>
                  <a:pt x="20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7415280" y="293544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093880" y="2717640"/>
            <a:ext cx="180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7415280" y="2987280"/>
            <a:ext cx="7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8209080" y="266400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16200000">
            <a:off x="7161840" y="2575800"/>
            <a:ext cx="163440" cy="33948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8" y="150"/>
                </a:lnTo>
                <a:lnTo>
                  <a:pt x="94" y="131"/>
                </a:lnTo>
                <a:lnTo>
                  <a:pt x="90" y="112"/>
                </a:lnTo>
                <a:lnTo>
                  <a:pt x="85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7" y="36"/>
                </a:lnTo>
                <a:lnTo>
                  <a:pt x="49" y="25"/>
                </a:lnTo>
                <a:lnTo>
                  <a:pt x="39" y="16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6200000">
            <a:off x="7162560" y="2739960"/>
            <a:ext cx="162000" cy="33948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2" y="1"/>
                </a:lnTo>
                <a:lnTo>
                  <a:pt x="81" y="4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2"/>
                </a:lnTo>
                <a:lnTo>
                  <a:pt x="7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7529400" y="271620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7413480" y="2661840"/>
            <a:ext cx="795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7413480" y="271620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6200000">
            <a:off x="464112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43981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6200000">
            <a:off x="431640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40741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6200000">
            <a:off x="399240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375048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366804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34250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464112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43981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rot="16200000">
            <a:off x="431640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rot="16200000">
            <a:off x="40741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399240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375048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16200000">
            <a:off x="366804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16200000">
            <a:off x="34250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200000">
            <a:off x="334332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3344760" y="606744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6200000">
            <a:off x="7248240" y="298404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2"/>
                </a:lnTo>
                <a:lnTo>
                  <a:pt x="53" y="51"/>
                </a:lnTo>
                <a:lnTo>
                  <a:pt x="49" y="42"/>
                </a:lnTo>
                <a:lnTo>
                  <a:pt x="43" y="32"/>
                </a:lnTo>
                <a:lnTo>
                  <a:pt x="38" y="23"/>
                </a:lnTo>
                <a:lnTo>
                  <a:pt x="33" y="17"/>
                </a:lnTo>
                <a:lnTo>
                  <a:pt x="26" y="10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6200000">
            <a:off x="7249320" y="3094920"/>
            <a:ext cx="108000" cy="22680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0"/>
                </a:lnTo>
                <a:lnTo>
                  <a:pt x="36" y="17"/>
                </a:lnTo>
                <a:lnTo>
                  <a:pt x="30" y="23"/>
                </a:lnTo>
                <a:lnTo>
                  <a:pt x="25" y="32"/>
                </a:lnTo>
                <a:lnTo>
                  <a:pt x="20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7416720" y="3258720"/>
            <a:ext cx="681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097840" y="3044880"/>
            <a:ext cx="1440" cy="21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7416720" y="331164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8210520" y="298764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16200000">
            <a:off x="7163640" y="289944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8" y="151"/>
                </a:lnTo>
                <a:lnTo>
                  <a:pt x="94" y="131"/>
                </a:lnTo>
                <a:lnTo>
                  <a:pt x="90" y="112"/>
                </a:lnTo>
                <a:lnTo>
                  <a:pt x="85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1" y="9"/>
                </a:lnTo>
                <a:lnTo>
                  <a:pt x="21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16200000">
            <a:off x="7164360" y="306396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2" y="1"/>
                </a:lnTo>
                <a:lnTo>
                  <a:pt x="81" y="5"/>
                </a:lnTo>
                <a:lnTo>
                  <a:pt x="71" y="9"/>
                </a:lnTo>
                <a:lnTo>
                  <a:pt x="62" y="16"/>
                </a:lnTo>
                <a:lnTo>
                  <a:pt x="53" y="25"/>
                </a:lnTo>
                <a:lnTo>
                  <a:pt x="45" y="36"/>
                </a:lnTo>
                <a:lnTo>
                  <a:pt x="36" y="49"/>
                </a:lnTo>
                <a:lnTo>
                  <a:pt x="30" y="63"/>
                </a:lnTo>
                <a:lnTo>
                  <a:pt x="22" y="78"/>
                </a:lnTo>
                <a:lnTo>
                  <a:pt x="17" y="94"/>
                </a:lnTo>
                <a:lnTo>
                  <a:pt x="12" y="112"/>
                </a:lnTo>
                <a:lnTo>
                  <a:pt x="7" y="131"/>
                </a:lnTo>
                <a:lnTo>
                  <a:pt x="4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7531200" y="304164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7414920" y="298620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415280" y="304164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180840" y="-1467720"/>
            <a:ext cx="1800" cy="5673960"/>
          </a:xfrm>
          <a:custGeom>
            <a:avLst/>
            <a:gdLst/>
            <a:ahLst/>
            <a:rect l="l" t="t" r="r" b="b"/>
            <a:pathLst>
              <a:path w="0" h="3574">
                <a:moveTo>
                  <a:pt x="0" y="0"/>
                </a:moveTo>
                <a:lnTo>
                  <a:pt x="0" y="628"/>
                </a:lnTo>
                <a:lnTo>
                  <a:pt x="0" y="1179"/>
                </a:lnTo>
                <a:lnTo>
                  <a:pt x="0" y="1656"/>
                </a:lnTo>
                <a:lnTo>
                  <a:pt x="0" y="2066"/>
                </a:lnTo>
                <a:lnTo>
                  <a:pt x="0" y="2412"/>
                </a:lnTo>
                <a:lnTo>
                  <a:pt x="0" y="2701"/>
                </a:lnTo>
                <a:lnTo>
                  <a:pt x="0" y="2937"/>
                </a:lnTo>
                <a:lnTo>
                  <a:pt x="0" y="3126"/>
                </a:lnTo>
                <a:lnTo>
                  <a:pt x="0" y="3275"/>
                </a:lnTo>
                <a:lnTo>
                  <a:pt x="0" y="3385"/>
                </a:lnTo>
                <a:lnTo>
                  <a:pt x="0" y="3465"/>
                </a:lnTo>
                <a:lnTo>
                  <a:pt x="0" y="3518"/>
                </a:lnTo>
                <a:lnTo>
                  <a:pt x="0" y="3550"/>
                </a:lnTo>
                <a:lnTo>
                  <a:pt x="0" y="3567"/>
                </a:lnTo>
                <a:lnTo>
                  <a:pt x="0" y="3573"/>
                </a:lnTo>
                <a:lnTo>
                  <a:pt x="0" y="357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6588000" y="3800160"/>
            <a:ext cx="4862520" cy="1440"/>
          </a:xfrm>
          <a:custGeom>
            <a:avLst/>
            <a:gdLst/>
            <a:ahLst/>
            <a:rect l="l" t="t" r="r" b="b"/>
            <a:pathLst>
              <a:path w="3063" h="0">
                <a:moveTo>
                  <a:pt x="3063" y="0"/>
                </a:moveTo>
                <a:lnTo>
                  <a:pt x="2522" y="0"/>
                </a:lnTo>
                <a:lnTo>
                  <a:pt x="2052" y="0"/>
                </a:lnTo>
                <a:lnTo>
                  <a:pt x="1642" y="0"/>
                </a:lnTo>
                <a:lnTo>
                  <a:pt x="1292" y="0"/>
                </a:lnTo>
                <a:lnTo>
                  <a:pt x="995" y="0"/>
                </a:lnTo>
                <a:lnTo>
                  <a:pt x="748" y="0"/>
                </a:lnTo>
                <a:lnTo>
                  <a:pt x="545" y="0"/>
                </a:lnTo>
                <a:lnTo>
                  <a:pt x="383" y="0"/>
                </a:lnTo>
                <a:lnTo>
                  <a:pt x="256" y="0"/>
                </a:lnTo>
                <a:lnTo>
                  <a:pt x="161" y="0"/>
                </a:lnTo>
                <a:lnTo>
                  <a:pt x="93" y="0"/>
                </a:lnTo>
                <a:lnTo>
                  <a:pt x="48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1892880" y="36295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3" y="88"/>
                </a:lnTo>
                <a:lnTo>
                  <a:pt x="60" y="75"/>
                </a:lnTo>
                <a:lnTo>
                  <a:pt x="56" y="63"/>
                </a:lnTo>
                <a:lnTo>
                  <a:pt x="53" y="52"/>
                </a:lnTo>
                <a:lnTo>
                  <a:pt x="49" y="43"/>
                </a:lnTo>
                <a:lnTo>
                  <a:pt x="43" y="33"/>
                </a:lnTo>
                <a:lnTo>
                  <a:pt x="38" y="24"/>
                </a:lnTo>
                <a:lnTo>
                  <a:pt x="32" y="18"/>
                </a:lnTo>
                <a:lnTo>
                  <a:pt x="26" y="11"/>
                </a:lnTo>
                <a:lnTo>
                  <a:pt x="19" y="7"/>
                </a:lnTo>
                <a:lnTo>
                  <a:pt x="13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1893600" y="37400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3"/>
                </a:lnTo>
                <a:lnTo>
                  <a:pt x="47" y="7"/>
                </a:lnTo>
                <a:lnTo>
                  <a:pt x="41" y="11"/>
                </a:lnTo>
                <a:lnTo>
                  <a:pt x="36" y="18"/>
                </a:lnTo>
                <a:lnTo>
                  <a:pt x="30" y="24"/>
                </a:lnTo>
                <a:lnTo>
                  <a:pt x="25" y="33"/>
                </a:lnTo>
                <a:lnTo>
                  <a:pt x="19" y="43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062080" y="3905280"/>
            <a:ext cx="679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741760" y="3691080"/>
            <a:ext cx="1440" cy="21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062080" y="395928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855880" y="3634920"/>
            <a:ext cx="1800" cy="32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1809000" y="354564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1"/>
                </a:lnTo>
                <a:lnTo>
                  <a:pt x="97" y="150"/>
                </a:lnTo>
                <a:lnTo>
                  <a:pt x="94" y="131"/>
                </a:lnTo>
                <a:lnTo>
                  <a:pt x="90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200000">
            <a:off x="1809000" y="37090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2" y="9"/>
                </a:lnTo>
                <a:lnTo>
                  <a:pt x="63" y="16"/>
                </a:lnTo>
                <a:lnTo>
                  <a:pt x="53" y="25"/>
                </a:lnTo>
                <a:lnTo>
                  <a:pt x="46" y="36"/>
                </a:lnTo>
                <a:lnTo>
                  <a:pt x="37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1"/>
                </a:lnTo>
                <a:lnTo>
                  <a:pt x="8" y="131"/>
                </a:lnTo>
                <a:lnTo>
                  <a:pt x="5" y="150"/>
                </a:lnTo>
                <a:lnTo>
                  <a:pt x="2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176560" y="368784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060280" y="3631680"/>
            <a:ext cx="79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2060640" y="368784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10080" y="1240200"/>
            <a:ext cx="241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 mal ausdruc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181320" y="6227280"/>
            <a:ext cx="16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2857320" y="6227280"/>
            <a:ext cx="485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857680" y="590400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2532240" y="590184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532240" y="558144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 flipV="1">
            <a:off x="2208240" y="557856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208240" y="525780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1884240" y="525420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884240" y="493380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 flipV="1">
            <a:off x="1558800" y="493092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558800" y="460980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 flipV="1">
            <a:off x="1234800" y="46069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1236600" y="428436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 flipV="1">
            <a:off x="911160" y="428256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912960" y="396072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585720" y="395928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720" y="363528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85720" y="3633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911160" y="33127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 flipV="1">
            <a:off x="2857320" y="1366920"/>
            <a:ext cx="48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57680" y="136836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2532240" y="169236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32240" y="169560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2208240" y="201564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08240" y="201924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1884240" y="234000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883520" y="234324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1558800" y="266400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558080" y="266688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 flipV="1">
            <a:off x="1234800" y="298728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35880" y="298944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911160" y="331164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 flipV="1">
            <a:off x="9020160" y="606744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9182160" y="1531440"/>
            <a:ext cx="1440" cy="45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 flipV="1">
            <a:off x="9020160" y="1366920"/>
            <a:ext cx="163440" cy="16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6200000">
            <a:off x="472356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6200000">
            <a:off x="49654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504720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6200000">
            <a:off x="52894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16200000">
            <a:off x="537120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6200000">
            <a:off x="561420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6200000">
            <a:off x="56966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6200000">
            <a:off x="593892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6200000">
            <a:off x="60206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6200000">
            <a:off x="626256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634428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658728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66697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691200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6200000">
            <a:off x="69937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6200000">
            <a:off x="723564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6200000">
            <a:off x="731736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6200000">
            <a:off x="7560360" y="13676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16200000">
            <a:off x="764280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6200000">
            <a:off x="788508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16200000">
            <a:off x="796680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820872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200000">
            <a:off x="829044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6200000">
            <a:off x="8533440" y="136764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6200000">
            <a:off x="8615880" y="144828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6200000">
            <a:off x="885816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6200000">
            <a:off x="885816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6200000">
            <a:off x="861588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200000">
            <a:off x="8533440" y="60681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200000">
            <a:off x="829044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200000">
            <a:off x="820872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200000">
            <a:off x="796680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200000">
            <a:off x="78850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200000">
            <a:off x="764280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6200000">
            <a:off x="7560360" y="6068160"/>
            <a:ext cx="163440" cy="16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6200000">
            <a:off x="731736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6200000">
            <a:off x="723564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6200000">
            <a:off x="69937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6200000">
            <a:off x="691200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rot="16200000">
            <a:off x="66697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16200000">
            <a:off x="658728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16200000">
            <a:off x="634428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6200000">
            <a:off x="626256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6200000">
            <a:off x="60206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6200000">
            <a:off x="593892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6200000">
            <a:off x="56966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6200000">
            <a:off x="561420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16200000">
            <a:off x="537120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6200000">
            <a:off x="52894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6200000">
            <a:off x="5047200" y="5988600"/>
            <a:ext cx="324000" cy="16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6200000">
            <a:off x="496548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4721760" y="5990400"/>
            <a:ext cx="32400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6200000">
            <a:off x="173880" y="1241640"/>
            <a:ext cx="78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u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6200000">
            <a:off x="796680" y="124056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6200000">
            <a:off x="7248240" y="330948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0" y="74"/>
                </a:lnTo>
                <a:lnTo>
                  <a:pt x="56" y="62"/>
                </a:lnTo>
                <a:lnTo>
                  <a:pt x="53" y="51"/>
                </a:lnTo>
                <a:lnTo>
                  <a:pt x="49" y="42"/>
                </a:lnTo>
                <a:lnTo>
                  <a:pt x="43" y="32"/>
                </a:lnTo>
                <a:lnTo>
                  <a:pt x="38" y="23"/>
                </a:lnTo>
                <a:lnTo>
                  <a:pt x="32" y="17"/>
                </a:lnTo>
                <a:lnTo>
                  <a:pt x="26" y="10"/>
                </a:lnTo>
                <a:lnTo>
                  <a:pt x="19" y="6"/>
                </a:lnTo>
                <a:lnTo>
                  <a:pt x="13" y="2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7250040" y="3417480"/>
            <a:ext cx="106200" cy="226800"/>
          </a:xfrm>
          <a:custGeom>
            <a:avLst/>
            <a:gdLst/>
            <a:ahLst/>
            <a:rect l="l" t="t" r="r" b="b"/>
            <a:pathLst>
              <a:path w="67" h="143">
                <a:moveTo>
                  <a:pt x="67" y="0"/>
                </a:moveTo>
                <a:lnTo>
                  <a:pt x="59" y="0"/>
                </a:lnTo>
                <a:lnTo>
                  <a:pt x="53" y="2"/>
                </a:lnTo>
                <a:lnTo>
                  <a:pt x="48" y="6"/>
                </a:lnTo>
                <a:lnTo>
                  <a:pt x="41" y="10"/>
                </a:lnTo>
                <a:lnTo>
                  <a:pt x="35" y="17"/>
                </a:lnTo>
                <a:lnTo>
                  <a:pt x="29" y="23"/>
                </a:lnTo>
                <a:lnTo>
                  <a:pt x="25" y="32"/>
                </a:lnTo>
                <a:lnTo>
                  <a:pt x="19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416720" y="3583080"/>
            <a:ext cx="681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97840" y="3368520"/>
            <a:ext cx="1440" cy="21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416720" y="3634920"/>
            <a:ext cx="7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8210520" y="331452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16200000">
            <a:off x="7163640" y="32248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7" y="151"/>
                </a:lnTo>
                <a:lnTo>
                  <a:pt x="94" y="131"/>
                </a:lnTo>
                <a:lnTo>
                  <a:pt x="90" y="112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6200000">
            <a:off x="7165080" y="3386880"/>
            <a:ext cx="160560" cy="339840"/>
          </a:xfrm>
          <a:custGeom>
            <a:avLst/>
            <a:gdLst/>
            <a:ahLst/>
            <a:rect l="l" t="t" r="r" b="b"/>
            <a:pathLst>
              <a:path w="101" h="214">
                <a:moveTo>
                  <a:pt x="101" y="0"/>
                </a:moveTo>
                <a:lnTo>
                  <a:pt x="90" y="1"/>
                </a:lnTo>
                <a:lnTo>
                  <a:pt x="81" y="5"/>
                </a:lnTo>
                <a:lnTo>
                  <a:pt x="71" y="9"/>
                </a:lnTo>
                <a:lnTo>
                  <a:pt x="61" y="16"/>
                </a:lnTo>
                <a:lnTo>
                  <a:pt x="52" y="25"/>
                </a:lnTo>
                <a:lnTo>
                  <a:pt x="44" y="36"/>
                </a:lnTo>
                <a:lnTo>
                  <a:pt x="36" y="49"/>
                </a:lnTo>
                <a:lnTo>
                  <a:pt x="29" y="63"/>
                </a:lnTo>
                <a:lnTo>
                  <a:pt x="22" y="78"/>
                </a:lnTo>
                <a:lnTo>
                  <a:pt x="17" y="94"/>
                </a:lnTo>
                <a:lnTo>
                  <a:pt x="11" y="112"/>
                </a:lnTo>
                <a:lnTo>
                  <a:pt x="7" y="131"/>
                </a:lnTo>
                <a:lnTo>
                  <a:pt x="4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7531200" y="336708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7414920" y="331164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7415280" y="336708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rot="16200000">
            <a:off x="4165560" y="379224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4"/>
                </a:moveTo>
                <a:lnTo>
                  <a:pt x="69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3"/>
                </a:lnTo>
                <a:lnTo>
                  <a:pt x="53" y="52"/>
                </a:lnTo>
                <a:lnTo>
                  <a:pt x="49" y="42"/>
                </a:lnTo>
                <a:lnTo>
                  <a:pt x="44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rot="16200000">
            <a:off x="4167000" y="39020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1" y="24"/>
                </a:lnTo>
                <a:lnTo>
                  <a:pt x="25" y="32"/>
                </a:lnTo>
                <a:lnTo>
                  <a:pt x="20" y="42"/>
                </a:lnTo>
                <a:lnTo>
                  <a:pt x="16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335480" y="40672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014080" y="3849840"/>
            <a:ext cx="180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4335480" y="411912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127480" y="379584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16200000">
            <a:off x="4083120" y="370836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214"/>
                </a:moveTo>
                <a:lnTo>
                  <a:pt x="101" y="191"/>
                </a:lnTo>
                <a:lnTo>
                  <a:pt x="100" y="170"/>
                </a:lnTo>
                <a:lnTo>
                  <a:pt x="97" y="150"/>
                </a:lnTo>
                <a:lnTo>
                  <a:pt x="94" y="130"/>
                </a:lnTo>
                <a:lnTo>
                  <a:pt x="89" y="111"/>
                </a:lnTo>
                <a:lnTo>
                  <a:pt x="84" y="94"/>
                </a:lnTo>
                <a:lnTo>
                  <a:pt x="78" y="77"/>
                </a:lnTo>
                <a:lnTo>
                  <a:pt x="72" y="62"/>
                </a:lnTo>
                <a:lnTo>
                  <a:pt x="64" y="48"/>
                </a:lnTo>
                <a:lnTo>
                  <a:pt x="56" y="35"/>
                </a:lnTo>
                <a:lnTo>
                  <a:pt x="48" y="24"/>
                </a:lnTo>
                <a:lnTo>
                  <a:pt x="38" y="16"/>
                </a:lnTo>
                <a:lnTo>
                  <a:pt x="30" y="8"/>
                </a:lnTo>
                <a:lnTo>
                  <a:pt x="20" y="4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16200000">
            <a:off x="4082040" y="3868920"/>
            <a:ext cx="16380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1" y="8"/>
                </a:lnTo>
                <a:lnTo>
                  <a:pt x="63" y="16"/>
                </a:lnTo>
                <a:lnTo>
                  <a:pt x="53" y="24"/>
                </a:lnTo>
                <a:lnTo>
                  <a:pt x="45" y="35"/>
                </a:lnTo>
                <a:lnTo>
                  <a:pt x="37" y="48"/>
                </a:lnTo>
                <a:lnTo>
                  <a:pt x="30" y="62"/>
                </a:lnTo>
                <a:lnTo>
                  <a:pt x="23" y="77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448160" y="3847680"/>
            <a:ext cx="566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 flipV="1">
            <a:off x="4334040" y="3793680"/>
            <a:ext cx="793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flipV="1">
            <a:off x="4333680" y="3847680"/>
            <a:ext cx="114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16200000">
            <a:off x="4166280" y="4116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2"/>
                </a:lnTo>
                <a:lnTo>
                  <a:pt x="38" y="24"/>
                </a:lnTo>
                <a:lnTo>
                  <a:pt x="33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rot="16200000">
            <a:off x="4167000" y="422748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2"/>
                </a:lnTo>
                <a:lnTo>
                  <a:pt x="20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4335480" y="439272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014080" y="4178160"/>
            <a:ext cx="180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4335480" y="4444560"/>
            <a:ext cx="79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127480" y="412128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rot="16200000">
            <a:off x="4082400" y="40330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0"/>
                </a:lnTo>
                <a:lnTo>
                  <a:pt x="98" y="150"/>
                </a:lnTo>
                <a:lnTo>
                  <a:pt x="94" y="130"/>
                </a:lnTo>
                <a:lnTo>
                  <a:pt x="90" y="111"/>
                </a:lnTo>
                <a:lnTo>
                  <a:pt x="85" y="94"/>
                </a:lnTo>
                <a:lnTo>
                  <a:pt x="79" y="77"/>
                </a:lnTo>
                <a:lnTo>
                  <a:pt x="73" y="62"/>
                </a:lnTo>
                <a:lnTo>
                  <a:pt x="65" y="48"/>
                </a:lnTo>
                <a:lnTo>
                  <a:pt x="56" y="35"/>
                </a:lnTo>
                <a:lnTo>
                  <a:pt x="49" y="24"/>
                </a:lnTo>
                <a:lnTo>
                  <a:pt x="39" y="16"/>
                </a:lnTo>
                <a:lnTo>
                  <a:pt x="31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rot="16200000">
            <a:off x="4083120" y="419724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3" y="24"/>
                </a:lnTo>
                <a:lnTo>
                  <a:pt x="45" y="35"/>
                </a:lnTo>
                <a:lnTo>
                  <a:pt x="36" y="48"/>
                </a:lnTo>
                <a:lnTo>
                  <a:pt x="30" y="62"/>
                </a:lnTo>
                <a:lnTo>
                  <a:pt x="22" y="77"/>
                </a:lnTo>
                <a:lnTo>
                  <a:pt x="17" y="94"/>
                </a:lnTo>
                <a:lnTo>
                  <a:pt x="12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4448160" y="417528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4334040" y="4119120"/>
            <a:ext cx="793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 flipV="1">
            <a:off x="4333680" y="4175280"/>
            <a:ext cx="11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rot="16200000">
            <a:off x="4166280" y="444096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3"/>
                </a:lnTo>
                <a:lnTo>
                  <a:pt x="53" y="52"/>
                </a:lnTo>
                <a:lnTo>
                  <a:pt x="49" y="42"/>
                </a:lnTo>
                <a:lnTo>
                  <a:pt x="43" y="32"/>
                </a:lnTo>
                <a:lnTo>
                  <a:pt x="38" y="24"/>
                </a:lnTo>
                <a:lnTo>
                  <a:pt x="32" y="17"/>
                </a:lnTo>
                <a:lnTo>
                  <a:pt x="26" y="11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16200000">
            <a:off x="4167000" y="455112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2"/>
                </a:lnTo>
                <a:lnTo>
                  <a:pt x="48" y="6"/>
                </a:lnTo>
                <a:lnTo>
                  <a:pt x="41" y="11"/>
                </a:lnTo>
                <a:lnTo>
                  <a:pt x="36" y="17"/>
                </a:lnTo>
                <a:lnTo>
                  <a:pt x="30" y="24"/>
                </a:lnTo>
                <a:lnTo>
                  <a:pt x="25" y="32"/>
                </a:lnTo>
                <a:lnTo>
                  <a:pt x="19" y="42"/>
                </a:lnTo>
                <a:lnTo>
                  <a:pt x="15" y="52"/>
                </a:lnTo>
                <a:lnTo>
                  <a:pt x="11" y="63"/>
                </a:lnTo>
                <a:lnTo>
                  <a:pt x="8" y="74"/>
                </a:lnTo>
                <a:lnTo>
                  <a:pt x="5" y="87"/>
                </a:lnTo>
                <a:lnTo>
                  <a:pt x="2" y="100"/>
                </a:lnTo>
                <a:lnTo>
                  <a:pt x="1" y="114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335480" y="471600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014080" y="4502160"/>
            <a:ext cx="180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335480" y="4768920"/>
            <a:ext cx="79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5127480" y="444492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rot="16200000">
            <a:off x="4082400" y="435672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0"/>
                </a:lnTo>
                <a:lnTo>
                  <a:pt x="97" y="150"/>
                </a:lnTo>
                <a:lnTo>
                  <a:pt x="94" y="130"/>
                </a:lnTo>
                <a:lnTo>
                  <a:pt x="90" y="111"/>
                </a:lnTo>
                <a:lnTo>
                  <a:pt x="84" y="94"/>
                </a:lnTo>
                <a:lnTo>
                  <a:pt x="79" y="77"/>
                </a:lnTo>
                <a:lnTo>
                  <a:pt x="73" y="62"/>
                </a:lnTo>
                <a:lnTo>
                  <a:pt x="65" y="48"/>
                </a:lnTo>
                <a:lnTo>
                  <a:pt x="56" y="35"/>
                </a:lnTo>
                <a:lnTo>
                  <a:pt x="49" y="24"/>
                </a:lnTo>
                <a:lnTo>
                  <a:pt x="39" y="16"/>
                </a:lnTo>
                <a:lnTo>
                  <a:pt x="30" y="8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rot="16200000">
            <a:off x="4083120" y="452124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1" y="1"/>
                </a:lnTo>
                <a:lnTo>
                  <a:pt x="81" y="4"/>
                </a:lnTo>
                <a:lnTo>
                  <a:pt x="71" y="8"/>
                </a:lnTo>
                <a:lnTo>
                  <a:pt x="62" y="16"/>
                </a:lnTo>
                <a:lnTo>
                  <a:pt x="52" y="24"/>
                </a:lnTo>
                <a:lnTo>
                  <a:pt x="45" y="35"/>
                </a:lnTo>
                <a:lnTo>
                  <a:pt x="36" y="48"/>
                </a:lnTo>
                <a:lnTo>
                  <a:pt x="30" y="62"/>
                </a:lnTo>
                <a:lnTo>
                  <a:pt x="22" y="77"/>
                </a:lnTo>
                <a:lnTo>
                  <a:pt x="17" y="94"/>
                </a:lnTo>
                <a:lnTo>
                  <a:pt x="11" y="111"/>
                </a:lnTo>
                <a:lnTo>
                  <a:pt x="7" y="130"/>
                </a:lnTo>
                <a:lnTo>
                  <a:pt x="4" y="150"/>
                </a:lnTo>
                <a:lnTo>
                  <a:pt x="1" y="170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4448160" y="4498560"/>
            <a:ext cx="566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4334040" y="4443480"/>
            <a:ext cx="793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4333680" y="4498560"/>
            <a:ext cx="114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rot="16200000">
            <a:off x="7246080" y="2661120"/>
            <a:ext cx="111240" cy="227160"/>
          </a:xfrm>
          <a:custGeom>
            <a:avLst/>
            <a:gdLst/>
            <a:ahLst/>
            <a:rect l="l" t="t" r="r" b="b"/>
            <a:pathLst>
              <a:path w="70" h="143">
                <a:moveTo>
                  <a:pt x="70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7" y="62"/>
                </a:lnTo>
                <a:lnTo>
                  <a:pt x="53" y="51"/>
                </a:lnTo>
                <a:lnTo>
                  <a:pt x="49" y="42"/>
                </a:lnTo>
                <a:lnTo>
                  <a:pt x="44" y="32"/>
                </a:lnTo>
                <a:lnTo>
                  <a:pt x="38" y="23"/>
                </a:lnTo>
                <a:lnTo>
                  <a:pt x="33" y="17"/>
                </a:lnTo>
                <a:lnTo>
                  <a:pt x="26" y="10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16200000">
            <a:off x="7247880" y="2770560"/>
            <a:ext cx="107640" cy="22716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0"/>
                </a:lnTo>
                <a:lnTo>
                  <a:pt x="36" y="17"/>
                </a:lnTo>
                <a:lnTo>
                  <a:pt x="31" y="23"/>
                </a:lnTo>
                <a:lnTo>
                  <a:pt x="25" y="32"/>
                </a:lnTo>
                <a:lnTo>
                  <a:pt x="20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3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415280" y="293544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093880" y="2717640"/>
            <a:ext cx="180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415280" y="2987280"/>
            <a:ext cx="793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8209080" y="266400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rot="16200000">
            <a:off x="7161840" y="2575800"/>
            <a:ext cx="163440" cy="33948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8" y="150"/>
                </a:lnTo>
                <a:lnTo>
                  <a:pt x="94" y="131"/>
                </a:lnTo>
                <a:lnTo>
                  <a:pt x="90" y="112"/>
                </a:lnTo>
                <a:lnTo>
                  <a:pt x="85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7" y="36"/>
                </a:lnTo>
                <a:lnTo>
                  <a:pt x="49" y="25"/>
                </a:lnTo>
                <a:lnTo>
                  <a:pt x="39" y="16"/>
                </a:lnTo>
                <a:lnTo>
                  <a:pt x="31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6200000">
            <a:off x="7162560" y="2739960"/>
            <a:ext cx="162000" cy="33948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2" y="1"/>
                </a:lnTo>
                <a:lnTo>
                  <a:pt x="81" y="4"/>
                </a:lnTo>
                <a:lnTo>
                  <a:pt x="71" y="9"/>
                </a:lnTo>
                <a:lnTo>
                  <a:pt x="63" y="16"/>
                </a:lnTo>
                <a:lnTo>
                  <a:pt x="53" y="25"/>
                </a:lnTo>
                <a:lnTo>
                  <a:pt x="45" y="36"/>
                </a:lnTo>
                <a:lnTo>
                  <a:pt x="37" y="49"/>
                </a:lnTo>
                <a:lnTo>
                  <a:pt x="30" y="63"/>
                </a:lnTo>
                <a:lnTo>
                  <a:pt x="23" y="78"/>
                </a:lnTo>
                <a:lnTo>
                  <a:pt x="17" y="94"/>
                </a:lnTo>
                <a:lnTo>
                  <a:pt x="12" y="112"/>
                </a:lnTo>
                <a:lnTo>
                  <a:pt x="7" y="131"/>
                </a:lnTo>
                <a:lnTo>
                  <a:pt x="4" y="150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7529400" y="271620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 flipV="1">
            <a:off x="7413480" y="2661840"/>
            <a:ext cx="795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flipV="1">
            <a:off x="7413480" y="271620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rot="16200000">
            <a:off x="464112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16200000">
            <a:off x="43981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6200000">
            <a:off x="4316400" y="606888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16200000">
            <a:off x="407412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3992400" y="606888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16200000">
            <a:off x="375048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3668040" y="606816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3425040" y="598896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464112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43981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431640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407412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3992400" y="1368360"/>
            <a:ext cx="163440" cy="16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375048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3668040" y="1367640"/>
            <a:ext cx="163440" cy="16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16200000">
            <a:off x="3425040" y="1448640"/>
            <a:ext cx="32400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rot="16200000">
            <a:off x="3343320" y="1368360"/>
            <a:ext cx="163440" cy="16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3344760" y="6067440"/>
            <a:ext cx="163440" cy="16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7248240" y="298404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69" y="143"/>
                </a:moveTo>
                <a:lnTo>
                  <a:pt x="68" y="128"/>
                </a:lnTo>
                <a:lnTo>
                  <a:pt x="67" y="114"/>
                </a:lnTo>
                <a:lnTo>
                  <a:pt x="66" y="100"/>
                </a:lnTo>
                <a:lnTo>
                  <a:pt x="63" y="87"/>
                </a:lnTo>
                <a:lnTo>
                  <a:pt x="61" y="74"/>
                </a:lnTo>
                <a:lnTo>
                  <a:pt x="56" y="62"/>
                </a:lnTo>
                <a:lnTo>
                  <a:pt x="53" y="51"/>
                </a:lnTo>
                <a:lnTo>
                  <a:pt x="49" y="42"/>
                </a:lnTo>
                <a:lnTo>
                  <a:pt x="43" y="32"/>
                </a:lnTo>
                <a:lnTo>
                  <a:pt x="38" y="23"/>
                </a:lnTo>
                <a:lnTo>
                  <a:pt x="33" y="17"/>
                </a:lnTo>
                <a:lnTo>
                  <a:pt x="26" y="10"/>
                </a:lnTo>
                <a:lnTo>
                  <a:pt x="20" y="6"/>
                </a:lnTo>
                <a:lnTo>
                  <a:pt x="13" y="2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16200000">
            <a:off x="7249320" y="3094920"/>
            <a:ext cx="108000" cy="226800"/>
          </a:xfrm>
          <a:custGeom>
            <a:avLst/>
            <a:gdLst/>
            <a:ahLst/>
            <a:rect l="l" t="t" r="r" b="b"/>
            <a:pathLst>
              <a:path w="68" h="143">
                <a:moveTo>
                  <a:pt x="68" y="0"/>
                </a:moveTo>
                <a:lnTo>
                  <a:pt x="61" y="0"/>
                </a:lnTo>
                <a:lnTo>
                  <a:pt x="54" y="2"/>
                </a:lnTo>
                <a:lnTo>
                  <a:pt x="48" y="6"/>
                </a:lnTo>
                <a:lnTo>
                  <a:pt x="41" y="10"/>
                </a:lnTo>
                <a:lnTo>
                  <a:pt x="36" y="17"/>
                </a:lnTo>
                <a:lnTo>
                  <a:pt x="30" y="23"/>
                </a:lnTo>
                <a:lnTo>
                  <a:pt x="25" y="32"/>
                </a:lnTo>
                <a:lnTo>
                  <a:pt x="20" y="42"/>
                </a:lnTo>
                <a:lnTo>
                  <a:pt x="15" y="51"/>
                </a:lnTo>
                <a:lnTo>
                  <a:pt x="11" y="62"/>
                </a:lnTo>
                <a:lnTo>
                  <a:pt x="8" y="74"/>
                </a:lnTo>
                <a:lnTo>
                  <a:pt x="6" y="87"/>
                </a:lnTo>
                <a:lnTo>
                  <a:pt x="2" y="100"/>
                </a:lnTo>
                <a:lnTo>
                  <a:pt x="1" y="114"/>
                </a:lnTo>
                <a:lnTo>
                  <a:pt x="0" y="128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416720" y="3258720"/>
            <a:ext cx="681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97840" y="3044880"/>
            <a:ext cx="1440" cy="21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416720" y="331164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8210520" y="298764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7163640" y="289944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2"/>
                </a:lnTo>
                <a:lnTo>
                  <a:pt x="101" y="171"/>
                </a:lnTo>
                <a:lnTo>
                  <a:pt x="98" y="151"/>
                </a:lnTo>
                <a:lnTo>
                  <a:pt x="94" y="131"/>
                </a:lnTo>
                <a:lnTo>
                  <a:pt x="90" y="112"/>
                </a:lnTo>
                <a:lnTo>
                  <a:pt x="85" y="94"/>
                </a:lnTo>
                <a:lnTo>
                  <a:pt x="79" y="78"/>
                </a:lnTo>
                <a:lnTo>
                  <a:pt x="73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1" y="9"/>
                </a:lnTo>
                <a:lnTo>
                  <a:pt x="21" y="5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7164360" y="3063960"/>
            <a:ext cx="162000" cy="339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102" y="0"/>
                </a:moveTo>
                <a:lnTo>
                  <a:pt x="92" y="1"/>
                </a:lnTo>
                <a:lnTo>
                  <a:pt x="81" y="5"/>
                </a:lnTo>
                <a:lnTo>
                  <a:pt x="71" y="9"/>
                </a:lnTo>
                <a:lnTo>
                  <a:pt x="62" y="16"/>
                </a:lnTo>
                <a:lnTo>
                  <a:pt x="53" y="25"/>
                </a:lnTo>
                <a:lnTo>
                  <a:pt x="45" y="36"/>
                </a:lnTo>
                <a:lnTo>
                  <a:pt x="36" y="49"/>
                </a:lnTo>
                <a:lnTo>
                  <a:pt x="30" y="63"/>
                </a:lnTo>
                <a:lnTo>
                  <a:pt x="22" y="78"/>
                </a:lnTo>
                <a:lnTo>
                  <a:pt x="17" y="94"/>
                </a:lnTo>
                <a:lnTo>
                  <a:pt x="12" y="112"/>
                </a:lnTo>
                <a:lnTo>
                  <a:pt x="7" y="131"/>
                </a:lnTo>
                <a:lnTo>
                  <a:pt x="4" y="151"/>
                </a:lnTo>
                <a:lnTo>
                  <a:pt x="1" y="171"/>
                </a:lnTo>
                <a:lnTo>
                  <a:pt x="0" y="192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7531200" y="3041640"/>
            <a:ext cx="56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>
            <a:off x="7414920" y="2986200"/>
            <a:ext cx="795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7415280" y="304164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rot="16200000">
            <a:off x="6180840" y="-1467720"/>
            <a:ext cx="1800" cy="5673960"/>
          </a:xfrm>
          <a:custGeom>
            <a:avLst/>
            <a:gdLst/>
            <a:ahLst/>
            <a:rect l="l" t="t" r="r" b="b"/>
            <a:pathLst>
              <a:path w="0" h="3574">
                <a:moveTo>
                  <a:pt x="0" y="0"/>
                </a:moveTo>
                <a:lnTo>
                  <a:pt x="0" y="628"/>
                </a:lnTo>
                <a:lnTo>
                  <a:pt x="0" y="1179"/>
                </a:lnTo>
                <a:lnTo>
                  <a:pt x="0" y="1656"/>
                </a:lnTo>
                <a:lnTo>
                  <a:pt x="0" y="2066"/>
                </a:lnTo>
                <a:lnTo>
                  <a:pt x="0" y="2412"/>
                </a:lnTo>
                <a:lnTo>
                  <a:pt x="0" y="2701"/>
                </a:lnTo>
                <a:lnTo>
                  <a:pt x="0" y="2937"/>
                </a:lnTo>
                <a:lnTo>
                  <a:pt x="0" y="3126"/>
                </a:lnTo>
                <a:lnTo>
                  <a:pt x="0" y="3275"/>
                </a:lnTo>
                <a:lnTo>
                  <a:pt x="0" y="3385"/>
                </a:lnTo>
                <a:lnTo>
                  <a:pt x="0" y="3465"/>
                </a:lnTo>
                <a:lnTo>
                  <a:pt x="0" y="3518"/>
                </a:lnTo>
                <a:lnTo>
                  <a:pt x="0" y="3550"/>
                </a:lnTo>
                <a:lnTo>
                  <a:pt x="0" y="3567"/>
                </a:lnTo>
                <a:lnTo>
                  <a:pt x="0" y="3573"/>
                </a:lnTo>
                <a:lnTo>
                  <a:pt x="0" y="357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16200000">
            <a:off x="6588000" y="3800160"/>
            <a:ext cx="4862520" cy="1440"/>
          </a:xfrm>
          <a:custGeom>
            <a:avLst/>
            <a:gdLst/>
            <a:ahLst/>
            <a:rect l="l" t="t" r="r" b="b"/>
            <a:pathLst>
              <a:path w="3063" h="0">
                <a:moveTo>
                  <a:pt x="3063" y="0"/>
                </a:moveTo>
                <a:lnTo>
                  <a:pt x="2522" y="0"/>
                </a:lnTo>
                <a:lnTo>
                  <a:pt x="2052" y="0"/>
                </a:lnTo>
                <a:lnTo>
                  <a:pt x="1642" y="0"/>
                </a:lnTo>
                <a:lnTo>
                  <a:pt x="1292" y="0"/>
                </a:lnTo>
                <a:lnTo>
                  <a:pt x="995" y="0"/>
                </a:lnTo>
                <a:lnTo>
                  <a:pt x="748" y="0"/>
                </a:lnTo>
                <a:lnTo>
                  <a:pt x="545" y="0"/>
                </a:lnTo>
                <a:lnTo>
                  <a:pt x="383" y="0"/>
                </a:lnTo>
                <a:lnTo>
                  <a:pt x="256" y="0"/>
                </a:lnTo>
                <a:lnTo>
                  <a:pt x="161" y="0"/>
                </a:lnTo>
                <a:lnTo>
                  <a:pt x="93" y="0"/>
                </a:lnTo>
                <a:lnTo>
                  <a:pt x="48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rot="16200000">
            <a:off x="1892880" y="36295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69" y="144"/>
                </a:moveTo>
                <a:lnTo>
                  <a:pt x="68" y="129"/>
                </a:lnTo>
                <a:lnTo>
                  <a:pt x="67" y="115"/>
                </a:lnTo>
                <a:lnTo>
                  <a:pt x="66" y="101"/>
                </a:lnTo>
                <a:lnTo>
                  <a:pt x="63" y="88"/>
                </a:lnTo>
                <a:lnTo>
                  <a:pt x="60" y="75"/>
                </a:lnTo>
                <a:lnTo>
                  <a:pt x="56" y="63"/>
                </a:lnTo>
                <a:lnTo>
                  <a:pt x="53" y="52"/>
                </a:lnTo>
                <a:lnTo>
                  <a:pt x="49" y="43"/>
                </a:lnTo>
                <a:lnTo>
                  <a:pt x="43" y="33"/>
                </a:lnTo>
                <a:lnTo>
                  <a:pt x="38" y="24"/>
                </a:lnTo>
                <a:lnTo>
                  <a:pt x="32" y="18"/>
                </a:lnTo>
                <a:lnTo>
                  <a:pt x="26" y="11"/>
                </a:lnTo>
                <a:lnTo>
                  <a:pt x="19" y="7"/>
                </a:lnTo>
                <a:lnTo>
                  <a:pt x="13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1893600" y="3740040"/>
            <a:ext cx="108000" cy="228600"/>
          </a:xfrm>
          <a:custGeom>
            <a:avLst/>
            <a:gdLst/>
            <a:ahLst/>
            <a:rect l="l" t="t" r="r" b="b"/>
            <a:pathLst>
              <a:path w="68" h="144">
                <a:moveTo>
                  <a:pt x="68" y="0"/>
                </a:moveTo>
                <a:lnTo>
                  <a:pt x="60" y="0"/>
                </a:lnTo>
                <a:lnTo>
                  <a:pt x="54" y="3"/>
                </a:lnTo>
                <a:lnTo>
                  <a:pt x="47" y="7"/>
                </a:lnTo>
                <a:lnTo>
                  <a:pt x="41" y="11"/>
                </a:lnTo>
                <a:lnTo>
                  <a:pt x="36" y="18"/>
                </a:lnTo>
                <a:lnTo>
                  <a:pt x="30" y="24"/>
                </a:lnTo>
                <a:lnTo>
                  <a:pt x="25" y="33"/>
                </a:lnTo>
                <a:lnTo>
                  <a:pt x="19" y="43"/>
                </a:lnTo>
                <a:lnTo>
                  <a:pt x="15" y="52"/>
                </a:lnTo>
                <a:lnTo>
                  <a:pt x="11" y="63"/>
                </a:lnTo>
                <a:lnTo>
                  <a:pt x="8" y="75"/>
                </a:lnTo>
                <a:lnTo>
                  <a:pt x="5" y="88"/>
                </a:lnTo>
                <a:lnTo>
                  <a:pt x="2" y="101"/>
                </a:lnTo>
                <a:lnTo>
                  <a:pt x="1" y="115"/>
                </a:lnTo>
                <a:lnTo>
                  <a:pt x="0" y="129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062080" y="3905280"/>
            <a:ext cx="679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41760" y="3691080"/>
            <a:ext cx="1440" cy="21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062080" y="3959280"/>
            <a:ext cx="793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2855880" y="3634920"/>
            <a:ext cx="1800" cy="32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rot="16200000">
            <a:off x="1809000" y="354564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214"/>
                </a:moveTo>
                <a:lnTo>
                  <a:pt x="102" y="191"/>
                </a:lnTo>
                <a:lnTo>
                  <a:pt x="101" y="171"/>
                </a:lnTo>
                <a:lnTo>
                  <a:pt x="97" y="150"/>
                </a:lnTo>
                <a:lnTo>
                  <a:pt x="94" y="131"/>
                </a:lnTo>
                <a:lnTo>
                  <a:pt x="90" y="111"/>
                </a:lnTo>
                <a:lnTo>
                  <a:pt x="84" y="94"/>
                </a:lnTo>
                <a:lnTo>
                  <a:pt x="79" y="78"/>
                </a:lnTo>
                <a:lnTo>
                  <a:pt x="72" y="63"/>
                </a:lnTo>
                <a:lnTo>
                  <a:pt x="65" y="49"/>
                </a:lnTo>
                <a:lnTo>
                  <a:pt x="56" y="36"/>
                </a:lnTo>
                <a:lnTo>
                  <a:pt x="49" y="25"/>
                </a:lnTo>
                <a:lnTo>
                  <a:pt x="39" y="16"/>
                </a:lnTo>
                <a:lnTo>
                  <a:pt x="30" y="9"/>
                </a:lnTo>
                <a:lnTo>
                  <a:pt x="21" y="4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rot="16200000">
            <a:off x="1809000" y="370908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03" y="0"/>
                </a:moveTo>
                <a:lnTo>
                  <a:pt x="92" y="1"/>
                </a:lnTo>
                <a:lnTo>
                  <a:pt x="81" y="4"/>
                </a:lnTo>
                <a:lnTo>
                  <a:pt x="72" y="9"/>
                </a:lnTo>
                <a:lnTo>
                  <a:pt x="63" y="16"/>
                </a:lnTo>
                <a:lnTo>
                  <a:pt x="53" y="25"/>
                </a:lnTo>
                <a:lnTo>
                  <a:pt x="46" y="36"/>
                </a:lnTo>
                <a:lnTo>
                  <a:pt x="37" y="49"/>
                </a:lnTo>
                <a:lnTo>
                  <a:pt x="31" y="63"/>
                </a:lnTo>
                <a:lnTo>
                  <a:pt x="23" y="78"/>
                </a:lnTo>
                <a:lnTo>
                  <a:pt x="18" y="94"/>
                </a:lnTo>
                <a:lnTo>
                  <a:pt x="12" y="111"/>
                </a:lnTo>
                <a:lnTo>
                  <a:pt x="8" y="131"/>
                </a:lnTo>
                <a:lnTo>
                  <a:pt x="5" y="150"/>
                </a:lnTo>
                <a:lnTo>
                  <a:pt x="2" y="171"/>
                </a:lnTo>
                <a:lnTo>
                  <a:pt x="0" y="191"/>
                </a:lnTo>
                <a:lnTo>
                  <a:pt x="0" y="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176560" y="3687840"/>
            <a:ext cx="56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2060280" y="3631680"/>
            <a:ext cx="79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2060640" y="3687840"/>
            <a:ext cx="11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16200000">
            <a:off x="10080" y="1240200"/>
            <a:ext cx="241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 mal ausdruc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181320" y="6227280"/>
            <a:ext cx="162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 flipV="1">
            <a:off x="2857320" y="6227280"/>
            <a:ext cx="485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857680" y="590400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 flipV="1">
            <a:off x="2532240" y="5901840"/>
            <a:ext cx="325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532240" y="558144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 flipV="1">
            <a:off x="2208240" y="557856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208240" y="525780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1884240" y="525420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1884240" y="493380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 flipV="1">
            <a:off x="1558800" y="493092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558800" y="460980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1234800" y="4606920"/>
            <a:ext cx="32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1236600" y="428436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911160" y="428256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912960" y="396072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585720" y="395928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720" y="3635280"/>
            <a:ext cx="180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85720" y="363384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911160" y="33127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857320" y="1366920"/>
            <a:ext cx="48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857680" y="1368360"/>
            <a:ext cx="144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 flipV="1">
            <a:off x="2532240" y="169236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2240" y="1695600"/>
            <a:ext cx="144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 flipV="1">
            <a:off x="2208240" y="2015640"/>
            <a:ext cx="32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208240" y="2019240"/>
            <a:ext cx="144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1884240" y="234000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83520" y="234324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1558800" y="266400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58080" y="2666880"/>
            <a:ext cx="18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 flipV="1">
            <a:off x="1234800" y="2987280"/>
            <a:ext cx="32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35880" y="2989440"/>
            <a:ext cx="180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 flipV="1">
            <a:off x="911160" y="3311640"/>
            <a:ext cx="32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98520" y="2025720"/>
            <a:ext cx="7937280" cy="333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27040" y="5513400"/>
            <a:ext cx="7713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18320" y="5956200"/>
            <a:ext cx="451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us 4, 2 mal ausdrucken (Dac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0200" y="5351400"/>
            <a:ext cx="9684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8206920" y="5351400"/>
            <a:ext cx="12852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268200" y="2016000"/>
            <a:ext cx="13032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68200" y="2081160"/>
            <a:ext cx="1800" cy="314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68200" y="5189400"/>
            <a:ext cx="13032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8335800" y="5221080"/>
            <a:ext cx="98640" cy="12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8434440" y="2987280"/>
            <a:ext cx="1440" cy="223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8434440" y="2114280"/>
            <a:ext cx="1440" cy="87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8335800" y="2049120"/>
            <a:ext cx="986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50:54Z</dcterms:created>
  <dc:creator>Stefan Hahn</dc:creator>
  <dc:description/>
  <dc:language>en-US</dc:language>
  <cp:lastModifiedBy>Stefan Hahn</cp:lastModifiedBy>
  <cp:lastPrinted>2002-02-21T21:11:01Z</cp:lastPrinted>
  <dcterms:modified xsi:type="dcterms:W3CDTF">2002-02-21T21:20:43Z</dcterms:modified>
  <cp:revision>10</cp:revision>
  <dc:subject/>
  <dc:title>Kein Folientitel</dc:title>
</cp:coreProperties>
</file>